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585F-1956-4EE3-A08B-DF412569D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F737-41A5-45C7-8987-23C1DF1DA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89BB-F07D-4D10-83D6-56D4BC97A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49784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789876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9692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49784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789876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286E-E40D-462F-8AE4-2C66B1316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D3AF0-AD8D-47F7-8704-3334FDDE2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1CF61-FAAF-4929-B812-1CFCB14C5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AC495-354C-46BD-8D0F-AD94A2FFB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54C06-F424-4FCF-8B44-9C9BE7C72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92D2F-EB16-4CE7-A0D9-26D786C2F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96920" y="287280"/>
            <a:ext cx="100584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D3FB6-5FC3-4E9A-99E8-1C4B88FBF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01A04-2727-41A6-8277-0F951B397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A0E3-A639-4743-B8FE-8F737F61A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D7ADC-6E2A-4167-AB4F-8A703812B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EC19B-382A-4F63-AD44-7262451DC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CC06A-51D6-4050-9881-B26B2D576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C04CA-BCE7-4CC9-90B7-118063D0B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49784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789876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9692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449784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789876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B7154-2A38-4F63-96C9-052FC8316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BD39D5-9500-443E-AE4C-DFC21120C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AD1968-CDA0-4C03-A9B4-71A0B1AFD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86E983-BFD5-4A9A-A443-C04806EB7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CA1256-6FD8-4AF3-9A60-80D225C57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1D24B0-2CAA-4DC7-81E4-0BAC0D815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1A83-725D-48D3-AC51-5992804D3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096920" y="287280"/>
            <a:ext cx="100584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099648-E18E-49E4-B709-288A29B48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7373D7-8624-4378-8179-E335618CB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056633-089E-4700-8214-CA8332875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2C58F9-573D-4B98-9FCA-22E160EF7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8E9B5E-F3B8-4A27-B555-64DFF9B4C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357B10-A3BE-4665-B41C-18448A8F8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49784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789876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09692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449784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789876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402835-1E63-444C-9C59-F4AD37509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0DB6C9-8907-4943-A402-1E1C652C0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9CE25A-6DAA-4E57-831F-FB0F769E7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F70C80-F973-4A47-968A-B1B4F53BB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3F51-F529-41DF-8CF7-D1B926ED2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81A922-973F-4646-978D-8B6FBE49B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26B769-4677-483E-8572-E1BE017A0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1096920" y="287280"/>
            <a:ext cx="100584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72EA0C-855B-4539-89F8-FFD671B90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59749F-A50A-4251-975F-EEFD43077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08F75B-294E-4357-9C42-A6E444C02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81BB21-6F2E-4DF1-8790-F0DEE045F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C51BE6-1389-4243-9775-0A6A675E2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A89492-8DE2-47B2-ABDA-D6886D2CE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49784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789876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109692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449784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789876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748282-FCFA-4958-AEF9-DEC4BB071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2C3B00-B424-4A86-8D33-38C5FAC33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B55E-EE0B-4A93-902E-446CAB75C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E0C868-95A5-4732-990F-0E3B8F99C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841BFF-98F7-4B5F-8573-C9947089D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CD080C-40ED-4C57-BCDA-14959E4A7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3762B7-2097-4B04-BB45-20F50A6B3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1096920" y="287280"/>
            <a:ext cx="100584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4A54CF-6EB9-4415-951A-5CEBF620B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EF56F5-0D57-4272-9BF8-3F3C4B4B5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C6D58F-D9A7-4890-B3DC-A74F762ED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DF7A2B-3539-4FAD-8BE7-1AA157124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9C1CB9-1BE3-49D8-B2B8-11BAA2C62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7B6EEE-93E5-49EB-A834-D80AF8F12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96920" y="287280"/>
            <a:ext cx="100584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FC89-14BF-487A-B0A6-B37225092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49784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789876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109692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449784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789876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DFC8C7-4705-4B8A-A051-A01F25BE3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05D125-4C41-401D-931E-A6987614D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3F4779-6CA0-409C-B02D-707A68716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16C04C-27AD-4812-BD23-22442066A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AA9643-3D26-4B1A-9728-AB3E4E993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D43E6F-4AEF-469A-9F61-302B410EC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1096920" y="287280"/>
            <a:ext cx="100584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074355-6614-48B6-8228-20F3D4EEB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665D5D-F20E-4E58-9649-2E15C2B74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2470C5-DA70-4EE8-86F9-D48E90101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443C9D-0F81-43C2-A640-760E9E141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9E68-BA48-42B2-A810-9E49888D4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F93F51-87A5-4612-893E-13137BEFE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7A7480-6CB6-4C59-8CE5-8F3BA9DB4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49784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789876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109692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449784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789876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AFE516-9404-4B70-83D4-FD1501E00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99C2CD-C225-404E-B6F4-252E4037B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18F8A9-E04B-4B83-BEEE-D3C374008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8F2CA6-0641-45E8-B0C8-2B17AEC6D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5D0B6B-0A17-49F5-97EE-72BBD832C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2C6689-44AA-46C1-8781-C3B69A40B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1096920" y="287280"/>
            <a:ext cx="100584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945B28-3544-4A90-A64D-20E6F2D2C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2E7E4B-FCFB-433B-BCA4-8973595A7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49F8-29A7-40FB-ACDD-B0501D88F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44C81A-4F73-4B12-903F-3A99F7792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F4E24D-E67C-4CED-9C8A-5B4533EFD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D61C5D-ACA9-4111-8AE3-F3709CDF0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1D89FB-4E8B-45C0-93E0-AA993BD55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49784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789876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109692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449784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789876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84BECD-C375-4834-83BE-E22B01AED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8774-66AB-4423-8C43-1856FAFC7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6400800"/>
            <a:ext cx="1219212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6334200"/>
            <a:ext cx="12192120" cy="666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096920" y="6459480"/>
            <a:ext cx="247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685680" y="6459480"/>
            <a:ext cx="482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9900720" y="6459480"/>
            <a:ext cx="1311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B32D45-890F-4DEF-9740-CAF96644275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Straight Connector 9"/>
          <p:cNvSpPr/>
          <p:nvPr/>
        </p:nvSpPr>
        <p:spPr>
          <a:xfrm>
            <a:off x="1193760" y="1738440"/>
            <a:ext cx="996624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"/>
          <p:cNvSpPr/>
          <p:nvPr/>
        </p:nvSpPr>
        <p:spPr>
          <a:xfrm>
            <a:off x="3240" y="6400800"/>
            <a:ext cx="1218888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0" y="6334200"/>
            <a:ext cx="1218888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traight Connector 12"/>
          <p:cNvSpPr/>
          <p:nvPr/>
        </p:nvSpPr>
        <p:spPr>
          <a:xfrm>
            <a:off x="1208160" y="4343400"/>
            <a:ext cx="987588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1096920" y="6459480"/>
            <a:ext cx="247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685680" y="6459480"/>
            <a:ext cx="482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9900720" y="6459480"/>
            <a:ext cx="1311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F3EB67-3710-49F4-9187-E3497459046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0"/>
          <p:cNvSpPr/>
          <p:nvPr/>
        </p:nvSpPr>
        <p:spPr>
          <a:xfrm>
            <a:off x="3240" y="6400800"/>
            <a:ext cx="1218888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11"/>
          <p:cNvSpPr/>
          <p:nvPr/>
        </p:nvSpPr>
        <p:spPr>
          <a:xfrm>
            <a:off x="0" y="6334200"/>
            <a:ext cx="1218888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traight Connector 12"/>
          <p:cNvSpPr/>
          <p:nvPr/>
        </p:nvSpPr>
        <p:spPr>
          <a:xfrm>
            <a:off x="1208160" y="4343400"/>
            <a:ext cx="987588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1096920" y="6459480"/>
            <a:ext cx="247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685680" y="6459480"/>
            <a:ext cx="482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9900720" y="6459480"/>
            <a:ext cx="1311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5B145F-FDFC-42E4-8AD4-94EE17B74D6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10"/>
          <p:cNvSpPr/>
          <p:nvPr/>
        </p:nvSpPr>
        <p:spPr>
          <a:xfrm>
            <a:off x="3240" y="6400800"/>
            <a:ext cx="1218888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11"/>
          <p:cNvSpPr/>
          <p:nvPr/>
        </p:nvSpPr>
        <p:spPr>
          <a:xfrm>
            <a:off x="0" y="6334200"/>
            <a:ext cx="1218888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1096920" y="6459480"/>
            <a:ext cx="247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3685680" y="6459480"/>
            <a:ext cx="482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9900720" y="6459480"/>
            <a:ext cx="1311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690016-316C-4293-B808-A2FBA577C6B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10"/>
          <p:cNvSpPr/>
          <p:nvPr/>
        </p:nvSpPr>
        <p:spPr>
          <a:xfrm>
            <a:off x="0" y="0"/>
            <a:ext cx="4051440" cy="68580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Rectangle 11"/>
          <p:cNvSpPr/>
          <p:nvPr/>
        </p:nvSpPr>
        <p:spPr>
          <a:xfrm>
            <a:off x="4040280" y="0"/>
            <a:ext cx="63360" cy="68580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465120" y="6459480"/>
            <a:ext cx="2619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4800600" y="6459480"/>
            <a:ext cx="4648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5"/>
          </p:nvPr>
        </p:nvSpPr>
        <p:spPr>
          <a:xfrm>
            <a:off x="9900720" y="6459480"/>
            <a:ext cx="1311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63705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95FCB7-3153-45C6-88E3-D7F478871A8C}" type="slidenum">
              <a:rPr b="0" lang="en-US" sz="1000" spc="-1" strike="noStrike">
                <a:solidFill>
                  <a:srgbClr val="637052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10"/>
          <p:cNvSpPr/>
          <p:nvPr/>
        </p:nvSpPr>
        <p:spPr>
          <a:xfrm>
            <a:off x="0" y="4952880"/>
            <a:ext cx="12188880" cy="190512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Rectangle 11"/>
          <p:cNvSpPr/>
          <p:nvPr/>
        </p:nvSpPr>
        <p:spPr>
          <a:xfrm>
            <a:off x="0" y="4915080"/>
            <a:ext cx="1218888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1096920" y="6459480"/>
            <a:ext cx="247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3685680" y="6459480"/>
            <a:ext cx="482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9900720" y="6459480"/>
            <a:ext cx="1311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F58D18-522F-40C8-B31B-2CAEBA906A9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10"/>
          <p:cNvSpPr/>
          <p:nvPr/>
        </p:nvSpPr>
        <p:spPr>
          <a:xfrm>
            <a:off x="3240" y="6400800"/>
            <a:ext cx="1218888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Rectangle 11"/>
          <p:cNvSpPr/>
          <p:nvPr/>
        </p:nvSpPr>
        <p:spPr>
          <a:xfrm>
            <a:off x="0" y="6334200"/>
            <a:ext cx="1218888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1096920" y="6459480"/>
            <a:ext cx="247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3685680" y="6459480"/>
            <a:ext cx="482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9900720" y="6459480"/>
            <a:ext cx="1311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E791F0-FB40-42E0-9565-723DF668CA8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s://www.fsis.usda.gov/wps/wcm/connect/9a42271f-a6d2-4842-9c2d-8b2aa6a9e737/9500.8.pdf?MOD=AJPERES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s://www.fsis.usda.gov/wps/wcm/connect/b209c890-320a-42ba-bb06-a4c0d7a7066b/FSIS_9540-5_Notification_of_Intent.pdf?MOD=AJPERES" TargetMode="External"/><Relationship Id="rId2" Type="http://schemas.openxmlformats.org/officeDocument/2006/relationships/hyperlink" Target="https://www.fsis.usda.gov/wps/wcm/connect/b209c890-320a-42ba-bb06-a4c0d7a7066b/FSIS_9540-5_Notification_of_Intent.pdf?MOD=AJPERES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096920" y="758880"/>
            <a:ext cx="10058400" cy="3565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262626"/>
                </a:solidFill>
                <a:latin typeface="Calibri Light"/>
              </a:rPr>
              <a:t>Muestras de evaluación y exportaciones de productos no comestibles</a:t>
            </a:r>
            <a:endParaRPr b="0" lang="en-US" sz="6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1100160" y="4455720"/>
            <a:ext cx="10058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37052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404040"/>
                </a:solidFill>
                <a:latin typeface="Calibri Light"/>
              </a:rPr>
              <a:t>Muestras de evaluación/Consumo Personal </a:t>
            </a:r>
            <a:r>
              <a:rPr b="0" lang="en-US" sz="4300" spc="-1" strike="noStrike">
                <a:solidFill>
                  <a:srgbClr val="404040"/>
                </a:solidFill>
                <a:latin typeface="Calibri Light"/>
              </a:rPr>
              <a:t>- </a:t>
            </a:r>
            <a:r>
              <a:rPr b="0" lang="en-US" sz="1600" spc="-1" strike="noStrike" u="sng">
                <a:solidFill>
                  <a:srgbClr val="2998e3"/>
                </a:solidFill>
                <a:uFillTx/>
                <a:latin typeface="Calibri Light"/>
                <a:hlinkClick r:id="rId1"/>
              </a:rPr>
              <a:t>https://www.fsis.usda.gov/wps/wcm/connect/9a42271f-a6d2-4842-9c2d-8b2aa6a9e737/9500.8.pdf?MOD=AJPERES</a:t>
            </a:r>
            <a:r>
              <a:rPr b="0" lang="en-US" sz="1600" spc="-1" strike="noStrike">
                <a:solidFill>
                  <a:srgbClr val="404040"/>
                </a:solidFill>
                <a:latin typeface="Calibri Light"/>
              </a:rPr>
              <a:t> </a:t>
            </a:r>
            <a:endParaRPr b="0" lang="en-US" sz="16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1096560" y="1846080"/>
            <a:ext cx="4938840" cy="435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404040"/>
                </a:solidFill>
                <a:latin typeface="Calibri"/>
              </a:rPr>
              <a:t>REQUISITOS PARA ENVÍOS DE CONSUMO PERSONAL - 9 CFR 327.16, 381.207 y 590.960.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404040"/>
                </a:solidFill>
                <a:latin typeface="Calibri"/>
              </a:rPr>
              <a:t>A</a:t>
            </a:r>
            <a:r>
              <a:rPr b="0" lang="es-ES" sz="1400" spc="-1" strike="noStrike">
                <a:solidFill>
                  <a:srgbClr val="404040"/>
                </a:solidFill>
                <a:latin typeface="Calibri"/>
              </a:rPr>
              <a:t>. Si un envío se identifica para consumo personal, debe cumplir con los siguientes requisitos: 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040"/>
                </a:solidFill>
                <a:latin typeface="Calibri"/>
              </a:rPr>
              <a:t>1.Los envíos no pueden exceder un peso total de 50 libras. (22.7 kg) para carne vacuna (incluyendo Siluriformes) o aves de corral, 30 lbs. (13.6 kg) para huevos líquidos, y 50 lbs. (22.7 kg) para huevos deshidratados; 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040"/>
                </a:solidFill>
                <a:latin typeface="Calibri"/>
              </a:rPr>
              <a:t>2. Los envíos están limitados a uso personal solamente; y 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040"/>
                </a:solidFill>
                <a:latin typeface="Calibri"/>
              </a:rPr>
              <a:t>3. Ningún artículo en el envío puede ser vendido o distribuido para su comercialización.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es-ES" sz="2000" spc="-1" strike="noStrike">
                <a:solidFill>
                  <a:srgbClr val="404040"/>
                </a:solidFill>
                <a:latin typeface="Calibri"/>
              </a:rPr>
              <a:t>¡Siempre consulte primero con el APHIS!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6218280" y="1846440"/>
            <a:ext cx="4937040" cy="402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040"/>
                </a:solidFill>
                <a:latin typeface="Calibri"/>
              </a:rPr>
              <a:t>Los envíos de carne vacuna (incluyendo a los Siluriformes) no deben exceder las 50 lbs (22.7 kg) para cada tipo de producto. 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040"/>
                </a:solidFill>
                <a:latin typeface="Calibri"/>
              </a:rPr>
              <a:t>2. Los envíos de aves de corral no deben exceder las 50 lbs (22.7 kg) para cada tipo de producto; y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040"/>
                </a:solidFill>
                <a:latin typeface="Calibri"/>
              </a:rPr>
              <a:t>3. Los envíos de productos de huevo no deben exceder las 30 libras (13.6 Kg para huevo líquido o congelado y 50 lbs (22,7) para productos de huevo deshidratado.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404040"/>
                </a:solidFill>
                <a:latin typeface="Calibri Light"/>
              </a:rPr>
              <a:t>Muestras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pic>
        <p:nvPicPr>
          <p:cNvPr id="310" name="Content Placeholder 6" descr=""/>
          <p:cNvPicPr/>
          <p:nvPr/>
        </p:nvPicPr>
        <p:blipFill>
          <a:blip r:embed="rId1"/>
          <a:stretch/>
        </p:blipFill>
        <p:spPr>
          <a:xfrm>
            <a:off x="1662120" y="2428920"/>
            <a:ext cx="3809880" cy="285732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 txBox="1"/>
          <p:nvPr/>
        </p:nvSpPr>
        <p:spPr>
          <a:xfrm>
            <a:off x="6218280" y="1846440"/>
            <a:ext cx="4937040" cy="402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0000"/>
                </a:solidFill>
                <a:latin typeface="Calibri"/>
              </a:rPr>
              <a:t>Muestras de Etiquetas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040"/>
                </a:solidFill>
                <a:latin typeface="Calibri"/>
              </a:rPr>
              <a:t>1. Nombre del Producto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es-ES" sz="1400" spc="-1" strike="noStrike">
                <a:solidFill>
                  <a:srgbClr val="404040"/>
                </a:solidFill>
                <a:latin typeface="Calibri"/>
              </a:rPr>
              <a:t>2. País de Origen; 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es-ES" sz="1400" spc="-1" strike="noStrike">
                <a:solidFill>
                  <a:srgbClr val="404040"/>
                </a:solidFill>
                <a:latin typeface="Calibri"/>
              </a:rPr>
              <a:t>3. Número de establecimiento asignado por el Sistema de inspección de carne vacuna o aves de corral del país de origen (si corresponde). Para los productos de huevos, el numero de planta en la que se procesó y empacó el producto. 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040"/>
                </a:solidFill>
                <a:latin typeface="Calibri"/>
              </a:rPr>
              <a:t>4. Nombre y dirección de las instalaciones  de producción. 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es-ES" sz="1400" spc="-1" strike="noStrike">
                <a:solidFill>
                  <a:srgbClr val="404040"/>
                </a:solidFill>
                <a:latin typeface="Calibri"/>
              </a:rPr>
              <a:t>5. La Leyenda “ Muestras destinadas para análisis, investigación, pruebas de evaluación o exhibiciones comerciales”. 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404040"/>
                </a:solidFill>
                <a:latin typeface="Calibri Light"/>
              </a:rPr>
              <a:t>Formulario 9540-5</a:t>
            </a:r>
            <a:br>
              <a:rPr sz="4800"/>
            </a:br>
            <a:r>
              <a:rPr b="0" lang="en-US" sz="1600" spc="-1" strike="noStrike" u="sng">
                <a:solidFill>
                  <a:srgbClr val="2998e3"/>
                </a:solidFill>
                <a:uFillTx/>
                <a:latin typeface="Calibri Light"/>
                <a:hlinkClick r:id="rId1"/>
              </a:rPr>
              <a:t>https</a:t>
            </a:r>
            <a:r>
              <a:rPr b="0" lang="en-US" sz="1600" spc="-1" strike="noStrike" u="sng">
                <a:solidFill>
                  <a:srgbClr val="2998e3"/>
                </a:solidFill>
                <a:uFillTx/>
                <a:latin typeface="Calibri Light"/>
                <a:hlinkClick r:id="rId2"/>
              </a:rPr>
              <a:t>://www.fsis.usda.gov/wps/wcm/connect/b209c890-320a-42ba-bb06-a4c0d7a7066b/FSIS_9540-5_Notification_of_Intent.pdf?MOD=AJPERES</a:t>
            </a:r>
            <a:r>
              <a:rPr b="0" lang="en-US" sz="1600" spc="-1" strike="noStrike">
                <a:solidFill>
                  <a:srgbClr val="404040"/>
                </a:solidFill>
                <a:latin typeface="Calibri Light"/>
              </a:rPr>
              <a:t> </a:t>
            </a:r>
            <a:endParaRPr b="0" lang="en-US" sz="16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979560" y="1846440"/>
            <a:ext cx="5330880" cy="41558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9000"/>
          </a:bodyPr>
          <a:p>
            <a:pPr marL="89280" indent="-892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404040"/>
                </a:solidFill>
                <a:latin typeface="Calibri"/>
              </a:rPr>
              <a:t>El importador de registro o solicitante debe notificar a  Operaciones de Importación (IO) del FSIS vía correo electrónico a importinspection@fsis.usda.gov antes de importar carne, aves de corral o productos de huevos para análisis de laboratorio, investigación, pruebas de evaluación o exposiciones comerciales a través de una copia del formulario 9540-5, Notificación de Intención de importar carne vacuna, aves de corral o productos de huevo “Muestras para pruebas de laboratorio, investigación, pruebas de evaluaciones o exhibiciones comerciales”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marL="89280" indent="-892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404040"/>
                </a:solidFill>
                <a:latin typeface="Calibri"/>
              </a:rPr>
              <a:t>NOTA: No se requiere un certificado de inspección extranjero para los envíos de muestras. 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marL="89280" indent="-892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404040"/>
                </a:solidFill>
                <a:latin typeface="Calibri"/>
              </a:rPr>
              <a:t>Además del Formulario 9540-5 del FSIS, el solicitante debe presentar al FSIS, RMTAD, IO a importinspection@fsis.usda.gov una solicitud por escrito para la aprobación previa de cualquier envío que exceda las restricciones de peso enumeradas anteriormente.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314" name="Content Placeholder 4" descr=""/>
          <p:cNvPicPr/>
          <p:nvPr/>
        </p:nvPicPr>
        <p:blipFill>
          <a:blip r:embed="rId3"/>
          <a:stretch/>
        </p:blipFill>
        <p:spPr>
          <a:xfrm>
            <a:off x="6940440" y="1846440"/>
            <a:ext cx="3492720" cy="40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 Light"/>
              </a:rPr>
              <a:t>SOLICITUD DE PERMISO NUMERADO PARA PRODUCTOS NO COMESTIBLES DESNATURALIZADOS</a:t>
            </a:r>
            <a:br>
              <a:rPr sz="2400"/>
            </a:br>
            <a:r>
              <a:rPr b="0" lang="en-US" sz="1600" spc="-1" strike="noStrike">
                <a:solidFill>
                  <a:srgbClr val="404040"/>
                </a:solidFill>
                <a:latin typeface="Calibri Light"/>
              </a:rPr>
              <a:t>https://www.fsis.usda.gov/wps/wcm/connect/85150ab8-1f82-4de3-9e88-1754bfc2b518/9510.1.pdf?MOD=AJPERES</a:t>
            </a:r>
            <a:br>
              <a:rPr sz="1600"/>
            </a:br>
            <a:endParaRPr b="0" lang="en-US" sz="16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1096560" y="1846440"/>
            <a:ext cx="49388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100000"/>
              </a:lnSpc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404040"/>
                </a:solidFill>
                <a:latin typeface="Calibri"/>
              </a:rPr>
              <a:t>La solicitud requiere que el importador aporte la siguiente información: 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100000"/>
              </a:lnSpc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404040"/>
                </a:solidFill>
                <a:latin typeface="Calibri"/>
              </a:rPr>
              <a:t>1. Nombre del solicitante;  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100000"/>
              </a:lnSpc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40404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100000"/>
              </a:lnSpc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404040"/>
                </a:solidFill>
                <a:latin typeface="Calibri"/>
              </a:rPr>
              <a:t>2. Dirección del solicitante;   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100000"/>
              </a:lnSpc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40404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100000"/>
              </a:lnSpc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404040"/>
                </a:solidFill>
                <a:latin typeface="Calibri"/>
              </a:rPr>
              <a:t>3. Número de teléfono del solicitante;  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100000"/>
              </a:lnSpc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40404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100000"/>
              </a:lnSpc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404040"/>
                </a:solidFill>
                <a:latin typeface="Calibri"/>
              </a:rPr>
              <a:t>4. Número de Fax del solicitante;   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100000"/>
              </a:lnSpc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40404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100000"/>
              </a:lnSpc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404040"/>
                </a:solidFill>
                <a:latin typeface="Calibri"/>
              </a:rPr>
              <a:t>5. Dirección de correo electrónico del solicitante;  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100000"/>
              </a:lnSpc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40404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100000"/>
              </a:lnSpc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404040"/>
                </a:solidFill>
                <a:latin typeface="Calibri"/>
              </a:rPr>
              <a:t>6. Descripción del tipo de operaciones que realiza la empresa;  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100000"/>
              </a:lnSpc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40404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100000"/>
              </a:lnSpc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404040"/>
                </a:solidFill>
                <a:latin typeface="Calibri"/>
              </a:rPr>
              <a:t>7. Motivo de la solicitud. 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6217920" y="1846080"/>
            <a:ext cx="5451480" cy="434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0" rIns="0" anchor="t">
            <a:normAutofit fontScale="98000"/>
          </a:bodyPr>
          <a:p>
            <a:pPr marL="88200" indent="-882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tiquetado y sellado apropiadamente según se detalla a continuación:   </a:t>
            </a: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88200" indent="-882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l envase exterior (o envoltorio) de productos cárnicos no desnaturalizados no comestibles está etiquetado con las palabras “</a:t>
            </a:r>
            <a:r>
              <a:rPr b="1" lang="es-ES" sz="1200" spc="-1" strike="noStrike" u="sng">
                <a:solidFill>
                  <a:srgbClr val="404040"/>
                </a:solidFill>
                <a:uFillTx/>
                <a:latin typeface="Calibri"/>
              </a:rPr>
              <a:t>No comestible - No destinado a la alimentación humana” en letras de no menos de dos pulgadas de alto</a:t>
            </a: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 en el caso de envases como cartones, tambores, barriles y medios barriles y no menos de cuatro pulgadas de alto en el caso de los camiones cisterna y camiones utilizados para transportar dicho producto que no se encuentren en otros contenedores, según 9 CFR 325.11 (e) (3); </a:t>
            </a: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88200" indent="-88200">
              <a:lnSpc>
                <a:spcPct val="100000"/>
              </a:lnSpc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l transporte (por ejemplo, vagones de ferrocarril, camiones o contenedores) lleva un </a:t>
            </a:r>
            <a:r>
              <a:rPr b="1" lang="es-ES" sz="1200" spc="-1" strike="noStrike" u="sng">
                <a:solidFill>
                  <a:srgbClr val="404040"/>
                </a:solidFill>
                <a:uFillTx/>
                <a:latin typeface="Calibri"/>
              </a:rPr>
              <a:t>sello no oficial aplicado por el transportista que identifica el número de permiso único no comestible</a:t>
            </a: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, así como un número de serie del sello individual asignado por el remitente, y el producto va acompañado de una factura o conocimiento de embarque especificando el número de permiso del titular del permiso según 9 CFR 325.11 (e) (4); y </a:t>
            </a: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88200" indent="-88200">
              <a:lnSpc>
                <a:spcPct val="100000"/>
              </a:lnSpc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No transportado en el comercio a ningún otro destinatario o ubicación de almacenamiento que no sea el que figura en el formulario FSIS 9540-4 recibido por el FSIS.</a:t>
            </a: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88200" indent="-882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404040"/>
                </a:solidFill>
                <a:latin typeface="Calibri"/>
              </a:rPr>
              <a:t>El desvío a cualquier otro destinatario o ubicación de almacenamiento requiere que se envíe un formulario FSIS 9540-4 actualizado a RMTAS antes de que el producto se mueva en el comercio.</a:t>
            </a:r>
            <a:endParaRPr b="0" lang="en-US" sz="1200" spc="-1" strike="noStrike">
              <a:solidFill>
                <a:srgbClr val="404040"/>
              </a:solidFill>
              <a:latin typeface="Calibri"/>
            </a:endParaRPr>
          </a:p>
          <a:p>
            <a:pPr marL="88200" indent="-88200">
              <a:lnSpc>
                <a:spcPct val="100000"/>
              </a:lnSpc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ff0000"/>
                </a:solidFill>
                <a:uFillTx/>
                <a:latin typeface="Calibri"/>
              </a:rPr>
              <a:t>El material desnaturalizado puede ser enviado a los EE. UU. utilizando este procedimiento. 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9900.7</a:t>
            </a:r>
            <a:br>
              <a:rPr sz="4800"/>
            </a:br>
            <a:r>
              <a:rPr b="0" lang="en-US" sz="1600" spc="-1" strike="noStrike">
                <a:solidFill>
                  <a:srgbClr val="404040"/>
                </a:solidFill>
                <a:latin typeface="Calibri Light"/>
              </a:rPr>
              <a:t>https://www.fsis.usda.gov/wps/wcm/connect/1e52ea0c-6372-4c32-8c9d-aae10aaa9d50/9900.7.pdf?MOD=AJPERES </a:t>
            </a:r>
            <a:endParaRPr b="0" lang="en-US" sz="16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1096560" y="1846440"/>
            <a:ext cx="49388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040"/>
                </a:solidFill>
                <a:latin typeface="Calibri"/>
              </a:rPr>
              <a:t>Los envíos de muestras para investigación o evaluación deben ser presentados con un Permiso de Importación Emitido por el Servicio Veterinario (VS) del APHIS. Los envíos de muestras para investigación o evaluación que presenten el permiso de importación emitido por el Servicio Veterinario de APHIS requieren solamente la inspección CBP.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040"/>
                </a:solidFill>
                <a:latin typeface="Calibri"/>
              </a:rPr>
              <a:t>Las muestras para investigación o evaluación que no cuenten con el Permiso de Importación del Servicio Veterinario deben ser tratadas como un envío comercial y serán reinspeccionadas por el FSIS.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320" name="Content Placeholder 4" descr=""/>
          <p:cNvPicPr/>
          <p:nvPr/>
        </p:nvPicPr>
        <p:blipFill>
          <a:blip r:embed="rId1"/>
          <a:stretch/>
        </p:blipFill>
        <p:spPr>
          <a:xfrm>
            <a:off x="6218280" y="1846440"/>
            <a:ext cx="4937040" cy="227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404040"/>
                </a:solidFill>
                <a:latin typeface="Calibri Light"/>
              </a:rPr>
              <a:t>Productos desnaturalizados vs no desnaturalizados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pic>
        <p:nvPicPr>
          <p:cNvPr id="322" name="Content Placeholder 4" descr=""/>
          <p:cNvPicPr/>
          <p:nvPr/>
        </p:nvPicPr>
        <p:blipFill>
          <a:blip r:embed="rId1"/>
          <a:stretch/>
        </p:blipFill>
        <p:spPr>
          <a:xfrm>
            <a:off x="1347840" y="1846440"/>
            <a:ext cx="4491000" cy="4022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23" name=""/>
          <p:cNvSpPr txBox="1"/>
          <p:nvPr/>
        </p:nvSpPr>
        <p:spPr>
          <a:xfrm>
            <a:off x="6218280" y="1846440"/>
            <a:ext cx="4937040" cy="402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Según FSIS, </a:t>
            </a:r>
            <a:r>
              <a:rPr b="0" lang="es-ES" sz="2000" spc="-1" strike="noStrike">
                <a:solidFill>
                  <a:srgbClr val="404040"/>
                </a:solidFill>
                <a:latin typeface="Calibri"/>
              </a:rPr>
              <a:t>los productos cárnicos </a:t>
            </a: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desnaturalizados </a:t>
            </a:r>
            <a:r>
              <a:rPr b="0" lang="es-ES" sz="2000" spc="-1" strike="noStrike">
                <a:solidFill>
                  <a:srgbClr val="404040"/>
                </a:solidFill>
                <a:latin typeface="Calibri"/>
              </a:rPr>
              <a:t>se encuentran regulados por la FDA. Sin embargo, para ser considerados </a:t>
            </a: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desnaturalizados</a:t>
            </a:r>
            <a:r>
              <a:rPr b="0" lang="es-ES" sz="2000" spc="-1" strike="noStrike">
                <a:solidFill>
                  <a:srgbClr val="404040"/>
                </a:solidFill>
                <a:latin typeface="Calibri"/>
              </a:rPr>
              <a:t>, el proceso debe realizarse conforme está establecido en  9 CFR 314.3(a), 325.11(a), 325.13(a)(1) entre 325.13(a)(7) y 381.95.  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404040"/>
                </a:solidFill>
                <a:latin typeface="Calibri Light"/>
              </a:rPr>
              <a:t>Permiso del Servicio Veterinario del APHIS (VS16-3)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pic>
        <p:nvPicPr>
          <p:cNvPr id="325" name="Content Placeholder 4" descr=""/>
          <p:cNvPicPr/>
          <p:nvPr/>
        </p:nvPicPr>
        <p:blipFill>
          <a:blip r:embed="rId1"/>
          <a:stretch/>
        </p:blipFill>
        <p:spPr>
          <a:xfrm>
            <a:off x="1096920" y="1846440"/>
            <a:ext cx="4938840" cy="388296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 txBox="1"/>
          <p:nvPr/>
        </p:nvSpPr>
        <p:spPr>
          <a:xfrm>
            <a:off x="6218280" y="1846440"/>
            <a:ext cx="49370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040"/>
                </a:solidFill>
                <a:latin typeface="Calibri"/>
              </a:rPr>
              <a:t>Siempre es recomendable verificar los requisitos para los permisos con el APHIS.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040"/>
                </a:solidFill>
                <a:latin typeface="Calibri"/>
              </a:rPr>
              <a:t>Para el ingreso en los EE. UU. habitualmente se requieren los permisos emitidos por APHIS.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404040"/>
                </a:solidFill>
                <a:latin typeface="Calibri Light"/>
              </a:rPr>
              <a:t>Aves de corral desnaturalizadas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pic>
        <p:nvPicPr>
          <p:cNvPr id="328" name="Content Placeholder 4" descr=""/>
          <p:cNvPicPr/>
          <p:nvPr/>
        </p:nvPicPr>
        <p:blipFill>
          <a:blip r:embed="rId1"/>
          <a:stretch/>
        </p:blipFill>
        <p:spPr>
          <a:xfrm>
            <a:off x="2060640" y="1846440"/>
            <a:ext cx="3011400" cy="4022640"/>
          </a:xfrm>
          <a:prstGeom prst="rect">
            <a:avLst/>
          </a:prstGeom>
          <a:ln w="0">
            <a:noFill/>
          </a:ln>
        </p:spPr>
      </p:pic>
      <p:pic>
        <p:nvPicPr>
          <p:cNvPr id="329" name="Content Placeholder 5" descr=""/>
          <p:cNvPicPr/>
          <p:nvPr/>
        </p:nvPicPr>
        <p:blipFill>
          <a:blip r:embed="rId2"/>
          <a:stretch/>
        </p:blipFill>
        <p:spPr>
          <a:xfrm>
            <a:off x="7178760" y="1846440"/>
            <a:ext cx="3016080" cy="40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16T12:46:42Z</dcterms:created>
  <dc:creator>Len Lang</dc:creator>
  <dc:description/>
  <dc:language>en-US</dc:language>
  <cp:lastModifiedBy>Monica</cp:lastModifiedBy>
  <dcterms:modified xsi:type="dcterms:W3CDTF">2019-02-03T16:18:13Z</dcterms:modified>
  <cp:revision>44</cp:revision>
  <dc:subject/>
  <dc:title>Samples and Inedible</dc:title>
</cp:coreProperties>
</file>