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2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2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2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7"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1676-2011-4CEF-BF77-089FA9F60C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533520" y="754200"/>
            <a:ext cx="6705360" cy="3771720"/>
          </a:xfrm>
          <a:prstGeom prst="rect">
            <a:avLst/>
          </a:prstGeom>
          <a:ln w="0">
            <a:noFill/>
          </a:ln>
        </p:spPr>
      </p:sp>
      <p:sp>
        <p:nvSpPr>
          <p:cNvPr id="39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1845-E260-4695-818B-A2535EB78B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94"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533520" y="754200"/>
            <a:ext cx="6705360" cy="3771720"/>
          </a:xfrm>
          <a:prstGeom prst="rect">
            <a:avLst/>
          </a:prstGeom>
          <a:ln w="0">
            <a:noFill/>
          </a:ln>
        </p:spPr>
      </p:sp>
      <p:sp>
        <p:nvSpPr>
          <p:cNvPr id="42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24602-B267-4F7A-881D-F73B5C0C17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30"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533520" y="754200"/>
            <a:ext cx="6705360" cy="3771720"/>
          </a:xfrm>
          <a:prstGeom prst="rect">
            <a:avLst/>
          </a:prstGeom>
          <a:ln w="0">
            <a:noFill/>
          </a:ln>
        </p:spPr>
      </p:sp>
      <p:sp>
        <p:nvSpPr>
          <p:cNvPr id="43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87EE9-2CB1-4476-AB30-6A7DB64A56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34"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33520" y="754200"/>
            <a:ext cx="6705360" cy="3771720"/>
          </a:xfrm>
          <a:prstGeom prst="rect">
            <a:avLst/>
          </a:prstGeom>
          <a:ln w="0">
            <a:noFill/>
          </a:ln>
        </p:spPr>
      </p:sp>
      <p:sp>
        <p:nvSpPr>
          <p:cNvPr id="4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01CB3-068A-4BD6-A00C-1249DB5C2A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38"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533520" y="754200"/>
            <a:ext cx="6705360" cy="3771720"/>
          </a:xfrm>
          <a:prstGeom prst="rect">
            <a:avLst/>
          </a:prstGeom>
          <a:ln w="0">
            <a:noFill/>
          </a:ln>
        </p:spPr>
      </p:sp>
      <p:sp>
        <p:nvSpPr>
          <p:cNvPr id="3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04A7-19CC-467D-927F-17BB1F3067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398"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533520" y="754200"/>
            <a:ext cx="6705360" cy="3771720"/>
          </a:xfrm>
          <a:prstGeom prst="rect">
            <a:avLst/>
          </a:prstGeom>
          <a:ln w="0">
            <a:noFill/>
          </a:ln>
        </p:spPr>
      </p:sp>
      <p:sp>
        <p:nvSpPr>
          <p:cNvPr id="40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1FA17-18BB-4360-9255-1F1DEE758F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533520" y="754200"/>
            <a:ext cx="6705360" cy="3771720"/>
          </a:xfrm>
          <a:prstGeom prst="rect">
            <a:avLst/>
          </a:prstGeom>
          <a:ln w="0">
            <a:noFill/>
          </a:ln>
        </p:spPr>
      </p:sp>
      <p:sp>
        <p:nvSpPr>
          <p:cNvPr id="40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6E400-BD44-4F1C-B830-3F5F23A5BA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6"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533520" y="754200"/>
            <a:ext cx="6705360" cy="3771720"/>
          </a:xfrm>
          <a:prstGeom prst="rect">
            <a:avLst/>
          </a:prstGeom>
          <a:ln w="0">
            <a:noFill/>
          </a:ln>
        </p:spPr>
      </p:sp>
      <p:sp>
        <p:nvSpPr>
          <p:cNvPr id="4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E987-C431-4836-A2B4-8AC9F2EBFE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0"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533520" y="754200"/>
            <a:ext cx="6705360" cy="3771720"/>
          </a:xfrm>
          <a:prstGeom prst="rect">
            <a:avLst/>
          </a:prstGeom>
          <a:ln w="0">
            <a:noFill/>
          </a:ln>
        </p:spPr>
      </p:sp>
      <p:sp>
        <p:nvSpPr>
          <p:cNvPr id="41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9D2E-A3EF-437E-A62B-593B70CA09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4"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533520" y="754200"/>
            <a:ext cx="6705360" cy="3771720"/>
          </a:xfrm>
          <a:prstGeom prst="rect">
            <a:avLst/>
          </a:prstGeom>
          <a:ln w="0">
            <a:noFill/>
          </a:ln>
        </p:spPr>
      </p:sp>
      <p:sp>
        <p:nvSpPr>
          <p:cNvPr id="4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E1940-3A21-4483-92AE-793A653111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8"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533520" y="754200"/>
            <a:ext cx="6705360" cy="3771720"/>
          </a:xfrm>
          <a:prstGeom prst="rect">
            <a:avLst/>
          </a:prstGeom>
          <a:ln w="0">
            <a:noFill/>
          </a:ln>
        </p:spPr>
      </p:sp>
      <p:sp>
        <p:nvSpPr>
          <p:cNvPr id="42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F237-3825-41DF-B545-B77B1A0741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2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533520" y="754200"/>
            <a:ext cx="6705360" cy="3771720"/>
          </a:xfrm>
          <a:prstGeom prst="rect">
            <a:avLst/>
          </a:prstGeom>
          <a:ln w="0">
            <a:noFill/>
          </a:ln>
        </p:spPr>
      </p:sp>
      <p:sp>
        <p:nvSpPr>
          <p:cNvPr id="42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5D1BC-2717-4291-A28D-FA573B3402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26"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61769-4EB4-4DC2-A7C4-C9EF061F3F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DB77A-66B2-4B1F-85F5-FC4FF338F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DCA41-0893-470D-8157-F7EE64AAF5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F14C2E-6BA1-4007-A1A5-7CE28D8929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669E0-97E3-48F0-9C45-6B5E1EE715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5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07EA0-3152-42E6-A2AA-427045F0B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5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331E09-69C8-4514-A757-1EF618FC5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6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86E4B-A9EB-45C9-8AD8-F045C5410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965AB-F2EC-40AE-A2F6-F535597F3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DD2FE-8F3F-4048-8C8E-F1A7392769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037F3-BB6B-46A1-A206-C5F6DC098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16388-1703-4EFE-8AAD-CD4652CCF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C387D-D924-4DB5-8AB5-ADA128529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E8A138-5B27-4BD9-99BA-824BE95046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780AF2-1C60-49D8-A583-A6E72A84A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8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8C3869-9881-4295-B3BA-8492C79343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8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BBB30B-B42D-42DF-81C1-40CC45D2F8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914DED-4E4E-4146-B4BB-9992A974DE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0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0D25B6-300D-40F2-B469-3E8A14EDE0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0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BA466-FFAA-466C-AD04-1403E20E1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0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56D360-CAB9-46CE-9851-F576028B85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B45356-19DA-4AB0-AA48-36C662DFDD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6048C-4194-4FC6-9472-38B4E57DE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7DCD22-470C-449E-AADF-05F1CB8E28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1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7217DB-1BFC-4687-AC25-ED1D4F2CB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1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FA099-B8BB-4187-8818-E9FC98E7C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2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6E8DF2-2533-4BBD-A9E2-7940FC3BD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2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E6690E-7996-4360-B30E-836846EF0E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2D7D6E-30C6-4698-86CB-BB5D1A309E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3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13EA22-8854-481B-92F0-34BAB04BF4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9859DD-3ECC-437C-A780-0275692CB7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4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C50F68-35CD-44A8-BB1E-A2B9645518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352B2B-4320-459B-8C79-C42FA2678D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340A6-28AB-4BF5-AA64-49D3739D8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14A0D9-68D6-4975-BB93-FFB0E0AA64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D1CA47-B22D-4C41-9E8F-E8277E8048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1AED52-4B71-4D4C-BE09-73FCFDB417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5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5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664D16-FE91-4ABB-A986-643D8B2858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6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BFCE9D-8DC9-44B2-9653-0C06B686D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3A25A9-18BF-41AD-AB89-621C10C63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7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86016F-15DD-425B-AE7D-25F53580C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7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98BD63-7BFB-4606-B641-39F8AE989E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7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1CFE1DE-BFF7-454E-B887-70D36FB2FF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22C5ED-8D05-4EC0-913B-C1F1EE0B34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01486-FC2F-42BA-9FFD-584591E6F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95"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5BE34A-3EC4-46E8-8D80-87D35F28B2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97"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345C22-9F0B-40AA-BE45-9620C09675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9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9B222E-F2EA-4463-BF8A-4A54E764B3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4D50CC-6ACB-46AA-967C-9151DABBD6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8A64E3-5D3E-4E52-9D9F-8867E38B8F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3B9766-0B6E-4339-806E-21AD56432D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0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0"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C8FB0E-A845-42B3-9B67-59907D5334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4"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F894E0-11A8-4DF2-A910-03A92168C9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16"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7"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A4EA42-3B61-4589-8C8D-7184F23CBA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1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2"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7D8D91-56DE-43FE-A28C-F1CFBD2B9B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C89D2-D0C4-4478-AF13-E71C2C051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24"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5"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6"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7"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8"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9"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C5F784-8400-4259-BA99-24C372D44A2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19D8F5-A433-4A29-A17B-6326E6A0EF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41"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E6A19A-78D3-417E-B261-A26DFB3204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2E9FAA-2790-41C4-93B5-B5203A2ED8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4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66C2BB-32FD-442D-81F9-4514C53D21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7AE7DE-6D61-4DBD-BF65-10A1019474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A909DD-0F63-4AFD-B741-EEDF936CC1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E6502B-72C7-47AE-BF33-06A67A1E15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5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6"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5A6941-05DA-4ED1-BF83-A15B7D8E79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5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0"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C9B475-F1D7-45C3-8B58-41330A1818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E9D15-2BBD-44E0-88B1-E46441732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62"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3"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C52D5C-C078-4839-9425-0A5F894E34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6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8"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6B70D6-40AD-490E-B7BF-4180F07693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70"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1"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2"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3"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4"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5"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E630D1-4E04-4FD7-9388-9FD9007F02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127CB2-3DFC-4DB4-896B-C721CEA0D13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8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D1CBCA-F26F-451A-9621-316CD7A754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8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400B59-20AC-457B-8603-4D5EBAFB35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9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9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3D5ADB-6A79-4CE4-BF67-6D03BE9143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1C1434-C100-46EF-B60C-56CE763F96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3731E2-5BDD-46E3-8025-B572D084F1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9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9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9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6641D3-EBDF-4591-BDF9-395C55A8E6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9E986-0815-4282-BFED-5A6AA5FAB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22A603-9A28-42F9-904F-A572287254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5D8F8-2650-4F0A-A94D-F934C0982B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CAC0D1-DBF2-4DBC-91EC-5ECD405229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1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CCCC8A-D858-4BCA-9EA7-840BCC0C46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2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2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8E8CBB-6339-405F-B4B6-29C26CCBB2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F6251-C45F-4DFD-A2CF-B84C160099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235FA-045C-4A7F-9795-24F74A4050FB}"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69700-EA3C-4E79-A4A7-E7FA224BA02B}"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9"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5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52"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ECB52-7EA5-4BF8-A6BC-D6C71DDB6728}"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53"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66F1-AB76-41BE-983D-A916FEBF4C5E}"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93"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9"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1BB76-849C-4C34-8842-9A006BD67DAA}"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100"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C2159-EBE6-41AB-98F8-46C673E0579D}"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40"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4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45"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1EB9-FD91-4AC1-914E-0E5747285115}"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146"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854DE-AE8A-4225-9F14-B063905913E3}"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86"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Rectangle 10"/>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90"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91"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A3FCB-4975-421E-8200-EFE1D360296D}"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192"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41C1-2B48-4118-94D2-A0C2ABBE001C}"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32"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Rectangle 10"/>
          <p:cNvSpPr/>
          <p:nvPr/>
        </p:nvSpPr>
        <p:spPr>
          <a:xfrm>
            <a:off x="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11"/>
          <p:cNvSpPr/>
          <p:nvPr/>
        </p:nvSpPr>
        <p:spPr>
          <a:xfrm>
            <a:off x="0" y="491508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3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36"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37"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74082-7971-4237-9115-87D4583AEEF4}"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238"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9B5E-CD5A-4592-863C-53FC772CF33C}"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78"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8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83"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A4148-C857-4082-87EA-7E3471CCE9A5}"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284"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81A48-3BB1-47FC-AF38-5A45CB03E10A}"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766680" y="164880"/>
            <a:ext cx="7766280" cy="149220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ENCEFALOPATIA ESPONGIFORME BOVINA</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ISITOS</a:t>
            </a:r>
            <a:br>
              <a:rPr sz="2400"/>
            </a:br>
            <a:endParaRPr b="0" lang="en-US" sz="2800" spc="-1" strike="noStrike">
              <a:solidFill>
                <a:srgbClr val="404040"/>
              </a:solidFill>
              <a:latin typeface="Calibri Light"/>
            </a:endParaRPr>
          </a:p>
        </p:txBody>
      </p:sp>
      <p:sp>
        <p:nvSpPr>
          <p:cNvPr id="330" name=""/>
          <p:cNvSpPr txBox="1"/>
          <p:nvPr/>
        </p:nvSpPr>
        <p:spPr>
          <a:xfrm>
            <a:off x="2406240" y="1870200"/>
            <a:ext cx="7924680" cy="4449600"/>
          </a:xfrm>
          <a:prstGeom prst="rect">
            <a:avLst/>
          </a:prstGeom>
          <a:noFill/>
          <a:ln w="0">
            <a:noFill/>
          </a:ln>
        </p:spPr>
        <p:txBody>
          <a:bodyPr lIns="0" rIns="0" anchor="t">
            <a:normAutofit/>
          </a:bodyPr>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ea typeface="Arial"/>
              </a:rPr>
              <a:t>Objetivos</a:t>
            </a: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bir las responsabilidades del veterinario cuando se le presenta un animal incapacitado no ambulatorio en la inspección ante-mortem.</a:t>
            </a: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numerar los tejidos que son considerados material especifico de riesgo (SRM).</a:t>
            </a: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bir las políticas relacionadas con el material específico de riesgo (SRM) y las responsabilidades relacionadas con la implementación de esas políticas.</a:t>
            </a: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finir las políticas relacionadas con la carne separada mecánicamente (MS).</a:t>
            </a: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finir las políticas relacionadas con la recuperación avanzada de carne (AMR).</a:t>
            </a: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xplicar la razón de la prohibición de insensibilización por inyección de aire comprimido.</a:t>
            </a:r>
            <a:endParaRPr b="0" lang="en-US" sz="1600" spc="-1" strike="noStrike">
              <a:solidFill>
                <a:srgbClr val="404040"/>
              </a:solidFill>
              <a:latin typeface="Calibri"/>
            </a:endParaRPr>
          </a:p>
          <a:p>
            <a:pPr marL="13644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
        <p:nvSpPr>
          <p:cNvPr id="331"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D8137-2687-4839-A89C-EE45F26A0592}"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32"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766680" y="165240"/>
            <a:ext cx="7766280" cy="126504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ENCEFALOPATIA ESPONGIFORME BOVINA</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ISITOS</a:t>
            </a:r>
            <a:endParaRPr b="0" lang="en-US" sz="2800" spc="-1" strike="noStrike">
              <a:solidFill>
                <a:srgbClr val="404040"/>
              </a:solidFill>
              <a:latin typeface="Calibri Light"/>
            </a:endParaRPr>
          </a:p>
        </p:txBody>
      </p:sp>
      <p:sp>
        <p:nvSpPr>
          <p:cNvPr id="380" name=""/>
          <p:cNvSpPr txBox="1"/>
          <p:nvPr/>
        </p:nvSpPr>
        <p:spPr>
          <a:xfrm>
            <a:off x="1234800" y="1728720"/>
            <a:ext cx="9753480" cy="4921200"/>
          </a:xfrm>
          <a:prstGeom prst="rect">
            <a:avLst/>
          </a:prstGeom>
          <a:noFill/>
          <a:ln w="0">
            <a:noFill/>
          </a:ln>
        </p:spPr>
        <p:txBody>
          <a:bodyPr lIns="0" rIns="0" anchor="t">
            <a:normAutofit/>
          </a:bodyPr>
          <a:p>
            <a:pPr marL="1364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000000"/>
                </a:solidFill>
                <a:uFillTx/>
                <a:latin typeface="Arial"/>
                <a:ea typeface="Arial"/>
              </a:rPr>
              <a:t>Carne separada mecánicamente (MS)</a:t>
            </a:r>
            <a:endParaRPr b="0" lang="en-US" sz="3200" spc="-1" strike="noStrike">
              <a:solidFill>
                <a:srgbClr val="404040"/>
              </a:solidFill>
              <a:latin typeface="Calibri"/>
            </a:endParaRPr>
          </a:p>
          <a:p>
            <a:pPr marL="136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Prohibido el uso para alimentación humana.</a:t>
            </a:r>
            <a:endParaRPr b="0" lang="en-US" sz="2800" spc="-1" strike="noStrike">
              <a:solidFill>
                <a:srgbClr val="404040"/>
              </a:solidFill>
              <a:latin typeface="Calibri"/>
            </a:endParaRPr>
          </a:p>
          <a:p>
            <a:pPr marL="136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Consistencia similar a una pasta que resulta de forzar a los huesos vacunos, con carne comestible adherida, a alta presión a través de un tamiz o un dispositivo similar para separar el hueso del tejido cárnico comestible. </a:t>
            </a:r>
            <a:endParaRPr b="0" lang="en-US" sz="2800" spc="-1" strike="noStrike">
              <a:solidFill>
                <a:srgbClr val="404040"/>
              </a:solidFill>
              <a:latin typeface="Calibri"/>
            </a:endParaRPr>
          </a:p>
          <a:p>
            <a:pPr marL="136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El proceso MS por lo general aplasta los huesos y da como resultado un producto que contiene niveles altos de calcio, hierro y todo tipo de tejido nervioso que pueden estar asociado con los huesos que se utilizaron.</a:t>
            </a:r>
            <a:endParaRPr b="0" lang="en-US" sz="2800" spc="-1" strike="noStrike">
              <a:solidFill>
                <a:srgbClr val="404040"/>
              </a:solidFill>
              <a:latin typeface="Calibri"/>
            </a:endParaRPr>
          </a:p>
        </p:txBody>
      </p:sp>
      <p:sp>
        <p:nvSpPr>
          <p:cNvPr id="381"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F89C-473B-4C06-A079-0790CEE7ECC9}"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2"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766680" y="164880"/>
            <a:ext cx="7766280" cy="149220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ENCEFALOPATIA ESPONGIFORME BOVINA</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ISITOS</a:t>
            </a:r>
            <a:endParaRPr b="0" lang="en-US" sz="2800" spc="-1" strike="noStrike">
              <a:solidFill>
                <a:srgbClr val="404040"/>
              </a:solidFill>
              <a:latin typeface="Calibri Light"/>
            </a:endParaRPr>
          </a:p>
        </p:txBody>
      </p:sp>
      <p:sp>
        <p:nvSpPr>
          <p:cNvPr id="384" name=""/>
          <p:cNvSpPr txBox="1"/>
          <p:nvPr/>
        </p:nvSpPr>
        <p:spPr>
          <a:xfrm>
            <a:off x="1234800" y="1870200"/>
            <a:ext cx="9753480" cy="4449600"/>
          </a:xfrm>
          <a:prstGeom prst="rect">
            <a:avLst/>
          </a:prstGeom>
          <a:noFill/>
          <a:ln w="0">
            <a:noFill/>
          </a:ln>
        </p:spPr>
        <p:txBody>
          <a:bodyPr lIns="0" rIns="0" anchor="t">
            <a:normAutofit/>
          </a:bodyPr>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ea typeface="Arial"/>
              </a:rPr>
              <a:t>Recuperación Avanzada de carne (AMR)</a:t>
            </a:r>
            <a:endParaRPr b="0" lang="en-US" sz="22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La AMR también elimina el tejido muscular de los huesos de las carcasas de carne vacuna a alta presión. Sin embargo, esto se logra sin la incorporación de material óseo en el producto. El proceso de AMR se conoce a veces como método de extrusión "suave".</a:t>
            </a:r>
            <a:endParaRPr b="0" lang="en-US" sz="22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Un producto AMR puede ser etiquetado como "carne". “Carne" no puede incluir porciones significativas de hueso, médula ósea, o una cantidad de cerebro, ganglios del trigémino, médula espinal o ganglios de la raíz dorsal (DRG). Se prohíbe el uso de cráneos y vértebras de ganado de 30 meses de edad o mas en productos AMR.</a:t>
            </a:r>
            <a:endParaRPr b="0" lang="en-US" sz="2200" spc="-1" strike="noStrike">
              <a:solidFill>
                <a:srgbClr val="404040"/>
              </a:solidFill>
              <a:latin typeface="Calibri"/>
            </a:endParaRPr>
          </a:p>
        </p:txBody>
      </p:sp>
      <p:sp>
        <p:nvSpPr>
          <p:cNvPr id="385"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9A9A6-1B2E-40B9-BB22-0A09C1917B10}"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6"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766680" y="164880"/>
            <a:ext cx="7766280" cy="149220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ENCEFALOPATIA ESPONGIFORME BOVINA</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ISITOS</a:t>
            </a:r>
            <a:endParaRPr b="0" lang="en-US" sz="2800" spc="-1" strike="noStrike">
              <a:solidFill>
                <a:srgbClr val="404040"/>
              </a:solidFill>
              <a:latin typeface="Calibri Light"/>
            </a:endParaRPr>
          </a:p>
        </p:txBody>
      </p:sp>
      <p:sp>
        <p:nvSpPr>
          <p:cNvPr id="388" name=""/>
          <p:cNvSpPr txBox="1"/>
          <p:nvPr/>
        </p:nvSpPr>
        <p:spPr>
          <a:xfrm>
            <a:off x="1234800" y="1870200"/>
            <a:ext cx="975348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Prohibición de la insensibilización por inyección de aire</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La insensibilización por inyección de aire inyecta aire comprimido en el cerebro al finalizar el ciclo de penetración.</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La insensibilización por inyección de aire puede forzar visiblemente partes del cerebro y otros tejidos del SNC dentro del sistema circulatorio de los animales.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Puede producir embolia cerebral (SRM) que se disemina en los tejidos comestibles. </a:t>
            </a:r>
            <a:endParaRPr b="0" lang="en-US" sz="2600" spc="-1" strike="noStrike">
              <a:solidFill>
                <a:srgbClr val="404040"/>
              </a:solidFill>
              <a:latin typeface="Calibri"/>
            </a:endParaRPr>
          </a:p>
        </p:txBody>
      </p:sp>
      <p:sp>
        <p:nvSpPr>
          <p:cNvPr id="389"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9B53-6969-4BC3-A122-906E5645A337}"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90"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766680" y="164880"/>
            <a:ext cx="7766280" cy="149220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ENCEFALOPATIA ESPONGIFORME BOVINA</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ISITOS</a:t>
            </a:r>
            <a:br>
              <a:rPr sz="2400"/>
            </a:br>
            <a:endParaRPr b="0" lang="en-US" sz="2800" spc="-1" strike="noStrike">
              <a:solidFill>
                <a:srgbClr val="404040"/>
              </a:solidFill>
              <a:latin typeface="Calibri Light"/>
            </a:endParaRPr>
          </a:p>
        </p:txBody>
      </p:sp>
      <p:pic>
        <p:nvPicPr>
          <p:cNvPr id="334" name="Content Placeholder 2" descr=""/>
          <p:cNvPicPr/>
          <p:nvPr/>
        </p:nvPicPr>
        <p:blipFill>
          <a:blip r:embed="rId1"/>
          <a:stretch/>
        </p:blipFill>
        <p:spPr>
          <a:xfrm>
            <a:off x="4005360" y="1833480"/>
            <a:ext cx="4829040" cy="4703760"/>
          </a:xfrm>
          <a:prstGeom prst="rect">
            <a:avLst/>
          </a:prstGeom>
          <a:ln w="0">
            <a:noFill/>
          </a:ln>
        </p:spPr>
      </p:pic>
      <p:sp>
        <p:nvSpPr>
          <p:cNvPr id="335"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5204-ADEA-4367-85E3-EC05885C2899}"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36" name="Picture 5" descr=""/>
          <p:cNvPicPr/>
          <p:nvPr/>
        </p:nvPicPr>
        <p:blipFill>
          <a:blip r:embed="rId2"/>
          <a:stretch/>
        </p:blipFill>
        <p:spPr>
          <a:xfrm>
            <a:off x="2271600" y="536400"/>
            <a:ext cx="1175040" cy="747720"/>
          </a:xfrm>
          <a:prstGeom prst="rect">
            <a:avLst/>
          </a:prstGeom>
          <a:ln w="0">
            <a:noFill/>
          </a:ln>
        </p:spPr>
      </p:pic>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766680" y="164880"/>
            <a:ext cx="7766280" cy="149220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ENCEFALOPATIA ESPONGIFORME BOVINA</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ISITOS</a:t>
            </a:r>
            <a:br>
              <a:rPr sz="2400"/>
            </a:br>
            <a:endParaRPr b="0" lang="en-US" sz="2800" spc="-1" strike="noStrike">
              <a:solidFill>
                <a:srgbClr val="404040"/>
              </a:solidFill>
              <a:latin typeface="Calibri Light"/>
            </a:endParaRPr>
          </a:p>
        </p:txBody>
      </p:sp>
      <p:sp>
        <p:nvSpPr>
          <p:cNvPr id="338" name=""/>
          <p:cNvSpPr txBox="1"/>
          <p:nvPr/>
        </p:nvSpPr>
        <p:spPr>
          <a:xfrm>
            <a:off x="2406240" y="1870200"/>
            <a:ext cx="792468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Ganado incapacitado no ambulatorio</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Ganado que no se puede levantar de una posición recostada sin ayuda o que no puede caminar.</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No se le permite entrar al establecimiento de faena. Deben ser manejados humanitariamente, sacrificados en el momento oportuno y removidos de las instalaciones. </a:t>
            </a:r>
            <a:endParaRPr b="0" lang="en-US" sz="2600" spc="-1" strike="noStrike">
              <a:solidFill>
                <a:srgbClr val="404040"/>
              </a:solidFill>
              <a:latin typeface="Calibri"/>
            </a:endParaRPr>
          </a:p>
        </p:txBody>
      </p:sp>
      <p:sp>
        <p:nvSpPr>
          <p:cNvPr id="339"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EB88A-B7C5-4B74-9166-752397A24849}"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0"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766680" y="164880"/>
            <a:ext cx="7766280" cy="149220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ENCEFALOPATIA ESPONGIFORME BOVINA</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ISITOS</a:t>
            </a:r>
            <a:br>
              <a:rPr sz="2400"/>
            </a:br>
            <a:endParaRPr b="0" lang="en-US" sz="2800" spc="-1" strike="noStrike">
              <a:solidFill>
                <a:srgbClr val="404040"/>
              </a:solidFill>
              <a:latin typeface="Calibri Light"/>
            </a:endParaRPr>
          </a:p>
        </p:txBody>
      </p:sp>
      <p:sp>
        <p:nvSpPr>
          <p:cNvPr id="342" name=""/>
          <p:cNvSpPr txBox="1"/>
          <p:nvPr/>
        </p:nvSpPr>
        <p:spPr>
          <a:xfrm>
            <a:off x="2406240" y="1870200"/>
            <a:ext cx="810108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Material específico de riesgo (SRM)</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cerebro, cráneo, ojos, ganglios del trigémino, médula espinal, columna vertebral (excluidas las vertebras de la cola, apófisis transversas de las vértebras torácicas y lumbares, y las alas del sacro) y los ganglios de la raíz dorsal (DRG) de ganado de 30 meses de edad en adelante</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amígdalas e  íleon distal del intestino delgado de todo el ganado, independientemente de la edad</a:t>
            </a:r>
            <a:endParaRPr b="0" lang="en-US" sz="2600" spc="-1" strike="noStrike">
              <a:solidFill>
                <a:srgbClr val="404040"/>
              </a:solidFill>
              <a:latin typeface="Calibri"/>
            </a:endParaRPr>
          </a:p>
        </p:txBody>
      </p:sp>
      <p:sp>
        <p:nvSpPr>
          <p:cNvPr id="343"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E038D-ACB4-4B0A-A625-E54072A5C0F9}"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4"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766680" y="164880"/>
            <a:ext cx="7766280" cy="149220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ENCEFALOPATIA ESPONGIFORME BOVINA</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ISITOS</a:t>
            </a:r>
            <a:br>
              <a:rPr sz="2400"/>
            </a:br>
            <a:endParaRPr b="0" lang="en-US" sz="2800" spc="-1" strike="noStrike">
              <a:solidFill>
                <a:srgbClr val="404040"/>
              </a:solidFill>
              <a:latin typeface="Calibri Light"/>
            </a:endParaRPr>
          </a:p>
        </p:txBody>
      </p:sp>
      <p:sp>
        <p:nvSpPr>
          <p:cNvPr id="346" name=""/>
          <p:cNvSpPr txBox="1"/>
          <p:nvPr/>
        </p:nvSpPr>
        <p:spPr>
          <a:xfrm>
            <a:off x="2406240" y="1870200"/>
            <a:ext cx="8582040" cy="4449600"/>
          </a:xfrm>
          <a:prstGeom prst="rect">
            <a:avLst/>
          </a:prstGeom>
          <a:noFill/>
          <a:ln w="0">
            <a:noFill/>
          </a:ln>
        </p:spPr>
        <p:txBody>
          <a:bodyPr lIns="0" rIns="0" anchor="t">
            <a:normAutofit/>
          </a:bodyPr>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ea typeface="Arial"/>
              </a:rPr>
              <a:t>Columna vertebral / médula espinal</a:t>
            </a:r>
            <a:endParaRPr b="0" lang="en-US" sz="22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La médula espinal de bovinos de 30 meses de edad en adelante debe ser eliminada en el establecimiento donde el animal fue faenado. </a:t>
            </a:r>
            <a:endParaRPr b="0" lang="en-US" sz="22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La columna vertebral no debe ser eliminada durante el proceso de faena. </a:t>
            </a:r>
            <a:endParaRPr b="0" lang="en-US" sz="22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Los establecimientos están autorizados a transportar las carcasas o partes de ellas a otro establecimiento oficial para su procesamiento.  </a:t>
            </a:r>
            <a:endParaRPr b="0" lang="en-US" sz="22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 las columnas vertebrales son los únicos materiales específicos de riesgo (SRM) que pueden ser transportados de una instalación inspeccionada a otra instalación. </a:t>
            </a:r>
            <a:endParaRPr b="0" lang="en-US" sz="22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13644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
        <p:nvSpPr>
          <p:cNvPr id="34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AC9A-2F36-4024-A2C5-7A7BF6066683}"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8"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766680" y="164880"/>
            <a:ext cx="7766280" cy="149220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ENCEFALOPATIA ESPONGIFORME BOVINA</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ISITOS</a:t>
            </a:r>
            <a:endParaRPr b="0" lang="en-US" sz="2800" spc="-1" strike="noStrike">
              <a:solidFill>
                <a:srgbClr val="404040"/>
              </a:solidFill>
              <a:latin typeface="Calibri Light"/>
            </a:endParaRPr>
          </a:p>
        </p:txBody>
      </p:sp>
      <p:sp>
        <p:nvSpPr>
          <p:cNvPr id="350" name=""/>
          <p:cNvSpPr txBox="1"/>
          <p:nvPr/>
        </p:nvSpPr>
        <p:spPr>
          <a:xfrm>
            <a:off x="1956960" y="1870200"/>
            <a:ext cx="903132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Ganglio de raíz dorsal (DRG)</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Los ganglios de raíz dorsal son amplificaciones nodulares de tejido nervioso conectado a la médula espinal que se encuentran ubicados muy cerca del foramen intervertebral.</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351"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C16F-1984-4A80-8C69-664298CB1934}"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52" name="Picture 5" descr=""/>
          <p:cNvPicPr/>
          <p:nvPr/>
        </p:nvPicPr>
        <p:blipFill>
          <a:blip r:embed="rId1"/>
          <a:stretch/>
        </p:blipFill>
        <p:spPr>
          <a:xfrm>
            <a:off x="2271600" y="536400"/>
            <a:ext cx="1175040" cy="747720"/>
          </a:xfrm>
          <a:prstGeom prst="rect">
            <a:avLst/>
          </a:prstGeom>
          <a:ln w="0">
            <a:noFill/>
          </a:ln>
        </p:spPr>
      </p:pic>
      <p:pic>
        <p:nvPicPr>
          <p:cNvPr id="353" name="Picture 6" descr=""/>
          <p:cNvPicPr/>
          <p:nvPr/>
        </p:nvPicPr>
        <p:blipFill>
          <a:blip r:embed="rId2"/>
          <a:stretch/>
        </p:blipFill>
        <p:spPr>
          <a:xfrm>
            <a:off x="2859120" y="4183200"/>
            <a:ext cx="2514600" cy="2079360"/>
          </a:xfrm>
          <a:prstGeom prst="rect">
            <a:avLst/>
          </a:prstGeom>
          <a:ln w="0">
            <a:noFill/>
          </a:ln>
        </p:spPr>
      </p:pic>
      <p:pic>
        <p:nvPicPr>
          <p:cNvPr id="354" name="Picture 7" descr=""/>
          <p:cNvPicPr/>
          <p:nvPr/>
        </p:nvPicPr>
        <p:blipFill>
          <a:blip r:embed="rId3"/>
          <a:stretch/>
        </p:blipFill>
        <p:spPr>
          <a:xfrm>
            <a:off x="7445520" y="4556160"/>
            <a:ext cx="2884320" cy="1530360"/>
          </a:xfrm>
          <a:prstGeom prst="rect">
            <a:avLst/>
          </a:prstGeom>
          <a:ln w="0">
            <a:noFill/>
          </a:ln>
        </p:spPr>
      </p:pic>
      <p:pic>
        <p:nvPicPr>
          <p:cNvPr id="355" name="Picture 8" descr=""/>
          <p:cNvPicPr/>
          <p:nvPr/>
        </p:nvPicPr>
        <p:blipFill>
          <a:blip r:embed="rId4"/>
          <a:stretch/>
        </p:blipFill>
        <p:spPr>
          <a:xfrm>
            <a:off x="3879720" y="5450040"/>
            <a:ext cx="73080" cy="152280"/>
          </a:xfrm>
          <a:prstGeom prst="rect">
            <a:avLst/>
          </a:prstGeom>
          <a:ln w="0">
            <a:noFill/>
          </a:ln>
        </p:spPr>
      </p:pic>
      <p:pic>
        <p:nvPicPr>
          <p:cNvPr id="356" name="Picture 9" descr=""/>
          <p:cNvPicPr/>
          <p:nvPr/>
        </p:nvPicPr>
        <p:blipFill>
          <a:blip r:embed="rId5"/>
          <a:stretch/>
        </p:blipFill>
        <p:spPr>
          <a:xfrm>
            <a:off x="4248000" y="5450040"/>
            <a:ext cx="68400" cy="152280"/>
          </a:xfrm>
          <a:prstGeom prst="rect">
            <a:avLst/>
          </a:prstGeom>
          <a:ln w="0">
            <a:noFill/>
          </a:ln>
        </p:spPr>
      </p:pic>
      <p:pic>
        <p:nvPicPr>
          <p:cNvPr id="357" name="Picture 10" descr=""/>
          <p:cNvPicPr/>
          <p:nvPr/>
        </p:nvPicPr>
        <p:blipFill>
          <a:blip r:embed="rId6"/>
          <a:stretch/>
        </p:blipFill>
        <p:spPr>
          <a:xfrm>
            <a:off x="8469360" y="5310360"/>
            <a:ext cx="98280" cy="139680"/>
          </a:xfrm>
          <a:prstGeom prst="rect">
            <a:avLst/>
          </a:prstGeom>
          <a:ln w="0">
            <a:noFill/>
          </a:ln>
        </p:spPr>
      </p:pic>
      <p:pic>
        <p:nvPicPr>
          <p:cNvPr id="358" name="Picture 11" descr=""/>
          <p:cNvPicPr/>
          <p:nvPr/>
        </p:nvPicPr>
        <p:blipFill>
          <a:blip r:embed="rId7"/>
          <a:stretch/>
        </p:blipFill>
        <p:spPr>
          <a:xfrm>
            <a:off x="9094680" y="5310360"/>
            <a:ext cx="98640" cy="139680"/>
          </a:xfrm>
          <a:prstGeom prst="rect">
            <a:avLst/>
          </a:prstGeom>
          <a:ln w="0">
            <a:noFill/>
          </a:ln>
        </p:spPr>
      </p:pic>
      <p:sp>
        <p:nvSpPr>
          <p:cNvPr id="359" name="Oval 13"/>
          <p:cNvSpPr/>
          <p:nvPr/>
        </p:nvSpPr>
        <p:spPr>
          <a:xfrm>
            <a:off x="3532320" y="4186080"/>
            <a:ext cx="1112760" cy="2076480"/>
          </a:xfrm>
          <a:prstGeom prst="ellipse">
            <a:avLst/>
          </a:prstGeom>
          <a:noFill/>
          <a:ln w="15840">
            <a:solidFill>
              <a:srgbClr val="a75f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Oval 15"/>
          <p:cNvSpPr/>
          <p:nvPr/>
        </p:nvSpPr>
        <p:spPr>
          <a:xfrm>
            <a:off x="8271000" y="4556160"/>
            <a:ext cx="1143000" cy="1449360"/>
          </a:xfrm>
          <a:prstGeom prst="ellipse">
            <a:avLst/>
          </a:prstGeom>
          <a:noFill/>
          <a:ln w="15840">
            <a:solidFill>
              <a:srgbClr val="a75f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TextBox 16"/>
          <p:cNvSpPr/>
          <p:nvPr/>
        </p:nvSpPr>
        <p:spPr>
          <a:xfrm>
            <a:off x="5837400" y="5514840"/>
            <a:ext cx="217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cesos transversos</a:t>
            </a:r>
            <a:endParaRPr b="0" lang="en-US" sz="1800" spc="-1" strike="noStrike">
              <a:solidFill>
                <a:srgbClr val="000000"/>
              </a:solidFill>
              <a:latin typeface="Calibri"/>
            </a:endParaRPr>
          </a:p>
        </p:txBody>
      </p:sp>
      <p:cxnSp>
        <p:nvCxnSpPr>
          <p:cNvPr id="362" name="Straight Arrow Connector 26"/>
          <p:cNvCxnSpPr/>
          <p:nvPr/>
        </p:nvCxnSpPr>
        <p:spPr>
          <a:xfrm flipV="1">
            <a:off x="6939000" y="5449320"/>
            <a:ext cx="418320" cy="153000"/>
          </a:xfrm>
          <a:prstGeom prst="straightConnector1">
            <a:avLst/>
          </a:prstGeom>
          <a:ln w="12600">
            <a:solidFill>
              <a:srgbClr val="e48312"/>
            </a:solidFill>
            <a:miter/>
            <a:tailEnd len="med" type="triangle" w="med"/>
          </a:ln>
        </p:spPr>
      </p:cxnSp>
      <p:cxnSp>
        <p:nvCxnSpPr>
          <p:cNvPr id="363" name="Straight Arrow Connector 31"/>
          <p:cNvCxnSpPr>
            <a:stCxn id="361" idx="1"/>
          </p:cNvCxnSpPr>
          <p:nvPr/>
        </p:nvCxnSpPr>
        <p:spPr>
          <a:xfrm flipH="1">
            <a:off x="5373360" y="5699160"/>
            <a:ext cx="464400" cy="118080"/>
          </a:xfrm>
          <a:prstGeom prst="straightConnector1">
            <a:avLst/>
          </a:prstGeom>
          <a:ln w="12600">
            <a:solidFill>
              <a:srgbClr val="e48312"/>
            </a:solidFill>
            <a:miter/>
            <a:tailEnd len="med" type="triangle" w="med"/>
          </a:ln>
        </p:spPr>
      </p:cxnSp>
      <p:sp>
        <p:nvSpPr>
          <p:cNvPr id="364" name="TextBox 32"/>
          <p:cNvSpPr/>
          <p:nvPr/>
        </p:nvSpPr>
        <p:spPr>
          <a:xfrm>
            <a:off x="5640480" y="4667400"/>
            <a:ext cx="1341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o para alimento</a:t>
            </a:r>
            <a:endParaRPr b="0" lang="en-US" sz="1800" spc="-1" strike="noStrike">
              <a:solidFill>
                <a:srgbClr val="000000"/>
              </a:solidFill>
              <a:latin typeface="Calibri"/>
            </a:endParaRPr>
          </a:p>
        </p:txBody>
      </p:sp>
      <p:cxnSp>
        <p:nvCxnSpPr>
          <p:cNvPr id="365" name="Straight Arrow Connector 36"/>
          <p:cNvCxnSpPr/>
          <p:nvPr/>
        </p:nvCxnSpPr>
        <p:spPr>
          <a:xfrm>
            <a:off x="6982920" y="4831920"/>
            <a:ext cx="1288440" cy="51480"/>
          </a:xfrm>
          <a:prstGeom prst="straightConnector1">
            <a:avLst/>
          </a:prstGeom>
          <a:ln w="12600">
            <a:solidFill>
              <a:srgbClr val="e48312"/>
            </a:solidFill>
            <a:miter/>
            <a:tailEnd len="med" type="triangle" w="med"/>
          </a:ln>
        </p:spPr>
      </p:cxnSp>
      <p:cxnSp>
        <p:nvCxnSpPr>
          <p:cNvPr id="366" name="Straight Arrow Connector 38"/>
          <p:cNvCxnSpPr/>
          <p:nvPr/>
        </p:nvCxnSpPr>
        <p:spPr>
          <a:xfrm flipH="1">
            <a:off x="4644720" y="4852800"/>
            <a:ext cx="961200" cy="30600"/>
          </a:xfrm>
          <a:prstGeom prst="straightConnector1">
            <a:avLst/>
          </a:prstGeom>
          <a:ln w="12600">
            <a:solidFill>
              <a:srgbClr val="e48312"/>
            </a:solidFill>
            <a:miter/>
            <a:tailEnd len="med" type="triangle" w="med"/>
          </a:ln>
        </p:spPr>
      </p:cxnSp>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766680" y="164880"/>
            <a:ext cx="7766280" cy="149220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ENCEFALOPATIA ESPONGIFORME BOVINA</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ISITOS</a:t>
            </a:r>
            <a:endParaRPr b="0" lang="en-US" sz="2800" spc="-1" strike="noStrike">
              <a:solidFill>
                <a:srgbClr val="404040"/>
              </a:solidFill>
              <a:latin typeface="Calibri Light"/>
            </a:endParaRPr>
          </a:p>
        </p:txBody>
      </p:sp>
      <p:sp>
        <p:nvSpPr>
          <p:cNvPr id="368" name=""/>
          <p:cNvSpPr txBox="1"/>
          <p:nvPr/>
        </p:nvSpPr>
        <p:spPr>
          <a:xfrm>
            <a:off x="1956960" y="1870200"/>
            <a:ext cx="903132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Cabezas</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Dado que la insensibilización puede resultar en la contaminación de la superficie de la cabeza, las cabezas del ganado de 30 meses de edad o mas deben ser desechadas, a menos que el establecimiento pueda garantizar que la insensibilización no da lugar a filtraciones del cerebro sobre la cabeza.</a:t>
            </a:r>
            <a:endParaRPr b="0" lang="en-US" sz="2600" spc="-1" strike="noStrike">
              <a:solidFill>
                <a:srgbClr val="404040"/>
              </a:solidFill>
              <a:latin typeface="Calibri"/>
            </a:endParaRPr>
          </a:p>
        </p:txBody>
      </p:sp>
      <p:sp>
        <p:nvSpPr>
          <p:cNvPr id="369"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32192-046B-4F8D-AEA7-D218BC16906F}"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0"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3766680" y="164880"/>
            <a:ext cx="7766280" cy="149220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ENCEFALOPATIA ESPONGIFORME BOVINA</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ISITOS</a:t>
            </a:r>
            <a:endParaRPr b="0" lang="en-US" sz="2800" spc="-1" strike="noStrike">
              <a:solidFill>
                <a:srgbClr val="404040"/>
              </a:solidFill>
              <a:latin typeface="Calibri Light"/>
            </a:endParaRPr>
          </a:p>
        </p:txBody>
      </p:sp>
      <p:sp>
        <p:nvSpPr>
          <p:cNvPr id="372" name=""/>
          <p:cNvSpPr txBox="1"/>
          <p:nvPr/>
        </p:nvSpPr>
        <p:spPr>
          <a:xfrm>
            <a:off x="1234800" y="1870200"/>
            <a:ext cx="9753480" cy="4449600"/>
          </a:xfrm>
          <a:prstGeom prst="rect">
            <a:avLst/>
          </a:prstGeom>
          <a:noFill/>
          <a:ln w="0">
            <a:noFill/>
          </a:ln>
        </p:spPr>
        <p:txBody>
          <a:bodyPr lIns="0" rIns="0" anchor="t">
            <a:normAutofit/>
          </a:bodyPr>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ea typeface="Arial"/>
              </a:rPr>
              <a:t>Amígdalas</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Deben existir procedimientos vigentes para la eliminación del tejido admigdalar cuando se extraen las lenguas. El establecimiento puede utilizar cualquier método comprobable para la eliminación del tejido admigdalar. Los dos métodos que se utilizan en la actualidad son:</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Corte transversal – Retirar la porción no comestible mediante un corte transversal detrás de la ultima papilla caliciforme.</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Desollado (Skinning) - Permite salvar la mayor parte de la porción muscular de la lengua. La máquina de desollar elimina un mínimo de 5 mm de la superficie de la parte afectada de la lengua al retirar el material admigdalar justo debajo de la superficie de la mucosa.</a:t>
            </a:r>
            <a:endParaRPr b="0" lang="en-US" sz="2200" spc="-1" strike="noStrike">
              <a:solidFill>
                <a:srgbClr val="404040"/>
              </a:solidFill>
              <a:latin typeface="Calibri"/>
            </a:endParaRPr>
          </a:p>
        </p:txBody>
      </p:sp>
      <p:sp>
        <p:nvSpPr>
          <p:cNvPr id="373"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9501F-F9EA-49A4-9D42-CD1FA32F0817}"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4"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766680" y="164880"/>
            <a:ext cx="7766280" cy="149220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ENCEFALOPATIA ESPONGIFORME BOVINA</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	</a:t>
            </a:r>
            <a:r>
              <a:rPr b="1" lang="en-US" sz="2800" spc="-1" strike="noStrike">
                <a:solidFill>
                  <a:srgbClr val="000000"/>
                </a:solidFill>
                <a:latin typeface="Arial"/>
                <a:ea typeface="Arial"/>
              </a:rPr>
              <a:t>REQUISITOS</a:t>
            </a:r>
            <a:endParaRPr b="0" lang="en-US" sz="2800" spc="-1" strike="noStrike">
              <a:solidFill>
                <a:srgbClr val="404040"/>
              </a:solidFill>
              <a:latin typeface="Calibri Light"/>
            </a:endParaRPr>
          </a:p>
        </p:txBody>
      </p:sp>
      <p:sp>
        <p:nvSpPr>
          <p:cNvPr id="376" name=""/>
          <p:cNvSpPr txBox="1"/>
          <p:nvPr/>
        </p:nvSpPr>
        <p:spPr>
          <a:xfrm>
            <a:off x="1234800" y="1870200"/>
            <a:ext cx="975348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Intestino Delgado</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l intestino delgado vacuno se puede utilizar para la alimentación humana si el íleon distal se elimina mediante un procedimiento que separa 80 pulgadas (~ 2 metros) de intestino delgado desenrollado y recortado, midiendo desde la unión ceco cólica, proximal hacia el jejunum.</a:t>
            </a:r>
            <a:endParaRPr b="0" lang="en-US" sz="2600" spc="-1" strike="noStrike">
              <a:solidFill>
                <a:srgbClr val="404040"/>
              </a:solidFill>
              <a:latin typeface="Calibri"/>
            </a:endParaRPr>
          </a:p>
        </p:txBody>
      </p:sp>
      <p:sp>
        <p:nvSpPr>
          <p:cNvPr id="37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0E9DD-6E94-45B0-8499-29B80441F177}"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8"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09T22:19:26Z</dcterms:created>
  <dc:creator>Rebecca James</dc:creator>
  <dc:description/>
  <dc:language>en-US</dc:language>
  <cp:lastModifiedBy>Monica</cp:lastModifiedBy>
  <dcterms:modified xsi:type="dcterms:W3CDTF">2019-02-02T11:32:16Z</dcterms:modified>
  <cp:revision>37</cp:revision>
  <dc:subject/>
  <dc:title>BOVINE SPONGIFORM ENCEPHALOPATHY    (BSE): KEY POINTS</dc:title>
</cp:coreProperties>
</file>