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068436-9573-4FCA-A556-F804DA042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AB253-E351-4735-AEAF-35FE95A94B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6DAC9-9338-4718-BE5C-AD61838B7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1E00C-C403-4845-BEF4-8EF6C24E9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633327-CBC6-49EB-AEA0-5B14B2B59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73A83-EE2A-440A-AC47-B8ADC9693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56DE5-4875-48C8-B85D-BF2E920E3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772FB-92FD-41C0-B6B3-19979765B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BF8D1-12FF-47B4-A3E6-ED37D6A3A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20B5E-2C01-47FE-A5D9-6C3CE9B75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D2AC0-563B-4821-A126-FC91D4E98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DC7DB-90E4-4598-9E1D-C881D88CD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99E62-EBE6-4C46-BA1E-702F3D115C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DD2CD-B197-4ABC-BB56-7E409F2C1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65237-D0F3-4362-A33D-B5141E1F7E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FC0A20-724F-46A6-BA69-526B21793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FE02A1-922E-4E29-8172-AB23458AF9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255033-55C6-46BA-82A1-0500E35E6F9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83064-3756-4236-9304-646354D6DE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CFB122-2B48-4FFE-B608-D602D2C31D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216611-4B28-4AAA-ADDD-56AD1218A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86ACF0-2225-403B-B789-B077A65A6E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22937-7A5D-4DC9-BE7E-0036C2278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A52102-08C1-48E9-87CF-EE0EB10979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BF9093-61B9-496E-94B3-9226EDD471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AA15C7-9FA7-4B83-A622-45810AA008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8E898E-464E-44B4-822E-B0D0BCE783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4F55BF-619C-4EE2-9E6A-3AD0EE5A1A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DCCDC1-5C14-4D61-AFFC-C8033E8662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F5A449-F0D8-412D-9CFE-B8BE2286BA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AE190B-FBE6-49AF-AF42-B86A3C2818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68313C-D546-4DAF-88F5-D2E0783F8A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2F3680-6FEE-436A-BD74-DDB9547F80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0FBC9-77D1-4408-A1F8-71558ABED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79F954-26F1-42AF-BEAC-17851C86A7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7FB232-F0D6-4E30-9F0C-1318E32638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7F9F16-6EF8-4A5C-9D3D-3B7DB7B55F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3D3B2C-6750-4D7D-8C4B-50F0C922C2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F41704-6B9C-48E9-980E-9D8AF7E57A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B4B9EE-4CC1-4807-9718-FC1761811D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4D46C5-DEB5-49AA-8296-D5618EEE65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2D443B-667C-4957-84B7-D3C07394D9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D32D64-8078-4D22-9464-37470DAD69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1508D4-E9B7-41DF-BB2E-59CD83ED13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143A0-3298-4412-A6E1-65CA8D154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140A81-7CC4-4686-96F0-AA10A9FCA2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52E4D6-9281-4C49-9E59-E064E22504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F80CE8-EB98-4DBC-8161-31AB61B1CE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B4BF51-6D41-4D49-A575-5249BC0E6A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2600DA-C366-4850-9084-0D6E9AE128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894351-7CD4-4D3D-B1FB-4D76B96F6B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3D7700-0F31-4D29-BE0F-B4ADD3A92B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B3C41A-4DF4-4B0C-B199-43744738C5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81211F-DF70-40D6-A4F0-3D07601839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8802B66-822A-4164-B979-ED1978EF39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B85E8-F290-4BF0-B137-1ECEBAC21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2C36B1-4F7A-4BB6-B0B4-D360622EBF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6D0E09-DB07-4FA6-BAB8-81F743639D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721EEF-EC9F-496A-A728-CE69E6FEDB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8F7E0D-5484-432B-A465-2E2678EDB2E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4BF4EA-60C3-4693-90DA-0077637761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F683AB-0F33-45F9-A11A-26F68E6CDB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00A8BA-9B7D-4275-937C-2E32FABF5F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A5C998-CE18-4EAA-8E92-43573040F8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B21432-EB68-4839-82D2-5751DC3B17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FB32B4-8CA2-4C09-BDDE-D886BAC13E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48523E-261B-4D8E-800C-6D1786B0C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3ACBC0-48C0-4126-BE50-E4AB4F1BD6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AC90D6-98F5-44FC-85A3-6C744C5AC88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B7BD04-AB08-44F6-8926-1F97D542FF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3BA962-1FA3-4690-9886-28999445723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E6CE53-86B6-4A25-9A2A-147608588F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375C7C-032E-49E1-9FB8-73A213F3F0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C260FA-5B00-445A-B514-067968F0A1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0D21A0-6C1F-4AB6-AF50-6E7C3A1B58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EE4A30-5256-44E7-A523-102380AEB5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17D252-B4ED-4C04-BBC3-FD01D6F46B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C2DD6-3724-4B0A-9589-C304191B3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52FD06-3F14-4440-9043-9B183D30A79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FFC5B8-A6EC-41E9-B02A-52EACFA638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F30EF8-BD9B-4765-8818-B79BB385D7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1F3C14-A23F-41C8-AE3E-2B0D996693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3319B4-156B-428C-BB08-E031458E71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5F651-9679-4F39-8FA1-9655C0FF00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67E080-293E-4072-B4B8-078A19AA5CC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C9DAC1-7143-4038-8421-39A352D5500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FF860-72FB-4122-820C-AD69D91187E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09460-F649-446F-BED0-CED774B78D2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101D50-5299-4090-B73A-996D453D39C4}" type="slidenum">
              <a:rPr b="0" lang="en-US"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3DA75C-D898-4B60-BFDF-69539D35D1C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7AECF2-0E74-42E8-94E0-C54482E35B5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s://www.fsis.usda.gov/wps/wcm/connect/673736b4-dd67-464f-a565-57f42fd984bd/Form-5420-5-General-Food-Defense-Plan.pdf?MOD=AJPERES" TargetMode="External"/><Relationship Id="rId2" Type="http://schemas.openxmlformats.org/officeDocument/2006/relationships/hyperlink" Target="https://www.fsis.usda.gov/wps/wcm/connect/673736b4-dd67-464f-a565-57f42fd984bd/Form-5420-5-General-Food-Defense-Plan.pdf?MOD=AJPERES" TargetMode="External"/><Relationship Id="rId3" Type="http://schemas.openxmlformats.org/officeDocument/2006/relationships/hyperlink" Target="https://www.fda.gov/Food/FoodDefense/ToolsEducationalMaterials/ucm349888.htm" TargetMode="Externa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83960"/>
            <a:ext cx="9144000" cy="63752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262626"/>
                </a:solidFill>
                <a:latin typeface="Calibri Light"/>
              </a:rPr>
              <a:t>Descripción</a:t>
            </a:r>
            <a:endParaRPr b="0" lang="en-US" sz="7200" spc="-1" strike="noStrike">
              <a:solidFill>
                <a:srgbClr val="404040"/>
              </a:solidFill>
              <a:latin typeface="Calibri Light"/>
            </a:endParaRPr>
          </a:p>
        </p:txBody>
      </p:sp>
      <p:sp>
        <p:nvSpPr>
          <p:cNvPr id="305" name="PlaceHolder 2"/>
          <p:cNvSpPr>
            <a:spLocks noGrp="1"/>
          </p:cNvSpPr>
          <p:nvPr>
            <p:ph type="subTitle"/>
          </p:nvPr>
        </p:nvSpPr>
        <p:spPr>
          <a:xfrm>
            <a:off x="1523880" y="5112000"/>
            <a:ext cx="9144000" cy="82440"/>
          </a:xfrm>
          <a:prstGeom prst="rect">
            <a:avLst/>
          </a:prstGeom>
          <a:noFill/>
          <a:ln w="0">
            <a:noFill/>
          </a:ln>
        </p:spPr>
        <p:txBody>
          <a:bodyPr lIns="0" rIns="0" tIns="0" bIns="0"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637052"/>
              </a:solidFill>
              <a:latin typeface="Calibri Light"/>
            </a:endParaRPr>
          </a:p>
        </p:txBody>
      </p:sp>
      <p:pic>
        <p:nvPicPr>
          <p:cNvPr id="306" name="Picture 2" descr=""/>
          <p:cNvPicPr/>
          <p:nvPr/>
        </p:nvPicPr>
        <p:blipFill>
          <a:blip r:embed="rId1"/>
          <a:stretch/>
        </p:blipFill>
        <p:spPr>
          <a:xfrm>
            <a:off x="2928960" y="184320"/>
            <a:ext cx="6334200" cy="4000320"/>
          </a:xfrm>
          <a:prstGeom prst="rect">
            <a:avLst/>
          </a:prstGeom>
          <a:ln w="0">
            <a:noFill/>
          </a:ln>
        </p:spPr>
      </p:pic>
      <p:sp>
        <p:nvSpPr>
          <p:cNvPr id="307" name="TextBox 3"/>
          <p:cNvSpPr/>
          <p:nvPr/>
        </p:nvSpPr>
        <p:spPr>
          <a:xfrm>
            <a:off x="1197000" y="4314960"/>
            <a:ext cx="9879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7200" spc="-1" strike="noStrike">
                <a:solidFill>
                  <a:srgbClr val="000000"/>
                </a:solidFill>
                <a:latin typeface="Calibri"/>
              </a:rPr>
              <a:t>Defensa </a:t>
            </a:r>
            <a:r>
              <a:rPr b="0" lang="es-ES" sz="7200" spc="-1" strike="noStrike">
                <a:solidFill>
                  <a:srgbClr val="000000"/>
                </a:solidFill>
                <a:latin typeface="Calibri"/>
              </a:rPr>
              <a:t>alimentaria</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96920" y="287280"/>
            <a:ext cx="10274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404040"/>
                </a:solidFill>
                <a:latin typeface="Calibri Light"/>
              </a:rPr>
              <a:t>Tanto la FDA como el FSIS tienen herramientas para desarrollar planes de defensa alimentaria</a:t>
            </a:r>
            <a:endParaRPr b="0" lang="en-US" sz="4300" spc="-1" strike="noStrike">
              <a:solidFill>
                <a:srgbClr val="404040"/>
              </a:solidFill>
              <a:latin typeface="Calibri Light"/>
            </a:endParaRPr>
          </a:p>
        </p:txBody>
      </p:sp>
      <p:sp>
        <p:nvSpPr>
          <p:cNvPr id="327" name=""/>
          <p:cNvSpPr txBox="1"/>
          <p:nvPr/>
        </p:nvSpPr>
        <p:spPr>
          <a:xfrm>
            <a:off x="1096920" y="1846440"/>
            <a:ext cx="10058400" cy="4022640"/>
          </a:xfrm>
          <a:prstGeom prst="rect">
            <a:avLst/>
          </a:prstGeom>
          <a:noFill/>
          <a:ln w="9360">
            <a:solidFill>
              <a:srgbClr val="ff0000"/>
            </a:solidFill>
            <a:miter/>
          </a:ln>
        </p:spPr>
        <p:txBody>
          <a:bodyPr lIns="0" rIns="0" anchor="t">
            <a:normAutofit/>
          </a:bodyPr>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998e3"/>
                </a:solidFill>
                <a:uFillTx/>
                <a:latin typeface="Calibri"/>
                <a:hlinkClick r:id="rId1"/>
              </a:rPr>
              <a:t>FSIS Food Defense Planners</a:t>
            </a:r>
            <a:endParaRPr b="0" lang="en-US" sz="2000" spc="-1" strike="noStrike">
              <a:solidFill>
                <a:srgbClr val="404040"/>
              </a:solidFill>
              <a:latin typeface="Calibri"/>
            </a:endParaRPr>
          </a:p>
          <a:p>
            <a:pPr>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998e3"/>
                </a:solidFill>
                <a:uFillTx/>
                <a:latin typeface="Calibri"/>
                <a:hlinkClick r:id="rId2"/>
              </a:rPr>
              <a:t>https://www.fsis.usda.gov/wps/wcm/connect/673736b4-dd67-464f-a565-57f42fd984bd/Form-5420-5-General-Food-Defense-Plan.pdf?MOD=AJPERES</a:t>
            </a:r>
            <a:r>
              <a:rPr b="0" lang="en-US" sz="2000" spc="-1" strike="noStrike">
                <a:solidFill>
                  <a:srgbClr val="404040"/>
                </a:solidFill>
                <a:latin typeface="Calibri"/>
              </a:rPr>
              <a:t>   </a:t>
            </a:r>
            <a:endParaRPr b="0" lang="en-US" sz="2000" spc="-1" strike="noStrike">
              <a:solidFill>
                <a:srgbClr val="404040"/>
              </a:solidFill>
              <a:latin typeface="Calibri"/>
            </a:endParaRPr>
          </a:p>
          <a:p>
            <a:pPr>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404040"/>
                </a:solidFill>
                <a:uFillTx/>
                <a:latin typeface="Calibri"/>
              </a:rPr>
              <a:t>FDA Food Defense Planner</a:t>
            </a:r>
            <a:endParaRPr b="0" lang="en-US" sz="2000" spc="-1" strike="noStrike">
              <a:solidFill>
                <a:srgbClr val="404040"/>
              </a:solidFill>
              <a:latin typeface="Calibri"/>
            </a:endParaRPr>
          </a:p>
          <a:p>
            <a:pPr>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998e3"/>
                </a:solidFill>
                <a:uFillTx/>
                <a:latin typeface="Calibri"/>
                <a:hlinkClick r:id="rId3"/>
              </a:rPr>
              <a:t>https://www.fda.gov/Food/FoodDefense/ToolsEducationalMaterials/ucm349888.htm</a:t>
            </a:r>
            <a:r>
              <a:rPr b="0" lang="en-US" sz="2000" spc="-1" strike="noStrike">
                <a:solidFill>
                  <a:srgbClr val="404040"/>
                </a:solidFill>
                <a:latin typeface="Calibri"/>
              </a:rPr>
              <a:t>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OBJETIVO PARA ENVÍOS DE PRODUCTOS IMPORTADOS DE ALTO RIESGO </a:t>
            </a:r>
            <a:endParaRPr b="0" lang="en-US" sz="4800" spc="-1" strike="noStrike">
              <a:solidFill>
                <a:srgbClr val="404040"/>
              </a:solidFill>
              <a:latin typeface="Calibri Light"/>
            </a:endParaRPr>
          </a:p>
        </p:txBody>
      </p:sp>
      <p:sp>
        <p:nvSpPr>
          <p:cNvPr id="329" name=""/>
          <p:cNvSpPr txBox="1"/>
          <p:nvPr/>
        </p:nvSpPr>
        <p:spPr>
          <a:xfrm>
            <a:off x="1096920" y="1846440"/>
            <a:ext cx="10058400" cy="4022640"/>
          </a:xfrm>
          <a:prstGeom prst="rect">
            <a:avLst/>
          </a:prstGeom>
          <a:noFill/>
          <a:ln w="9360">
            <a:solidFill>
              <a:srgbClr val="000000"/>
            </a:solidFill>
            <a:miter/>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El FSIS trabaja en el Centro de análisis comercial (CTAC por sus siglas en inglés) como la extensión operativa del gobierno de EE. UU. en la frontera, sirve para facilitar el intercambio de información y apalancar los recursos colectivos de las agencias gubernamentales participantes para prevenir, desalentar, interceptar e investigar infracciones a las Leyes de importación y exportación de los EE. UU..</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El personal del FSIS que trabaja en el CTAC proporciona información de objetivo específico a los contactos dentro del FSIS y el CBP para garantizar que los envíos identificados como específicos han sido analizados y controlados. Un envío que se considere de bajo riesgo aún puede ser objetivo del FSIS o el CBP por varias razone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ES" sz="2400" spc="-1" strike="noStrike">
                <a:solidFill>
                  <a:srgbClr val="404040"/>
                </a:solidFill>
                <a:latin typeface="Calibri Light"/>
              </a:rPr>
              <a:t>El FSIS tiene un Plan Estratégico y una meta para el año fiscal 2018 a nivel nacional para la defensa alimentaria: el 85% de los establecimientos mantienen la defensa de los alimentos</a:t>
            </a:r>
            <a:endParaRPr b="0" lang="en-US" sz="2400" spc="-1" strike="noStrike">
              <a:solidFill>
                <a:srgbClr val="404040"/>
              </a:solidFill>
              <a:latin typeface="Calibri Light"/>
            </a:endParaRPr>
          </a:p>
        </p:txBody>
      </p:sp>
      <p:pic>
        <p:nvPicPr>
          <p:cNvPr id="309" name="Content Placeholder 4" descr=""/>
          <p:cNvPicPr/>
          <p:nvPr/>
        </p:nvPicPr>
        <p:blipFill>
          <a:blip r:embed="rId1"/>
          <a:stretch/>
        </p:blipFill>
        <p:spPr>
          <a:xfrm>
            <a:off x="1096920" y="1847880"/>
            <a:ext cx="10064880" cy="402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96920" y="287280"/>
            <a:ext cx="10058400" cy="1449360"/>
          </a:xfrm>
          <a:prstGeom prst="rect">
            <a:avLst/>
          </a:prstGeom>
          <a:solidFill>
            <a:srgbClr val="fbe6ce"/>
          </a:solid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404040"/>
                </a:solidFill>
                <a:latin typeface="Calibri Light"/>
              </a:rPr>
              <a:t>Defensa alimentaria internacional y el FSIS</a:t>
            </a:r>
            <a:br>
              <a:rPr sz="4800"/>
            </a:br>
            <a:endParaRPr b="0" lang="en-US" sz="4800" spc="-1" strike="noStrike">
              <a:solidFill>
                <a:srgbClr val="404040"/>
              </a:solidFill>
              <a:latin typeface="Calibri Light"/>
            </a:endParaRPr>
          </a:p>
        </p:txBody>
      </p:sp>
      <p:sp>
        <p:nvSpPr>
          <p:cNvPr id="311" name=""/>
          <p:cNvSpPr txBox="1"/>
          <p:nvPr/>
        </p:nvSpPr>
        <p:spPr>
          <a:xfrm>
            <a:off x="1096560" y="1846440"/>
            <a:ext cx="4938840" cy="4022640"/>
          </a:xfrm>
          <a:prstGeom prst="rect">
            <a:avLst/>
          </a:prstGeom>
          <a:noFill/>
          <a:ln w="9360">
            <a:solidFill>
              <a:srgbClr val="000000"/>
            </a:solidFill>
            <a:miter/>
          </a:ln>
        </p:spPr>
        <p:txBody>
          <a:bodyPr lIns="0" rIns="0" anchor="t">
            <a:normAutofit/>
          </a:bodyPr>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040"/>
                </a:solidFill>
                <a:latin typeface="Calibri"/>
              </a:rPr>
              <a:t>Además de garantizar que los productos nacionales e importados estén a salvo de la adulteración intencional, el FSIS también apoya los esfuerzos de divulgación internacional sobre la defensa alimentaria. Estos esfuerzos ayudan a institucionalizar las medidas de defensa alimentaria y alientan el reconocimiento mundial de la defensa alimentaria para prevenir incidentes que podrían tener consecuencias sociales, económicas y de salud pública graves y negativas. La globalización del suministro de alimentos hace que el alcance internacional para la defensa alimentaria sea una prioridad para el FSIS.</a:t>
            </a:r>
            <a:endParaRPr b="0" lang="en-US" sz="17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libri"/>
            </a:endParaRPr>
          </a:p>
        </p:txBody>
      </p:sp>
      <p:sp>
        <p:nvSpPr>
          <p:cNvPr id="312" name=""/>
          <p:cNvSpPr txBox="1"/>
          <p:nvPr/>
        </p:nvSpPr>
        <p:spPr>
          <a:xfrm>
            <a:off x="6218280" y="1846440"/>
            <a:ext cx="4937040" cy="4022640"/>
          </a:xfrm>
          <a:prstGeom prst="rect">
            <a:avLst/>
          </a:prstGeom>
          <a:noFill/>
          <a:ln w="9360">
            <a:solidFill>
              <a:srgbClr val="000000"/>
            </a:solidFill>
            <a:miter/>
          </a:ln>
        </p:spPr>
        <p:txBody>
          <a:bodyPr lIns="0" rIns="0" anchor="t">
            <a:normAutofit/>
          </a:bodyPr>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040"/>
                </a:solidFill>
                <a:latin typeface="Calibri"/>
              </a:rPr>
              <a:t>Los éxitos reconocidos de estos esfuerzos incluyen:</a:t>
            </a:r>
            <a:endParaRPr b="0" lang="en-US" sz="1700" spc="-1" strike="noStrike">
              <a:solidFill>
                <a:srgbClr val="404040"/>
              </a:solidFill>
              <a:latin typeface="Calibri"/>
            </a:endParaRPr>
          </a:p>
          <a:p>
            <a:pPr marL="90360" indent="-90360">
              <a:lnSpc>
                <a:spcPct val="7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040"/>
                </a:solidFill>
                <a:latin typeface="Calibri"/>
              </a:rPr>
              <a:t>Aumentos significativos en el número de instalaciones internacionales que implementan la defensa alimentaria.</a:t>
            </a:r>
            <a:endParaRPr b="0" lang="en-US" sz="1700" spc="-1" strike="noStrike">
              <a:solidFill>
                <a:srgbClr val="404040"/>
              </a:solidFill>
              <a:latin typeface="Calibri"/>
            </a:endParaRPr>
          </a:p>
          <a:p>
            <a:pPr marL="90360" indent="-90360">
              <a:lnSpc>
                <a:spcPct val="7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040"/>
                </a:solidFill>
                <a:latin typeface="Calibri"/>
              </a:rPr>
              <a:t>Incorporación de la defensa alimentaria en los programas académicos de las universidades de todo el mundo en los niveles de grado, postgrado y niveles de educación avanzada.</a:t>
            </a:r>
            <a:endParaRPr b="0" lang="en-US" sz="1700" spc="-1" strike="noStrike">
              <a:solidFill>
                <a:srgbClr val="404040"/>
              </a:solidFill>
              <a:latin typeface="Calibri"/>
            </a:endParaRPr>
          </a:p>
          <a:p>
            <a:pPr marL="90360" indent="-90360">
              <a:lnSpc>
                <a:spcPct val="7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040"/>
                </a:solidFill>
                <a:latin typeface="Calibri"/>
              </a:rPr>
              <a:t>Desarrollo de materiales de capacitación en defensa alimentaria específicos para cada país por parte de las instituciones de contraparte.</a:t>
            </a:r>
            <a:endParaRPr b="0" lang="en-US" sz="1700" spc="-1" strike="noStrike">
              <a:solidFill>
                <a:srgbClr val="404040"/>
              </a:solidFill>
              <a:latin typeface="Calibri"/>
            </a:endParaRPr>
          </a:p>
          <a:p>
            <a:pPr marL="90360" indent="-90360">
              <a:lnSpc>
                <a:spcPct val="7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040"/>
                </a:solidFill>
                <a:latin typeface="Calibri"/>
              </a:rPr>
              <a:t>Desarrollo de facilitadores que ahora son considerados expertos en liderar los esfuerzos de defensa alimentaria en su país / región.</a:t>
            </a:r>
            <a:endParaRPr b="0" lang="en-US" sz="1700" spc="-1" strike="noStrike">
              <a:solidFill>
                <a:srgbClr val="404040"/>
              </a:solidFill>
              <a:latin typeface="Calibri"/>
            </a:endParaRPr>
          </a:p>
          <a:p>
            <a:pPr marL="90360" indent="-90360">
              <a:lnSpc>
                <a:spcPct val="7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04040"/>
                </a:solidFill>
                <a:latin typeface="Calibri"/>
              </a:rPr>
              <a:t>Establecimiento de comités interinstitucionales para el desarrollo de programas de defensa alimentaria.</a:t>
            </a:r>
            <a:endParaRPr b="0" lang="en-US" sz="17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04600" y="1828440"/>
            <a:ext cx="2870280" cy="1739880"/>
          </a:xfrm>
          <a:prstGeom prst="rect">
            <a:avLst/>
          </a:prstGeom>
          <a:noFill/>
          <a:ln w="0">
            <a:noFill/>
          </a:ln>
        </p:spPr>
        <p:txBody>
          <a:bodyPr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Light"/>
              </a:rPr>
              <a:t>Defensa alimentaria</a:t>
            </a:r>
            <a:br>
              <a:rPr sz="3200"/>
            </a:br>
            <a:r>
              <a:rPr b="1" lang="es-ES" sz="3200" spc="-1" strike="noStrike">
                <a:solidFill>
                  <a:srgbClr val="000000"/>
                </a:solidFill>
                <a:latin typeface="Calibri Light"/>
              </a:rPr>
              <a:t>FDA</a:t>
            </a:r>
            <a:br>
              <a:rPr sz="3200"/>
            </a:br>
            <a:endParaRPr b="0" lang="en-US" sz="3200" spc="-1" strike="noStrike">
              <a:solidFill>
                <a:srgbClr val="404040"/>
              </a:solidFill>
              <a:latin typeface="Calibri Light"/>
            </a:endParaRPr>
          </a:p>
        </p:txBody>
      </p:sp>
      <p:sp>
        <p:nvSpPr>
          <p:cNvPr id="314" name=""/>
          <p:cNvSpPr txBox="1"/>
          <p:nvPr/>
        </p:nvSpPr>
        <p:spPr>
          <a:xfrm>
            <a:off x="5198760" y="1413000"/>
            <a:ext cx="2925720" cy="4363920"/>
          </a:xfrm>
          <a:prstGeom prst="rect">
            <a:avLst/>
          </a:prstGeom>
          <a:solidFill>
            <a:srgbClr val="fbe6ce"/>
          </a:solidFill>
          <a:ln w="9360">
            <a:solidFill>
              <a:srgbClr val="000000"/>
            </a:solidFill>
            <a:miter/>
          </a:ln>
        </p:spPr>
        <p:txBody>
          <a:bodyPr lIns="0" rIns="0" anchor="t">
            <a:normAutofit/>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404040"/>
                </a:solidFill>
                <a:latin typeface="Calibri"/>
              </a:rPr>
              <a:t>¿</a:t>
            </a:r>
            <a:r>
              <a:rPr b="1" lang="es-ES" sz="1200" spc="-1" strike="noStrike">
                <a:solidFill>
                  <a:srgbClr val="404040"/>
                </a:solidFill>
                <a:latin typeface="Calibri"/>
              </a:rPr>
              <a:t>Cómo se aplica la defensa alimentaria a usted?</a:t>
            </a:r>
            <a:endParaRPr b="0" lang="en-US" sz="12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404040"/>
                </a:solidFill>
                <a:latin typeface="Calibri"/>
              </a:rPr>
              <a:t>La FDA publicó la Reglamentación final de las estrategias de mitigación para proteger los alimentos contra la adulteración intencional (regla IA) en mayo de 2016, que exige que las instalaciones cubiertas tomen medidas preventivas para la defensa alimentaria y documenten estas medidas en un plan de defensa alimentaria.</a:t>
            </a:r>
            <a:endParaRPr b="0" lang="en-US" sz="13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404040"/>
                </a:solidFill>
                <a:latin typeface="Calibri"/>
              </a:rPr>
              <a:t>Uno de los componentes clave de la implementación de un plan de defensa alimentaria eficaz es la implementación adecuada de estrategias de mitigación para disminuir la posibilidad de un ataque exitoso en el suministro de alimentos.</a:t>
            </a:r>
            <a:endParaRPr b="0" lang="en-US" sz="13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404040"/>
                </a:solidFill>
                <a:latin typeface="Calibri"/>
              </a:rPr>
              <a:t>Independientemente de la razón por la que esté tomando esta capacitación, la conciencia de la defensa alimentaria depende en gran medida de la atención del empleado de primera línea. ¡Usted juega un papel importante en la defensa alimentaria!</a:t>
            </a:r>
            <a:endParaRPr b="0" lang="en-US" sz="13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p:txBody>
      </p:sp>
      <p:sp>
        <p:nvSpPr>
          <p:cNvPr id="315" name=""/>
          <p:cNvSpPr txBox="1"/>
          <p:nvPr/>
        </p:nvSpPr>
        <p:spPr>
          <a:xfrm>
            <a:off x="8451360" y="1413000"/>
            <a:ext cx="2925720" cy="4363920"/>
          </a:xfrm>
          <a:prstGeom prst="rect">
            <a:avLst/>
          </a:prstGeom>
          <a:solidFill>
            <a:srgbClr val="fbe6ce"/>
          </a:solidFill>
          <a:ln w="9360">
            <a:solidFill>
              <a:srgbClr val="000000"/>
            </a:solidFill>
            <a:miter/>
          </a:ln>
        </p:spPr>
        <p:txBody>
          <a:bodyPr lIns="0" rIns="0" anchor="t">
            <a:normAutofit/>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04040"/>
                </a:solidFill>
                <a:latin typeface="Calibri"/>
              </a:rPr>
              <a:t>Concepto de la granja a la mesa</a:t>
            </a:r>
            <a:endParaRPr b="0" lang="en-US" sz="13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404040"/>
                </a:solidFill>
                <a:latin typeface="Calibri"/>
              </a:rPr>
              <a:t>La defensa alimentaria tiene como objetivo proteger el suministro de alimentos de la adulteración intencional de la granja a la mesa.</a:t>
            </a:r>
            <a:endParaRPr b="0" lang="en-US" sz="10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404040"/>
                </a:solidFill>
                <a:latin typeface="Calibri"/>
              </a:rPr>
              <a:t>Las personas que intentan adulterar el suministro de alimentos para causar daños al público pueden tener acceso a los alimentos en múltiples puntos del ciclo de vida de los alimentos, tal como durante el cultivo, la cosecha, la fabricación, el procesamiento, el empaque, la conservación, el transporte y la distribución. Porque el ciclo vital del alimento implica varias etapas en las cuales el alimento puede ser accesible y por lo tanto potencialmente susceptible a la adulteración intencional, la defensa alimentaria debe considerar todas las etapas del ciclo vital del alimento de la granja-a-la-mesa. Los requisitos de la regla del IA se centran en las partes más vulnerables de la granja a la mesa de manera continua, pero el conocimiento y la vigilancia en todas las etapas puede ser beneficioso en la protección de nuestro suministro de alimentos contra la adulteración internacional. </a:t>
            </a:r>
            <a:endParaRPr b="0" lang="en-US" sz="10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404040"/>
                </a:solidFill>
                <a:latin typeface="Calibri"/>
              </a:rPr>
              <a:t>Los empleados de primera línea en cada etapa del ciclo de vida del alimento son la primera línea de defensa contra la adulteración intencional en esa etapa. Los empleados de primera línea pueden incluir a aquellos en la granja.</a:t>
            </a:r>
            <a:endParaRPr b="0" lang="en-US" sz="10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1096920" y="1736280"/>
            <a:ext cx="10058400" cy="4429080"/>
          </a:xfrm>
          <a:prstGeom prst="rect">
            <a:avLst/>
          </a:prstGeom>
          <a:noFill/>
          <a:ln w="9360">
            <a:solidFill>
              <a:srgbClr val="000000"/>
            </a:solidFill>
            <a:miter/>
          </a:ln>
        </p:spPr>
        <p:txBody>
          <a:bodyPr lIns="0" rIns="0" anchor="t">
            <a:normAutofit/>
          </a:bodyPr>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El propietario, operador o agente responsable de una instalación alimentaria nacional o extranjera que fabrica / procesa, empaca o almacena alimentos para consumo en los Estados Unidos debe implementar un plan de defensa alimentaria según la sección 415 de la Ley Federal de Alimentos, Medicamentos y Cosméticos, a menos que se aplique una de las exenciones del artículo 21 CFR121.5.</a:t>
            </a:r>
            <a:endParaRPr b="0" lang="en-US" sz="14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Un plan de defensa alimentaria según la FDA será el siguiente;</a:t>
            </a:r>
            <a:endParaRPr b="0" lang="en-US" sz="14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a) Requisito para un plan de defensa alimentaria. Debe preparar, o haber preparado, e implementar un plan escrito de defensa alimentaria. </a:t>
            </a:r>
            <a:endParaRPr b="0" lang="en-US" sz="14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b) Contenido de un plan de defensa alimentaria. El plan escrito de defensa alimentaria debe incluir:</a:t>
            </a:r>
            <a:endParaRPr b="0" lang="en-US" sz="1400" spc="-1" strike="noStrike">
              <a:solidFill>
                <a:srgbClr val="404040"/>
              </a:solidFill>
              <a:latin typeface="Calibri"/>
            </a:endParaRPr>
          </a:p>
          <a:p>
            <a:pPr marL="90360" indent="-9036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  </a:t>
            </a:r>
            <a:r>
              <a:rPr b="0" lang="es-ES" sz="1400" spc="-1" strike="noStrike">
                <a:solidFill>
                  <a:srgbClr val="404040"/>
                </a:solidFill>
                <a:latin typeface="Calibri"/>
              </a:rPr>
              <a:t>(1) La evaluación de vulnerabilidad por escrito, incluidas las explicaciones requeridas, para identificar las vulnerabilidades significativas y</a:t>
            </a:r>
            <a:endParaRPr b="0" lang="en-US" sz="1400" spc="-1" strike="noStrike">
              <a:solidFill>
                <a:srgbClr val="404040"/>
              </a:solidFill>
              <a:latin typeface="Calibri"/>
            </a:endParaRPr>
          </a:p>
          <a:p>
            <a:pPr marL="90360" indent="-90360">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   </a:t>
            </a:r>
            <a:r>
              <a:rPr b="0" lang="es-ES" sz="1400" spc="-1" strike="noStrike">
                <a:solidFill>
                  <a:srgbClr val="404040"/>
                </a:solidFill>
                <a:latin typeface="Calibri"/>
              </a:rPr>
              <a:t>pasos de proceso prácticos según lo requiere 121.130 (c);</a:t>
            </a:r>
            <a:endParaRPr b="0" lang="en-US" sz="14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2) Las estrategias de mitigación escritas, incluidas las explicaciones requeridas, según lo establecido por 121.135 (b);</a:t>
            </a:r>
            <a:endParaRPr b="0" lang="en-US" sz="14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3) Los procedimientos escritos para el monitoreo de la defensa alimentaria de la implementación de las estrategias de mitigación según lo requerido por 121.140 (a); </a:t>
            </a:r>
            <a:endParaRPr b="0" lang="en-US" sz="14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4) Los procedimientos escritos para las acciones correctivas de la defensa alimentaria según lo requiere 121.145 (a) (1); y</a:t>
            </a:r>
            <a:endParaRPr b="0" lang="en-US" sz="14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5) Los procedimientos escritos para la verificación de la defensa alimentaria según lo requerido por 121.150 (b). </a:t>
            </a:r>
            <a:endParaRPr b="0" lang="en-US" sz="14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c) Registros. El plan de defensa alimentaria que se requiere en esta sección es un registro que está sujeto a los requisitos de la subsección D de esta parte.</a:t>
            </a:r>
            <a:endParaRPr b="0" lang="en-US" sz="1400" spc="-1" strike="noStrike">
              <a:solidFill>
                <a:srgbClr val="404040"/>
              </a:solidFill>
              <a:latin typeface="Calibri"/>
            </a:endParaRPr>
          </a:p>
          <a:p>
            <a:pPr marL="90360" indent="-90360">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
        <p:nvSpPr>
          <p:cNvPr id="317" name="PlaceHolder 1"/>
          <p:cNvSpPr>
            <a:spLocks noGrp="1"/>
          </p:cNvSpPr>
          <p:nvPr>
            <p:ph type="title"/>
          </p:nvPr>
        </p:nvSpPr>
        <p:spPr>
          <a:xfrm>
            <a:off x="1096920" y="287280"/>
            <a:ext cx="10058400" cy="1449360"/>
          </a:xfrm>
          <a:prstGeom prst="rect">
            <a:avLst/>
          </a:prstGeom>
          <a:solidFill>
            <a:srgbClr val="ffc000"/>
          </a:solid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404040"/>
                </a:solidFill>
                <a:latin typeface="Calibri Light"/>
              </a:rPr>
              <a:t>Requisitos de la FDA</a:t>
            </a:r>
            <a:endParaRPr b="0" lang="en-US" sz="4800" spc="-1" strike="noStrike">
              <a:solidFill>
                <a:srgbClr val="404040"/>
              </a:solidFill>
              <a:latin typeface="Calibri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63640" y="1728360"/>
            <a:ext cx="3416400" cy="4078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404040"/>
                </a:solidFill>
                <a:latin typeface="Calibri Light"/>
              </a:rPr>
              <a:t>Identificación de situaciones sospechosas</a:t>
            </a:r>
            <a:br>
              <a:rPr sz="4300"/>
            </a:br>
            <a:br>
              <a:rPr sz="4300"/>
            </a:br>
            <a:r>
              <a:rPr b="0" lang="es-ES" sz="1200" spc="-1" strike="noStrike">
                <a:solidFill>
                  <a:srgbClr val="000000"/>
                </a:solidFill>
                <a:latin typeface="Calibri Light"/>
              </a:rPr>
              <a:t>Es imperativo que una vez que un empleado de primera línea observe una situación inusual o sospechosa, se informe a la administración de inmediato. Pero, ¿a quién contactar? Su empresa debe establecer los procedimientos a seguir en el plan de defensa alimentaria de la instalación e incluir quién debe ser notificado cuando se observe una posible amenaza.</a:t>
            </a:r>
            <a:endParaRPr b="0" lang="en-US" sz="1200" spc="-1" strike="noStrike">
              <a:solidFill>
                <a:srgbClr val="404040"/>
              </a:solidFill>
              <a:latin typeface="Calibri Light"/>
            </a:endParaRPr>
          </a:p>
        </p:txBody>
      </p:sp>
      <p:pic>
        <p:nvPicPr>
          <p:cNvPr id="319" name="Rectangle 2" descr=""/>
          <p:cNvPicPr/>
          <p:nvPr/>
        </p:nvPicPr>
        <p:blipFill>
          <a:blip r:embed="rId1"/>
          <a:stretch/>
        </p:blipFill>
        <p:spPr>
          <a:xfrm>
            <a:off x="5041800" y="433440"/>
            <a:ext cx="6693120" cy="592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2000"/>
            </a:br>
            <a:br>
              <a:rPr sz="2000"/>
            </a:br>
            <a:br>
              <a:rPr sz="2000"/>
            </a:br>
            <a:br>
              <a:rPr sz="2000"/>
            </a:br>
            <a:br>
              <a:rPr sz="2000"/>
            </a:br>
            <a:r>
              <a:rPr b="1" lang="es-ES" sz="2000" spc="-1" strike="noStrike">
                <a:solidFill>
                  <a:srgbClr val="404040"/>
                </a:solidFill>
                <a:latin typeface="Calibri Light"/>
              </a:rPr>
              <a:t>A continuación se incluye una lista con algunas estrategias de mitigación que podrían ayudar a aliviar las vulnerabilidades frecuentemente asociadas con los procesos de producción.</a:t>
            </a:r>
            <a:r>
              <a:rPr b="0" lang="es-ES" sz="1800" spc="-1" strike="noStrike">
                <a:solidFill>
                  <a:srgbClr val="404040"/>
                </a:solidFill>
                <a:latin typeface="Calibri Light"/>
              </a:rPr>
              <a:t> </a:t>
            </a:r>
            <a:r>
              <a:rPr b="1" lang="es-ES" sz="2000" spc="-1" strike="noStrike">
                <a:solidFill>
                  <a:srgbClr val="404040"/>
                </a:solidFill>
                <a:latin typeface="Calibri Light"/>
              </a:rPr>
              <a:t>Se recomienda que las empresas seleccionen las mitigaciones adecuadas que mejor se adapten a sus necesidades.</a:t>
            </a:r>
            <a:br>
              <a:rPr sz="2000"/>
            </a:br>
            <a:endParaRPr b="0" lang="en-US" sz="2000" spc="-1" strike="noStrike">
              <a:solidFill>
                <a:srgbClr val="404040"/>
              </a:solidFill>
              <a:latin typeface="Calibri Light"/>
            </a:endParaRPr>
          </a:p>
        </p:txBody>
      </p:sp>
      <p:pic>
        <p:nvPicPr>
          <p:cNvPr id="321" name="Content Placeholder 3" descr=""/>
          <p:cNvPicPr/>
          <p:nvPr/>
        </p:nvPicPr>
        <p:blipFill>
          <a:blip r:embed="rId1"/>
          <a:stretch/>
        </p:blipFill>
        <p:spPr>
          <a:xfrm>
            <a:off x="792000" y="1682640"/>
            <a:ext cx="10577520" cy="452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04040"/>
                </a:solidFill>
                <a:latin typeface="Calibri Light"/>
              </a:rPr>
              <a:t>Puntos de entrada de fácil acceso</a:t>
            </a:r>
            <a:br>
              <a:rPr sz="3600"/>
            </a:br>
            <a:endParaRPr b="0" lang="en-US" sz="3600" spc="-1" strike="noStrike">
              <a:solidFill>
                <a:srgbClr val="404040"/>
              </a:solidFill>
              <a:latin typeface="Calibri Light"/>
            </a:endParaRPr>
          </a:p>
        </p:txBody>
      </p:sp>
      <p:pic>
        <p:nvPicPr>
          <p:cNvPr id="323" name="Content Placeholder 3" descr=""/>
          <p:cNvPicPr/>
          <p:nvPr/>
        </p:nvPicPr>
        <p:blipFill>
          <a:blip r:embed="rId1"/>
          <a:stretch/>
        </p:blipFill>
        <p:spPr>
          <a:xfrm>
            <a:off x="1060560" y="1468440"/>
            <a:ext cx="10113840" cy="4402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450360"/>
            <a:ext cx="10515600" cy="135252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Light"/>
              </a:rPr>
              <a:t>La Reglamentación de Transporte de la FDA, vigente a partir de junio de 2016, se aplica a personas, por ejemplo, transportistas, en otros países que envían alimentos a los Estados Unidos si esos alimentos se consumen o distribuyen en los Estados Unidos.</a:t>
            </a:r>
            <a:br>
              <a:rPr sz="2000"/>
            </a:br>
            <a:endParaRPr b="0" lang="en-US" sz="2000" spc="-1" strike="noStrike">
              <a:solidFill>
                <a:srgbClr val="404040"/>
              </a:solidFill>
              <a:latin typeface="Calibri Light"/>
            </a:endParaRPr>
          </a:p>
        </p:txBody>
      </p:sp>
      <p:sp>
        <p:nvSpPr>
          <p:cNvPr id="325" name=""/>
          <p:cNvSpPr txBox="1"/>
          <p:nvPr/>
        </p:nvSpPr>
        <p:spPr>
          <a:xfrm>
            <a:off x="838080" y="1802880"/>
            <a:ext cx="10515600" cy="4373640"/>
          </a:xfrm>
          <a:prstGeom prst="rect">
            <a:avLst/>
          </a:prstGeom>
          <a:solidFill>
            <a:srgbClr val="f5ddd2"/>
          </a:solidFill>
          <a:ln w="9360">
            <a:solidFill>
              <a:srgbClr val="000000"/>
            </a:solidFill>
            <a:miter/>
          </a:ln>
        </p:spPr>
        <p:txBody>
          <a:bodyPr lIns="0" rIns="0" anchor="t">
            <a:normAutofit/>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040"/>
                </a:solidFill>
                <a:latin typeface="Calibri"/>
              </a:rPr>
              <a:t> </a:t>
            </a:r>
            <a:r>
              <a:rPr b="0" lang="es-ES" sz="1800" spc="-1" strike="noStrike">
                <a:solidFill>
                  <a:srgbClr val="404040"/>
                </a:solidFill>
                <a:latin typeface="Calibri"/>
              </a:rPr>
              <a:t>La reglamentación establecería específicamente requisitos para:</a:t>
            </a:r>
            <a:endParaRPr b="0" lang="en-US" sz="18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404040"/>
                </a:solidFill>
                <a:latin typeface="Calibri"/>
              </a:rPr>
              <a:t>Vehículos y equipo de transporte</a:t>
            </a:r>
            <a:r>
              <a:rPr b="0" lang="es-ES" sz="1800" spc="-1" strike="noStrike">
                <a:solidFill>
                  <a:srgbClr val="404040"/>
                </a:solidFill>
                <a:latin typeface="Calibri"/>
              </a:rPr>
              <a:t>: El diseño y mantenimiento de vehículos y equipo de transporte para garantizar que los alimentos transportados no se vuelvan inseguros. Por ejemplo, deben ser apropiados y adecuadamente limpiables para el uso previsto y poder mantener las temperaturas necesarias para el transporte seguro de alimentos.</a:t>
            </a:r>
            <a:endParaRPr b="0" lang="en-US" sz="18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404040"/>
                </a:solidFill>
                <a:latin typeface="Calibri"/>
              </a:rPr>
              <a:t>Operaciones de transporte</a:t>
            </a:r>
            <a:r>
              <a:rPr b="0" lang="es-ES" sz="1800" spc="-1" strike="noStrike">
                <a:solidFill>
                  <a:srgbClr val="404040"/>
                </a:solidFill>
                <a:latin typeface="Calibri"/>
              </a:rPr>
              <a:t>: Las medidas tomadas durante el transporte para garantizar la inocuidad de los alimentos, tales como los controles de temperatura adecuados, evitar que la contaminación de los alimentos listos para consumir toquen los alimentos crudos, la protección de los alimentos contra la contaminación por productos no alimentarios en la misma carga o carga anterior, y la protección de los alimentos por contacto cruzado, es decir, la incorporación no intencional de un alérgeno.</a:t>
            </a:r>
            <a:endParaRPr b="0" lang="en-US" sz="18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404040"/>
                </a:solidFill>
                <a:latin typeface="Calibri"/>
              </a:rPr>
              <a:t>Capacitación</a:t>
            </a:r>
            <a:r>
              <a:rPr b="0" lang="es-ES" sz="1800" spc="-1" strike="noStrike">
                <a:solidFill>
                  <a:srgbClr val="404040"/>
                </a:solidFill>
                <a:latin typeface="Calibri"/>
              </a:rPr>
              <a:t>: Capacitación del personal de transporte en prácticas de transporte sanitario y documentación</a:t>
            </a:r>
            <a:r>
              <a:rPr b="0" lang="es-ES" sz="1300" spc="-1" strike="noStrike">
                <a:solidFill>
                  <a:srgbClr val="404040"/>
                </a:solidFill>
                <a:latin typeface="Calibri"/>
              </a:rPr>
              <a:t>. </a:t>
            </a:r>
            <a:r>
              <a:rPr b="0" lang="es-ES" sz="1800" spc="-1" strike="noStrike">
                <a:solidFill>
                  <a:srgbClr val="404040"/>
                </a:solidFill>
                <a:latin typeface="Calibri"/>
              </a:rPr>
              <a:t>Se requiere esta capacitación cuando el transportista y la empresa transportadora acuerdan que el transportista es responsable de las condiciones sanitarias durante el transporte.</a:t>
            </a:r>
            <a:endParaRPr b="0" lang="en-US" sz="18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404040"/>
                </a:solidFill>
                <a:latin typeface="Calibri"/>
              </a:rPr>
              <a:t>Registros</a:t>
            </a:r>
            <a:r>
              <a:rPr b="0" lang="es-ES" sz="1800" spc="-1" strike="noStrike">
                <a:solidFill>
                  <a:srgbClr val="404040"/>
                </a:solidFill>
                <a:latin typeface="Calibri"/>
              </a:rPr>
              <a:t>: Mantenimiento de registros de procedimientos escritos, acuerdos y capacitación (requeridos por los transportistas). El tiempo de conservación necesario para estos registros depende del tipo de registro y cuando se produjo la operación, pero no excede los 12 meses. </a:t>
            </a: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29T17:57:37Z</dcterms:created>
  <dc:creator>Len Lang</dc:creator>
  <dc:description/>
  <dc:language>en-US</dc:language>
  <cp:lastModifiedBy>Monica</cp:lastModifiedBy>
  <dcterms:modified xsi:type="dcterms:W3CDTF">2019-02-01T13:30:44Z</dcterms:modified>
  <cp:revision>81</cp:revision>
  <dc:subject/>
  <dc:title>PowerPoint Presentation</dc:title>
</cp:coreProperties>
</file>