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5C63E6-A0CF-47E4-9A14-06B04149D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25562-6087-4019-BFC1-5C67C832C3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90D406-F7D6-4DDA-9FAF-F3552DF828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7D4D7D-9EDC-42AD-9083-56246379B5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78FDD9-4055-411C-943E-F4199B311C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E87D6-FB75-4B25-AA08-0306DC70DD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01B1B5-82C1-4793-A58F-213AC896A7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33C8C2-9BAD-400D-986F-B43D4348A1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2DA5F1-6F70-432F-85F9-A6C41DFAED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359951-41DA-4D2F-B23D-7D027DEAE6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ABACA5-8348-4F7A-A36D-D4C9CC387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C5877-FDB6-471F-B175-1914D6E1B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09D3D-E906-4BDA-B25C-8DFF1EFBE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41BD7-9676-4EA3-B957-09A47D1AE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0375B-FD3B-4617-A610-C40AA2BD34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BC4B61-6F50-46EF-9C0B-4187F08018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EC2DB7-D012-4779-AEE8-CA832DFAE3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E608BD-98EA-4E88-ABC4-F38FD45105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6C7276-80C5-4B8E-8F5E-722834F4CD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C4501A-ABAB-44F9-BFF0-F3765B5CDB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A821E2-213F-4E04-8BA1-8C05B841F6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BC80B9-0AB1-4706-A810-D390D3455E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EB5F6-762F-4BB2-A2A1-7074C153A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8653BD-CC86-4F03-9464-C04F161B2D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885445-19CB-422F-8E33-C606987FA2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6E9AC1-CB5A-4A9C-9339-E77FA452D8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006FD9-53B4-4607-9CA4-8048A2B6D3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23D9A6-E048-4E87-BEEC-61000BF253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E34B313-D4B3-4C2C-A0B6-610418DEAC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590366-21DC-4B96-9E7A-11FF1BECA3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F46C47D-3FC0-4F3A-B9F6-A96C89435A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D8723F-2D51-47CC-8FC0-D5B8532C09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179892-24E5-4E6F-8F42-B49A89E7C3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04071-D85E-4627-8AA4-A0F6D7510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ADBF8F-66A6-455E-A0EF-CD2E77C152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E3CA5F-3712-4D62-8838-39B7DD15A2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28604B-B0AB-4C00-9776-A8E1B5C09F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6FC9F7-8FE4-4665-A592-5D562CE6F0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D7C718-57D5-4F56-B73E-5FF0DE427D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2EBD4F-2E13-4F19-842B-CEE2A7F166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A3D893-BD9F-49DC-B295-CDC04B9C24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B64091-99CB-4A87-83B4-B3994F7839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921DE0-D79B-46B0-B444-36D19825BD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283735-8E15-49F7-8ACC-0EB2099F22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333DD-6C64-44A4-890F-F4EF63420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9431CB-1AA6-44DB-A151-E89E72944F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2F4D95-0345-4EA7-BD01-F12240BF83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478A3C-A2AB-4310-AFE2-6478310CDF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93D7FA-A3C8-45E3-A720-A2C738379F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DFAF0F-1675-4FBA-9FE2-F89E5330CB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0ED4F3-4C92-4DF8-88A6-7C04F1D03B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FDA39C-1D9C-4311-95AE-B4C66FD5F1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502906-361E-4501-90AA-49429C3A18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6F45AA-6950-45C6-B562-DE9497ED3C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373BD1-01FD-4FA0-83E5-EFF6BE76E4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1F283-61CA-4E8F-8B7F-28F44F8D2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92DC32C-8B86-4C25-A72E-72B99B35F2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937B99-E70B-4007-A6FB-EE186F4C4D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B6E447-335B-476F-8F4C-F46D723D9C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760D1E-56D4-4D4B-BBB3-CD52FAA163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2D863A-ED3A-4A3B-A97B-8FA2A99620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7C7741-3C4B-409A-BFBC-6CAA506D5A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C24CC61-B207-479B-8A62-8C9D12A177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7A34CE-61AB-4875-BEE7-F92A189A99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4F38C4-5380-4250-9DB9-3BC7AA4A0A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6A67FB-DED7-4092-BF3B-701150011D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B3E50-C80F-45AC-8DC6-7C6226435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30CD4D-C1D0-4B84-B274-870A6579E4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A2AAF3-498C-4056-A708-4E7DF4B5BE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1746E2-FF73-4B23-8C03-AF9C5CB2DA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7F4067-D8AD-4D90-901D-2AA848A2D3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113666-7DF0-4500-9806-FC770B5C8F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89ED17-21A0-4CE9-B9A4-81729D4B7F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FE3768-CF74-4568-9609-8CFAE20F62F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717288-8EB9-4996-923C-9CD4468F1D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EC55BD-9AB0-4385-9681-62E2F9C4A7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190059-A5D4-4E56-B376-3363404280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D961F-271A-4BEC-BC1E-87E726D2F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3382E5-7E8E-4E78-A7E6-03E6B49EEC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261E51-672D-4456-A0D2-B8AD757367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773446-2B28-4E3B-BF60-A2813126AF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55F08BC-3B4A-4AFE-8863-02970E70D5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27E16E-D09B-4095-A5AD-BB379A0B6A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71553-405A-47F1-8F20-F67F0D90AE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1219212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1219212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84841E-D73C-4D66-A946-CAE8FF5FDFC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11"/>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6"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00A63D-153F-47C3-B4D2-FA90818327E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11"/>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0"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5"/>
          <p:cNvSpPr>
            <a:spLocks noGrp="1"/>
          </p:cNvSpPr>
          <p:nvPr>
            <p:ph type="sldNum" idx="9"/>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AC6525-24E2-49BD-86DF-2FCC97D1306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Rectangle 11"/>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F30EFE-D358-404B-A0E0-09F425C7D49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405144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Rectangle 11"/>
          <p:cNvSpPr/>
          <p:nvPr/>
        </p:nvSpPr>
        <p:spPr>
          <a:xfrm>
            <a:off x="4040280" y="0"/>
            <a:ext cx="6336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465120" y="6459480"/>
            <a:ext cx="2619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4800600" y="6459480"/>
            <a:ext cx="46483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63705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F34B18-4C1B-42D6-A2F1-957E5733C0B9}" type="slidenum">
              <a:rPr b="0" lang="en-US" sz="1000" spc="-1" strike="noStrike">
                <a:solidFill>
                  <a:srgbClr val="63705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1218888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Rectangle 11"/>
          <p:cNvSpPr/>
          <p:nvPr/>
        </p:nvSpPr>
        <p:spPr>
          <a:xfrm>
            <a:off x="0" y="491508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CEE594-4724-4606-B923-D0314286F74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11"/>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32706E-D7A5-463D-BC81-87C691F021B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www.fsis.usda.gov/wps/wcm/connect/abbf595d-7fc7-4170-b7be-37f812882388/Product-Categorization.pdf?MOD=AJPERES"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7"/>
          <p:cNvSpPr/>
          <p:nvPr/>
        </p:nvSpPr>
        <p:spPr>
          <a:xfrm>
            <a:off x="0" y="0"/>
            <a:ext cx="12188880" cy="6858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5" name="PlaceHolder 1"/>
          <p:cNvSpPr>
            <a:spLocks noGrp="1"/>
          </p:cNvSpPr>
          <p:nvPr>
            <p:ph type="title"/>
          </p:nvPr>
        </p:nvSpPr>
        <p:spPr>
          <a:xfrm>
            <a:off x="5221440" y="965160"/>
            <a:ext cx="5999040" cy="49276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s-ES" sz="3200" spc="-1" strike="noStrike">
                <a:solidFill>
                  <a:srgbClr val="637052"/>
                </a:solidFill>
                <a:latin typeface="Calibri Light"/>
              </a:rPr>
              <a:t>Ejemplo de categorías de proceso </a:t>
            </a:r>
            <a:br>
              <a:rPr sz="3200"/>
            </a:br>
            <a:r>
              <a:rPr b="1" lang="es-ES" sz="3200" spc="-1" strike="noStrike">
                <a:solidFill>
                  <a:srgbClr val="637052"/>
                </a:solidFill>
                <a:latin typeface="Calibri Light"/>
              </a:rPr>
              <a:t>Documento desarrollado para ayudar a identificar con precisión los productos de carne, pollo y huevo certificados para la exportación a los Estados Unidos. </a:t>
            </a:r>
            <a:br>
              <a:rPr sz="3200"/>
            </a:br>
            <a:endParaRPr b="0" lang="en-US" sz="3200" spc="-1" strike="noStrike">
              <a:solidFill>
                <a:srgbClr val="404040"/>
              </a:solidFill>
              <a:latin typeface="Calibri Light"/>
            </a:endParaRPr>
          </a:p>
        </p:txBody>
      </p:sp>
      <p:sp>
        <p:nvSpPr>
          <p:cNvPr id="306" name="Rectangle 9"/>
          <p:cNvSpPr/>
          <p:nvPr/>
        </p:nvSpPr>
        <p:spPr>
          <a:xfrm>
            <a:off x="0" y="0"/>
            <a:ext cx="45846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PlaceHolder 2"/>
          <p:cNvSpPr>
            <a:spLocks noGrp="1"/>
          </p:cNvSpPr>
          <p:nvPr>
            <p:ph type="subTitle"/>
          </p:nvPr>
        </p:nvSpPr>
        <p:spPr>
          <a:xfrm>
            <a:off x="824040" y="1158840"/>
            <a:ext cx="2936880" cy="4440240"/>
          </a:xfrm>
          <a:prstGeom prst="rect">
            <a:avLst/>
          </a:prstGeom>
          <a:noFill/>
          <a:ln w="0">
            <a:noFill/>
          </a:ln>
        </p:spPr>
        <p:txBody>
          <a:bodyPr anchor="ctr">
            <a:noAutofit/>
          </a:bodyPr>
          <a:p>
            <a:pP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2998e3"/>
                </a:solidFill>
                <a:uFillTx/>
                <a:latin typeface="Calibri Light"/>
                <a:hlinkClick r:id="rId1"/>
              </a:rPr>
              <a:t>HTTPS://WWW.FSIS.USDA.GOV/WPS/WCM/CONNECT/ABBF595D-7FC7-4170-B7BE-37F812882388/PRODUCT-CATEGORIZATION.PDF?MOD=AJPERES</a:t>
            </a:r>
            <a:endParaRPr b="0" lang="en-US" sz="2400" spc="-1" strike="noStrike">
              <a:solidFill>
                <a:srgbClr val="404040"/>
              </a:solidFill>
              <a:latin typeface="Calibri"/>
            </a:endParaRPr>
          </a:p>
        </p:txBody>
      </p:sp>
      <p:sp>
        <p:nvSpPr>
          <p:cNvPr id="308" name="Rectangle 11"/>
          <p:cNvSpPr/>
          <p:nvPr/>
        </p:nvSpPr>
        <p:spPr>
          <a:xfrm>
            <a:off x="4584600" y="0"/>
            <a:ext cx="637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404040"/>
                </a:solidFill>
                <a:latin typeface="Calibri Light"/>
              </a:rPr>
              <a:t>Certificado es el documento que se utiliza para definir la solicitud de inspección de importación</a:t>
            </a:r>
            <a:r>
              <a:rPr b="1" lang="es-ES" sz="4800" spc="-1" strike="noStrike">
                <a:solidFill>
                  <a:srgbClr val="404040"/>
                </a:solidFill>
                <a:latin typeface="Calibri Light"/>
              </a:rPr>
              <a:t>.</a:t>
            </a:r>
            <a:endParaRPr b="0" lang="en-US" sz="4800" spc="-1" strike="noStrike">
              <a:solidFill>
                <a:srgbClr val="404040"/>
              </a:solidFill>
              <a:latin typeface="Calibri Light"/>
            </a:endParaRPr>
          </a:p>
        </p:txBody>
      </p:sp>
      <p:sp>
        <p:nvSpPr>
          <p:cNvPr id="310" name=""/>
          <p:cNvSpPr txBox="1"/>
          <p:nvPr/>
        </p:nvSpPr>
        <p:spPr>
          <a:xfrm>
            <a:off x="1096560" y="1846440"/>
            <a:ext cx="4938840" cy="4022640"/>
          </a:xfrm>
          <a:prstGeom prst="rect">
            <a:avLst/>
          </a:prstGeom>
          <a:noFill/>
          <a:ln w="9360">
            <a:solidFill>
              <a:srgbClr val="000000"/>
            </a:solidFill>
            <a:miter/>
          </a:ln>
        </p:spPr>
        <p:txBody>
          <a:bodyPr lIns="0" rIns="0" anchor="t">
            <a:normAutofit/>
          </a:bodyPr>
          <a:p>
            <a:pP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404040"/>
                </a:solidFill>
                <a:latin typeface="Calibri"/>
              </a:rPr>
              <a:t>Ejemplo </a:t>
            </a:r>
            <a:endParaRPr b="0" lang="en-US" sz="2200" spc="-1" strike="noStrike">
              <a:solidFill>
                <a:srgbClr val="404040"/>
              </a:solidFill>
              <a:latin typeface="Calibri"/>
            </a:endParaRPr>
          </a:p>
          <a:p>
            <a:pP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040"/>
                </a:solidFill>
                <a:latin typeface="Calibri"/>
              </a:rPr>
              <a:t>El establecimiento desea exportar 3 lotes de carne vacuna sin hueso Primal y Sub-Primal (Solomillo, Bife angosto, Bola de lomo) </a:t>
            </a:r>
            <a:endParaRPr b="0" lang="en-US" sz="2200" spc="-1" strike="noStrike">
              <a:solidFill>
                <a:srgbClr val="404040"/>
              </a:solidFill>
              <a:latin typeface="Calibri"/>
            </a:endParaRPr>
          </a:p>
          <a:p>
            <a:pPr>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040"/>
                </a:solidFill>
                <a:latin typeface="Calibri"/>
              </a:rPr>
              <a:t>Certificado puede declarar 1 lote - </a:t>
            </a:r>
            <a:endParaRPr b="0" lang="en-US" sz="2200" spc="-1" strike="noStrike">
              <a:solidFill>
                <a:srgbClr val="404040"/>
              </a:solidFill>
              <a:latin typeface="Calibri"/>
            </a:endParaRPr>
          </a:p>
          <a:p>
            <a:pPr>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040"/>
                </a:solidFill>
                <a:latin typeface="Calibri"/>
              </a:rPr>
              <a:t>Categoría de proceso - Categoría de producto - Especie - Grupo de productos Materia prima intacta - Carne vacuna intacta cruda - Carne vacuna - Descripción de producto primario y subprimario </a:t>
            </a:r>
            <a:endParaRPr b="0" lang="en-US" sz="2200" spc="-1" strike="noStrike">
              <a:solidFill>
                <a:srgbClr val="404040"/>
              </a:solidFill>
              <a:latin typeface="Calibri"/>
            </a:endParaRPr>
          </a:p>
          <a:p>
            <a:pPr>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
        <p:nvSpPr>
          <p:cNvPr id="311" name=""/>
          <p:cNvSpPr txBox="1"/>
          <p:nvPr/>
        </p:nvSpPr>
        <p:spPr>
          <a:xfrm>
            <a:off x="6218280" y="1846440"/>
            <a:ext cx="4937040" cy="4022640"/>
          </a:xfrm>
          <a:prstGeom prst="rect">
            <a:avLst/>
          </a:prstGeom>
          <a:noFill/>
          <a:ln w="9360">
            <a:solidFill>
              <a:srgbClr val="000000"/>
            </a:solidFill>
            <a:miter/>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040"/>
                </a:solidFill>
                <a:latin typeface="Calibri"/>
              </a:rPr>
              <a:t>Carne deshuesada </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040"/>
                </a:solidFill>
                <a:latin typeface="Calibri"/>
              </a:rPr>
              <a:t>Cortes Primarios y Sub Primario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040"/>
                </a:solidFill>
                <a:latin typeface="Calibri"/>
              </a:rPr>
              <a:t>En Estados Unidos, un lote será una solicitud presentada por el corredor. </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040"/>
                </a:solidFill>
                <a:latin typeface="Calibri"/>
              </a:rPr>
              <a:t>Todo producto muestreado como un lote. </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040"/>
                </a:solidFill>
                <a:latin typeface="Calibri"/>
              </a:rPr>
              <a:t>Toda una marca de envío </a:t>
            </a:r>
            <a:endParaRPr b="0" lang="en-US" sz="20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Mismo certificado pero 3 lotes - El certificado tiene prioridad</a:t>
            </a:r>
            <a:endParaRPr b="0" lang="en-US" sz="2800" spc="-1" strike="noStrike">
              <a:solidFill>
                <a:srgbClr val="404040"/>
              </a:solidFill>
              <a:latin typeface="Calibri Light"/>
            </a:endParaRPr>
          </a:p>
        </p:txBody>
      </p:sp>
      <p:sp>
        <p:nvSpPr>
          <p:cNvPr id="313" name=""/>
          <p:cNvSpPr txBox="1"/>
          <p:nvPr/>
        </p:nvSpPr>
        <p:spPr>
          <a:xfrm>
            <a:off x="1096560" y="1846440"/>
            <a:ext cx="4938840" cy="4022640"/>
          </a:xfrm>
          <a:prstGeom prst="rect">
            <a:avLst/>
          </a:prstGeom>
          <a:noFill/>
          <a:ln w="9360">
            <a:solidFill>
              <a:srgbClr val="000000"/>
            </a:solidFill>
            <a:miter/>
          </a:ln>
        </p:spPr>
        <p:txBody>
          <a:bodyPr lIns="0" rIns="0" anchor="t">
            <a:normAutofit/>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04040"/>
                </a:solidFill>
                <a:latin typeface="Calibri"/>
              </a:rPr>
              <a:t>Ejemplo </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04040"/>
                </a:solidFill>
                <a:latin typeface="Calibri"/>
              </a:rPr>
              <a:t>El establecimiento desea exportar 3 lotes de carne de res sin hueso Primal y Sub-Primal (Solomillo, Bife angosto, Bola de lomo) </a:t>
            </a:r>
            <a:endParaRPr b="0" lang="en-US" sz="1600" spc="-1" strike="noStrike">
              <a:solidFill>
                <a:srgbClr val="404040"/>
              </a:solidFill>
              <a:latin typeface="Calibri"/>
            </a:endParaRPr>
          </a:p>
          <a:p>
            <a:pPr>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404040"/>
                </a:solidFill>
                <a:latin typeface="Calibri"/>
              </a:rPr>
              <a:t>Certificado puede declarar 3 lotes - </a:t>
            </a:r>
            <a:endParaRPr b="0" lang="en-US" sz="1600" spc="-1" strike="noStrike">
              <a:solidFill>
                <a:srgbClr val="404040"/>
              </a:solidFill>
              <a:latin typeface="Calibri"/>
            </a:endParaRPr>
          </a:p>
          <a:p>
            <a:pPr>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040"/>
                </a:solidFill>
                <a:latin typeface="Calibri"/>
              </a:rPr>
              <a:t>Categoría de proceso - Categoría de producto - Especies - Grupo de productos </a:t>
            </a:r>
            <a:endParaRPr b="0" lang="en-US" sz="1600" spc="-1" strike="noStrike">
              <a:solidFill>
                <a:srgbClr val="404040"/>
              </a:solidFill>
              <a:latin typeface="Calibri"/>
            </a:endParaRPr>
          </a:p>
          <a:p>
            <a:pPr>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040"/>
                </a:solidFill>
                <a:latin typeface="Calibri"/>
              </a:rPr>
              <a:t>Lote 1 Intacto crudo – Carne vacuna intacta cruda – Corte vacuno primarios y subprimarios - Descripción del producto Bife angosto deshuesado </a:t>
            </a:r>
            <a:endParaRPr b="0" lang="en-US" sz="1600" spc="-1" strike="noStrike">
              <a:solidFill>
                <a:srgbClr val="404040"/>
              </a:solidFill>
              <a:latin typeface="Calibri"/>
            </a:endParaRPr>
          </a:p>
          <a:p>
            <a:pPr>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040"/>
                </a:solidFill>
                <a:latin typeface="Calibri"/>
              </a:rPr>
              <a:t>Lote 2 Materia prima intacta - Carne cruda intacta - Carne vacuna - Primaria y subprimaria - Descripción del producto Solomillo </a:t>
            </a:r>
            <a:endParaRPr b="0" lang="en-US" sz="1600" spc="-1" strike="noStrike">
              <a:solidFill>
                <a:srgbClr val="404040"/>
              </a:solidFill>
              <a:latin typeface="Calibri"/>
            </a:endParaRPr>
          </a:p>
          <a:p>
            <a:pPr>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040"/>
                </a:solidFill>
                <a:latin typeface="Calibri"/>
              </a:rPr>
              <a:t>Lot 3 Materia prima intacta - Carne cruda intacta - Carne vacuna - Primaria y subprimaria - Descripción del producto Bola de lomo sin hueso </a:t>
            </a:r>
            <a:endParaRPr b="0" lang="en-US" sz="1600" spc="-1" strike="noStrike">
              <a:solidFill>
                <a:srgbClr val="404040"/>
              </a:solidFill>
              <a:latin typeface="Calibri"/>
            </a:endParaRPr>
          </a:p>
          <a:p>
            <a:pPr>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p:txBody>
      </p:sp>
      <p:sp>
        <p:nvSpPr>
          <p:cNvPr id="314" name=""/>
          <p:cNvSpPr txBox="1"/>
          <p:nvPr/>
        </p:nvSpPr>
        <p:spPr>
          <a:xfrm>
            <a:off x="6218280" y="1846440"/>
            <a:ext cx="4937040" cy="4022640"/>
          </a:xfrm>
          <a:prstGeom prst="rect">
            <a:avLst/>
          </a:prstGeom>
          <a:noFill/>
          <a:ln w="9360">
            <a:solidFill>
              <a:srgbClr val="000000"/>
            </a:solidFill>
            <a:miter/>
          </a:ln>
        </p:spPr>
        <p:txBody>
          <a:bodyPr lIns="0" rIns="0" anchor="t">
            <a:normAutofit/>
          </a:bodyPr>
          <a:p>
            <a:pPr marL="90360" indent="-9036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040"/>
                </a:solidFill>
                <a:latin typeface="Calibri"/>
              </a:rPr>
              <a:t>3 lotes </a:t>
            </a:r>
            <a:endParaRPr b="0" lang="en-US" sz="1600" spc="-1" strike="noStrike">
              <a:solidFill>
                <a:srgbClr val="404040"/>
              </a:solidFill>
              <a:latin typeface="Calibri"/>
            </a:endParaRPr>
          </a:p>
          <a:p>
            <a:pPr marL="90360" indent="-9036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040"/>
                </a:solidFill>
                <a:latin typeface="Calibri"/>
              </a:rPr>
              <a:t>Puede ser la misma marca de envío (la separación de lotes puede distinguirse por el nombre del producto) </a:t>
            </a:r>
            <a:endParaRPr b="0" lang="en-US" sz="1600" spc="-1" strike="noStrike">
              <a:solidFill>
                <a:srgbClr val="404040"/>
              </a:solidFill>
              <a:latin typeface="Calibri"/>
            </a:endParaRPr>
          </a:p>
          <a:p>
            <a:pPr marL="90360" indent="-9036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040"/>
                </a:solidFill>
                <a:latin typeface="Calibri"/>
              </a:rPr>
              <a:t>3 diferentes exámenes / tareas </a:t>
            </a:r>
            <a:endParaRPr b="0" lang="en-US" sz="1600" spc="-1" strike="noStrike">
              <a:solidFill>
                <a:srgbClr val="404040"/>
              </a:solidFill>
              <a:latin typeface="Calibri"/>
            </a:endParaRPr>
          </a:p>
          <a:p>
            <a:pPr marL="90360" indent="-9036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404040"/>
                </a:solidFill>
                <a:latin typeface="Calibri Light"/>
              </a:rPr>
              <a:t>Otras cuestiones / consideraciones</a:t>
            </a:r>
            <a:endParaRPr b="0" lang="en-US" sz="4800" spc="-1" strike="noStrike">
              <a:solidFill>
                <a:srgbClr val="404040"/>
              </a:solidFill>
              <a:latin typeface="Calibri Light"/>
            </a:endParaRPr>
          </a:p>
        </p:txBody>
      </p:sp>
      <p:sp>
        <p:nvSpPr>
          <p:cNvPr id="316" name=""/>
          <p:cNvSpPr txBox="1"/>
          <p:nvPr/>
        </p:nvSpPr>
        <p:spPr>
          <a:xfrm>
            <a:off x="1096920" y="1846440"/>
            <a:ext cx="1005840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404040"/>
                </a:solidFill>
                <a:uFillTx/>
                <a:latin typeface="Calibri"/>
              </a:rPr>
              <a:t>Priorización</a:t>
            </a:r>
            <a:r>
              <a:rPr b="0" lang="es-ES" sz="2000" spc="-1" strike="noStrike">
                <a:solidFill>
                  <a:srgbClr val="404040"/>
                </a:solidFill>
                <a:latin typeface="Calibri"/>
              </a:rPr>
              <a:t>: a cada lote de productos de carne, aves o huevos se le asignará al menos los tipos de inspección de Certificación y Verificación de Etiquetas (TOI). Cuando una solicitud / certificado de inspección contiene más de un lote, el FSIS debe priorizar los lotes para la reinspección según los TOI asignados. El IPP debe realizar primero la reinspección en los lotes TOI físicos adicionales asignados (por ejemplo, el examen del producto, la condición de los TOI del contenedor) antes de realizar la reinspección en los lotes solo asignados TOI de Certificación y Verificación de Etiquetas. </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404040"/>
                </a:solidFill>
                <a:uFillTx/>
                <a:latin typeface="Calibri"/>
              </a:rPr>
              <a:t>Muestreo de laboratorio</a:t>
            </a:r>
            <a:r>
              <a:rPr b="0" lang="es-ES" sz="2000" spc="-1" strike="noStrike">
                <a:solidFill>
                  <a:srgbClr val="404040"/>
                </a:solidFill>
                <a:latin typeface="Calibri"/>
              </a:rPr>
              <a:t> : si se </a:t>
            </a:r>
            <a:r>
              <a:rPr b="0" lang="es-ES" sz="2000" spc="-1" strike="noStrike" u="sng">
                <a:solidFill>
                  <a:srgbClr val="404040"/>
                </a:solidFill>
                <a:uFillTx/>
                <a:latin typeface="Calibri"/>
              </a:rPr>
              <a:t>toma</a:t>
            </a:r>
            <a:r>
              <a:rPr b="0" lang="es-ES" sz="2000" spc="-1" strike="noStrike">
                <a:solidFill>
                  <a:srgbClr val="404040"/>
                </a:solidFill>
                <a:latin typeface="Calibri"/>
              </a:rPr>
              <a:t> un laboratorio microbiológico o de residuos y se produce una infracción, los 3 lotes pueden ser retirados del mercado (del mismo lote de producción). El FSIS le preguntará al gobierno extranjero cuando haya una indicación de una falla. La solicitud de infracción y la respuesta se realizarán posteriormente.</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31T13:15:53Z</dcterms:created>
  <dc:creator>Len Lang</dc:creator>
  <dc:description/>
  <dc:language>en-US</dc:language>
  <cp:lastModifiedBy>Monica</cp:lastModifiedBy>
  <dcterms:modified xsi:type="dcterms:W3CDTF">2019-02-01T14:46:30Z</dcterms:modified>
  <cp:revision>7</cp:revision>
  <dc:subject/>
  <dc:title>Ejemplo de categorías de proceso  Documento desarrollado para ayudar a identificar con precisión los productos de carne, pollo y huevo certificados para la exportación a los Estados Unidos.</dc:title>
</cp:coreProperties>
</file>