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AF3-A54F-4533-A75A-C91BE11D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24B8-5473-4D35-9D25-63566B45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FB1A-35D7-4409-BE4E-81EC674A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863-055E-4A03-8E57-AEA199CD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89E7-FC2D-4862-80C2-B3AF3E9F7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1713-3799-4238-A758-7C46497F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6EE65-FC25-4C4F-B98A-ACC5BF3D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DA4A-367D-4E31-B9B5-688359FF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654-F44B-49E5-85C2-2DE11327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BE4B-935C-43E7-8C8D-32D07C938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35F6-F5E5-4BE2-A6A0-ED61A0B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D388-B813-4181-AF46-58633EBC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899AC-4286-459E-9C24-04ACFD68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C8D03-A82E-4F4C-A187-B89DD6C9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0ED3-3A5D-48AC-BB4B-D5E59114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4BCF-1CE9-4BDC-BF8C-FBC35548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5FB6E-F3A6-4B67-A443-D325C225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7AE4-E9F6-4698-B4FC-B0173CFC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595B-86D4-4814-B450-21968059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5788B-D0E3-44D8-A462-785DF5A5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716C1-2A67-4AC3-9D94-717A444E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39D41-EC3D-434E-90AC-58035D0C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7B9-0572-4886-904D-9BF1B992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E8FC2-18EB-45D1-B917-4760D26EB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E1EB9-7CE5-4096-9946-4F9E0173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F884C-6F1B-4EC2-A810-6EA7139C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DD885-2162-45CC-8703-0FD6DB60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4583D-2B3F-485F-991D-CF58EB8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7A373-3F31-44D7-B130-D2EB7DDC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4E4C9-4EC6-47DA-9C21-08B6731B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DABD-8708-4A45-B10D-E1CC1CA3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F5D5B-6FA4-412A-8A0C-D1D46BEC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5ED6-E2C3-4749-8EAC-FADFD458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9A45-5903-48DB-9743-BC17B62F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416C7-49C2-470E-AE14-C7D30360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818BC-8AD9-428B-87C0-CA8517A9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4BC9-94E3-4A65-BCBB-C3D77C27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2F5DB-00C9-42A8-AF6C-638534F0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949A9-2E63-40B4-85F3-897B2986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4A9E3-65C8-477A-9CB8-E52B7F8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7929-8A7F-4227-8394-6B548897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CE845-51CD-46A2-9631-4FE09AD3D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DA00-85D5-49B9-8E1C-5157265B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1597E-C92C-4D90-83AB-E0FCA116F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038-F593-4ED4-9E41-C6EC004B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A3BCC-1F35-4A37-B4D5-F89DED07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1D48F-F7A3-4204-8FD4-CC186416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CD2E4-B2D1-491C-9C8C-03D195D09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E30C5-C143-4522-BE9D-EF751FC4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FD437-7779-4EC6-B448-285F11CA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09F1-510A-49EF-90AE-4385764E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87CCA-6397-4A0A-A432-3E910B9C4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5541F-0880-4154-A791-4B8F5ED2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3DBDC-170C-4FFF-9C44-7BB506D6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FA8EF-264C-4AEB-ACAB-FC3F87A66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867-581D-4F5B-A4FD-20687E2D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1F3F-77F5-4A13-A699-B1BE6CE7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25BA0-2C7D-4475-88A6-D4EBBECED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36027-BB37-4E8B-98AD-2854770C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2CE92-B44F-470A-B66D-04A1E41C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2F614-172D-4604-A199-DC91D599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75A29-87A0-461E-BAD5-A8A3B5FF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F5461-243D-409C-8068-F42DE02D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C5CC9-9673-40CA-87FB-AE795A05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143C-A2DF-4A35-B083-6287E39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E18D4-2283-4FDD-8AE3-66DBD674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890-D7C5-431E-AC99-EB51A1F6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55A1-9198-41F2-A683-32FF0D6BA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BE327-59E6-483F-ACB7-AC80B362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5B963-7291-4831-B44C-6DDFB7DDE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4DCBC-1D23-42FF-AF93-2D26C3457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B8CFA-E87E-4CEA-9CAC-8491B4DE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0455-554B-4293-81ED-AA5823A6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7973F-1274-4BF7-A31D-D2268208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83DF3-BA91-45E9-9796-6164C58C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894F-77AD-4DB1-BE23-2777865B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2EE3A-3005-4671-81A0-74714499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CD3-2C92-455C-95FB-3FD87D15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80CA7-4E54-49FD-926C-B073859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3D782-7E02-4DAB-825A-3C191B69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07481-F221-486C-A6B9-D84C3530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D2891-AD1D-4A15-954F-6C5DFE2ED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BFC70-60B4-4195-9319-CA88A803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B85-ACD4-41E5-9632-5F0B3CC5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4F78F-C047-41F5-8F9F-FF426E235E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BD5067-2751-42AA-B41C-64C65634A4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B5470-2BD0-4CD2-9AA5-F38C11AD6C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D0306-C159-4B29-947A-01BC040BEB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425C9-DCFE-454B-9959-54079BC1742F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0B040-65A0-4744-8EA3-79590D9A19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C8CE5F-B6DD-4EC9-BAE3-6E9BC4A476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96920" y="758880"/>
            <a:ext cx="100584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262626"/>
                </a:solidFill>
                <a:latin typeface="Calibri Light"/>
              </a:rPr>
              <a:t>Importador de registro (IR) </a:t>
            </a:r>
            <a:endParaRPr b="0" lang="en-US" sz="6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100160" y="445572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37052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96920" y="18432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é es el Importador de registro?</a:t>
            </a:r>
            <a:br>
              <a:rPr sz="4800"/>
            </a:br>
            <a:r>
              <a:rPr b="0" lang="es-ES" sz="2400" spc="-1" strike="noStrike">
                <a:solidFill>
                  <a:srgbClr val="404040"/>
                </a:solidFill>
                <a:latin typeface="Calibri Light"/>
              </a:rPr>
              <a:t>(El FSIS y CBP utilizan la misma definición)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l Importador de registro es una persona o entidad que asume la responsabilidad de garantizar que las mercaderías legales se importen a los EE. UU. El Importador de registro debe asegurarse de que toda mercadería esté debidamente documentada y valorad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Además, el Importador de registro es la parte responsable del pago de los derechos, aranceles y cargas de la mercadería importad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Preocupaciones en materia de cumplimiento para el Importador de registr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l Importador de registro debe garantizar el cumplimiento de todas las reglamentaciones y estatutos fundamentales. Aunque el CBP prefiere las medidas de cumplimiento voluntario, un Importador de Registro puede estar sujeto a un cumplimiento obligatorio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l cumplimiento obligatorio incluye inspecciones y exámenes de importaciones, auditorias de documentación, evaluación de sanciones monetarias, investigaciones de las transacciones del Importador de Registro, sanciones civiles y sanciones penales adicionale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¿Quién puede ser un Importador de registro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096920" y="1846080"/>
            <a:ext cx="10058400" cy="4400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El "importador de registro" es una condición jurídica que otorga responsabilidades según la ley de los EE. UU. a la parte nombrada en la declaración de importación.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alibri"/>
              </a:rPr>
              <a:t>Normalmente esta parte reside en los EE. UU. 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y ha otorgado un poder (POA por sus siglas en inglés) a un agente de aduanas de los EE. UU. para hacer una declaración en su nombr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Una empresa no residente en los Estados Unidos también puede otorgar un poder a un agente de aduanas estadounidens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040"/>
                </a:solidFill>
                <a:latin typeface="Calibri"/>
              </a:rPr>
              <a:t>Entonces, ¿puede una empresa extranjera exportar a los Estados Unidos sin un importador de registro en los Estados Unido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Sí, pero deben tener un agente en el estado donde se encuentra el </a:t>
            </a:r>
            <a:r>
              <a:rPr b="0" lang="es-ES" sz="2000" spc="-1" strike="noStrike" u="sng">
                <a:solidFill>
                  <a:srgbClr val="00b0f0"/>
                </a:solidFill>
                <a:uFillTx/>
                <a:latin typeface="Calibri"/>
              </a:rPr>
              <a:t>puerto de entrada </a:t>
            </a: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que sirve como agente residente en los Estados Unidos en nombre de la empresa extranjera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Por ejemplo, un agente de aduanas que haya sido nombrado en un Poder del servicio de Aduanas y Protección de Fronteras puede ingresar en nombre del exportador o su representant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404040"/>
                </a:solidFill>
                <a:latin typeface="Calibri Light"/>
              </a:rPr>
              <a:t>Solicitud presentada en la entrada </a:t>
            </a:r>
            <a:r>
              <a:rPr b="0" lang="es-ES" sz="2000" spc="-1" strike="noStrike">
                <a:solidFill>
                  <a:srgbClr val="404040"/>
                </a:solidFill>
                <a:latin typeface="Calibri Light"/>
              </a:rPr>
              <a:t>– En papel o electrónica en la base de datos del servicio de Aduanas y Protección Fronteriza de EE. UU. (ACE)</a:t>
            </a:r>
            <a:endParaRPr b="0" lang="en-US" sz="2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746280" y="1846440"/>
            <a:ext cx="104090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El PHIS está diseñado para permiti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un intercambio electrónico de</a:t>
            </a: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comunicación entre el inspector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de importaciones del FSIS y el importador de registro y corredor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El FSIS espera que un solo punto de contacto (Importador de registro)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se identifique para este intercambio electrónico y resuelva cualquier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problema con la solicitud (Formulario FSIS 9540-1) o que resuelva problema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con el envío en si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Se notifica al Importador de Registro y la parte responsable sobre: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Notificación previa, Lugar de inspección de importación, Entradas rechazadas,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Corrección de etiquetas, Retiros, No presentación, Producto analizado en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laboratorio, etc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0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040"/>
                </a:solidFill>
                <a:latin typeface="Calibri"/>
              </a:rPr>
              <a:t>Los Establecimientos de Importación trabajan estrechamente con el Importador de registro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2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120000"/>
              </a:lnSpc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i="1" lang="es-ES" sz="1400" spc="-1" strike="noStrike">
                <a:solidFill>
                  <a:srgbClr val="404040"/>
                </a:solidFill>
                <a:latin typeface="Calibri"/>
              </a:rPr>
              <a:t>Ingrese el nombre (primero / último), nombre comercial y dirección del importador del registro (IR) (incluido el código postal).</a:t>
            </a:r>
            <a:r>
              <a:rPr b="1" i="1" lang="en-US" sz="1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i="1" lang="es-ES" sz="1400" spc="-1" strike="noStrike">
                <a:solidFill>
                  <a:srgbClr val="404040"/>
                </a:solidFill>
                <a:latin typeface="Calibri"/>
              </a:rPr>
              <a:t>Nombre y dirección del Importador de registro declarado en la Aduana cuando se registra la entrada (NOTA: se requiere el nombre de una persona responsable, además del nombre de la empresa).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6757920" y="2187720"/>
            <a:ext cx="4737240" cy="238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313" name="Straight Arrow Connector 5"/>
          <p:cNvCxnSpPr/>
          <p:nvPr/>
        </p:nvCxnSpPr>
        <p:spPr>
          <a:xfrm flipV="1">
            <a:off x="7751880" y="4043160"/>
            <a:ext cx="1375200" cy="1359360"/>
          </a:xfrm>
          <a:prstGeom prst="straightConnector1">
            <a:avLst/>
          </a:prstGeom>
          <a:ln w="12600">
            <a:solidFill>
              <a:srgbClr val="e4831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5T17:50:22Z</dcterms:created>
  <dc:creator>Len Lang</dc:creator>
  <dc:description/>
  <dc:language>en-US</dc:language>
  <cp:lastModifiedBy>Monica</cp:lastModifiedBy>
  <dcterms:modified xsi:type="dcterms:W3CDTF">2019-02-01T22:18:45Z</dcterms:modified>
  <cp:revision>26</cp:revision>
  <dc:subject/>
  <dc:title>The Importer of Record</dc:title>
</cp:coreProperties>
</file>