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2F27-3E11-40B8-A9E5-CDF45C840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533520" y="754200"/>
            <a:ext cx="6705360" cy="377172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0060-8287-4CD8-BE38-57274A6761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533520" y="754200"/>
            <a:ext cx="6705360" cy="37717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0980-DC29-4B16-AD2B-E1A74705A6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533520" y="754200"/>
            <a:ext cx="6705360" cy="377172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1F54-B4FD-4D0E-8F06-936EA0AB4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533520" y="754200"/>
            <a:ext cx="6705360" cy="37717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949C-D525-48D2-841A-62882CA050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533520" y="754200"/>
            <a:ext cx="6705360" cy="37717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ED77-F520-4CA2-8AA0-172CB75F0D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533520" y="754200"/>
            <a:ext cx="6705360" cy="37717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7162-2537-45AB-B671-437A1495D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0EC-2994-4435-A73C-F284E5180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187-E360-45CD-B88F-0A2E3F9D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320-8A36-4F84-A25F-4DD87456B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C4E-C263-4F6C-B837-6537E58D2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D4DD-36F5-43BC-8192-6C749763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5A45-1573-484D-9229-0927F71A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2C5B-9917-4D1C-9194-CF631166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9CFD-CA6B-4167-8BBB-573330D2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A7B1-300D-45DF-9958-A35BE43E1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4297-C253-4C2E-8D8E-D351B69E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7542-480F-4489-94E1-D1C7957E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C4B4-1F27-4EBA-99C8-27D5FE3C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FCB2-B863-4439-B0FD-23E56B8F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8C7A-4B24-4FDF-B298-DF945E0C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CAA0-419D-4572-804E-8660EA17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551A8-F30E-4F11-B282-236121B3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6ECE8-C49D-4B59-8A14-CDEC2300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20A8-5F22-410D-9E2D-B572204A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7AF3F-C9F1-4492-8C47-59C9F2A2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2CBE3-EC24-46CA-ABAC-85CC603B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F4A1B-3FC3-4285-8270-33760341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D5AF-1425-4F80-88C8-597EE507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139-651B-46D4-B545-AB8072D3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A42CB-876B-455C-B477-6F2AB68D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539FA-C619-416B-9D61-73283615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7D24E-CCC8-4EB5-B2D9-2830B79F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DFA1-9C3E-4CDE-8610-4C4A9B0E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C90E-24E8-46B3-B660-61665575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328F1-9565-4758-9D02-B7A3C3BC6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6B820-BFC2-428D-90C0-1EB647C9C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C5822-B2B4-4F3F-B797-A8920BF2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E6F68-7A35-451E-9B39-E8629A1B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50F64-C2D1-4E00-9159-B1E0B4CE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FC1-9AAD-44A8-8573-DC15114C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E22C1-F0AF-4E7F-8D45-77AB2388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FD519-D418-4806-9A36-DD9C104F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86D51-F56C-47AE-9C2C-ED05C872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66939-C181-4077-8B41-818710D7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853B2-2ECF-4F1E-8C71-24DBB51C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020C1-388E-4F46-B9AD-CE9F0BD3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31C72-79D2-4CAB-AD7F-BC03827F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C0DAF-3824-4D8C-BFB2-1578750FB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23BA8-D073-4A3D-959A-9EFBF215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12965-ABA6-4C17-9451-ED5906C6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24F-FC3F-4177-92B8-F6129355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35DA1-9116-4557-9A93-20011FBA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A5A17-8774-4B36-BBA0-2F8E5D18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F198EF-D3D5-4044-93E4-706BA22B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C5B9C-FB8B-4077-A2D5-3A0D38BB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E82AA-C939-413D-977B-63E3D22F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54B48-66C6-43F6-8B69-167B9B5D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DC61A-AAAB-4628-B3DF-30E7D291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9D54F-8EBC-456D-A50B-46862B05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12ABF-CD9A-4019-B2B2-8ECC878D6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E9670-91FF-4CFF-98C5-FEF1952DC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2A3-90A4-4278-9CF1-AE4D7FFD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2C3E5-8B62-4670-B749-CB1480B0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FF58A-5F0E-4FB0-ABC7-CA7D80EB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1C7A5-9D71-41B4-84D3-8578B9DD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D514A-5154-48F0-8661-4C93EE0B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DDA7A-B6E1-4A5D-82AB-3677BFAF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984FD-428B-49E3-B446-601E38A2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D0337-9CAD-4809-9E1B-9AAD60CD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DB17F-700A-42D1-B3F6-14B5E74C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44D73-BBF8-419B-85B6-04D4686D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91CFD-3625-4BF1-9E19-1DFDF753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9C00-E12B-4F70-AF1E-F1FA66B9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7EEB73-83DF-4B98-ACCE-D311E4975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929E3-93B2-415F-A3A2-435F9C51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F8DF-E28C-4AE0-8AE3-CE8EB55E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5BE0C-8DE6-47C5-B68B-1A747900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DF798-B31B-4B8F-B9B6-7C2F4C84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E5C83-2551-4B89-A9AF-AB7E964F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0CE5A9-0098-4ACF-B483-A063772F9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77BD3-D9E8-4F14-886C-7150A5D51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E8A2D-FD65-4EEC-BC44-81017080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2648F-6D6D-48AC-B0D4-DB5DE4C6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836E-9EB5-47CE-B21C-211F4DE4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6E3F6-8AAA-4F05-B214-E6954847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6FEBA-BF95-4F01-83EA-F472006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DBC43-7AF9-4312-B25D-F6A48C99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548AD-0010-462F-93C5-F0E72B333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8BF8A-6080-44CE-8410-68CB2D9D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C354-FAF0-45B3-9F41-1BBF9816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FE003-1559-4684-A09F-4C92413F8BAE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D60D-97CF-4235-B40C-D9071AD4E4AE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68E5-3D14-4808-B89E-5B238A45E7D8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5381-0611-431D-B088-AAD58E2F42F5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12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39BC0-499A-4DBD-8BCB-493EF461FB88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3B53-2D9E-4205-916C-D52DE82146CE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7789-659B-43C8-8CD3-E459C470FD6A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78CF-5B44-4DC8-88F4-017BB36E6A7A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B702-3EE9-4CA0-BC28-5E2776B4D6DA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0D700-AC9E-440A-A72C-FF057B097FDC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F5D3-45CE-46E9-9A21-5E5FA1912C2C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E4B0C-A0FA-4D24-9F0A-03DF417276DE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88B1-EB31-4556-B3F8-03CEF93F0245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4ADB-F764-4D99-B1F5-02B366A86C0E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446280" y="163080"/>
            <a:ext cx="86468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Arial"/>
              </a:rPr>
              <a:t>NORMAS DE DESEMPEÑO EN EL SANEAMIENTO (SPS)</a:t>
            </a:r>
            <a:br>
              <a:rPr sz="3200"/>
            </a:b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238400" y="1870200"/>
            <a:ext cx="99201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tivo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escribir la relación entre el saneamiento del establecimiento y la limpieza y salubridad del producto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efinir saneamiento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escribir la relación entre SPS y Saneamiento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escribir ejemplos de preocupación y cumplimiento de SP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8D36-BA1A-48BE-97CE-126365933BE3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541680" y="163080"/>
            <a:ext cx="801360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"/>
                <a:ea typeface="Arial"/>
              </a:rPr>
              <a:t>NORMAS DE DESEMPEÑO EN EL SANEAMIENTO (SPS) 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198440" y="1870200"/>
            <a:ext cx="9942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finición de Saneamiento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saneamiento se define como la formulación y aplicación de procedimientos que establecen una condición ambiental que promueve la higiene y protege la salud pública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PS - potencial indirecto para la contaminación del producto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OP de saneamiento - potencial directo para la contaminación del producto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D479-4BF7-4851-8D0D-33CA68A6BD04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73440" y="163080"/>
            <a:ext cx="807264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3200" spc="-1" strike="noStrike">
                <a:solidFill>
                  <a:srgbClr val="404040"/>
                </a:solidFill>
                <a:latin typeface="Calibri"/>
              </a:rPr>
              <a:t>NORMAS DE DESEMPEÑO EN EL SANEAMIENTO (SPS) 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203480" y="1870200"/>
            <a:ext cx="996624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as de desempeño - General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Los establecimientos deben: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perar bajo condiciones sanitaria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Asegurar que el producto no esté adulterado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perar de manera que no interfiera con la inspección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Operar bajo condiciones sanitaria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segurarse de que el producto no esté adulterado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perar de manera que no interfiera con la inspección Operar bajo condicione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B3B8-54CC-4238-AD9E-693A01B5F3F9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322440" y="-360"/>
            <a:ext cx="886932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3200" spc="-1" strike="noStrike">
                <a:solidFill>
                  <a:srgbClr val="404040"/>
                </a:solidFill>
                <a:latin typeface="Calibri"/>
              </a:rPr>
              <a:t>NORMAS DE DESEMPEÑO EN EL SANEAMIENTO (SPS) 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2187720" y="1870200"/>
            <a:ext cx="897552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as de desempeño - Específica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trol de plagas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strucción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Materiales duraderos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Separar comestible de no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estible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Iluminación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Ventilación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lomería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Aguas residuales y desecho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Agua y hielo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Agua reacondicionada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5ECAF-0954-450E-92CE-D6EDF3D05C3F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1600200" y="558720"/>
            <a:ext cx="117468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962440" y="-360"/>
            <a:ext cx="922968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3200" spc="-1" strike="noStrike">
                <a:solidFill>
                  <a:srgbClr val="404040"/>
                </a:solidFill>
                <a:latin typeface="Calibri"/>
              </a:rPr>
              <a:t>NORMAS DE DESEMPEÑO EN EL SANEAMIENTO (SPS) 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198440" y="1870200"/>
            <a:ext cx="99648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as de desempeño - Específica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Agua, hielo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Vestuarios, baño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Equipos y utensilios  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Operaciones sanitaria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mpuestos de limpieza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Agentes desinfectante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rotección de producto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Higiene del personal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Vestimenta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trol de enfermedades del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ersonal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AD18-BD4E-4B14-BDE7-EE7FC698200D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5" descr=""/>
          <p:cNvPicPr/>
          <p:nvPr/>
        </p:nvPicPr>
        <p:blipFill>
          <a:blip r:embed="rId1"/>
          <a:stretch/>
        </p:blipFill>
        <p:spPr>
          <a:xfrm>
            <a:off x="1498680" y="558720"/>
            <a:ext cx="117468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141720" y="-360"/>
            <a:ext cx="905040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3200" spc="-1" strike="noStrike">
                <a:solidFill>
                  <a:srgbClr val="404040"/>
                </a:solidFill>
                <a:latin typeface="Calibri"/>
              </a:rPr>
              <a:t>NORMAS DE DESEMPEÑO EN EL SANEAMIENTO (SPS) 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839600" y="1750680"/>
            <a:ext cx="888372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ormas de desempeño – Impresiones del Auditor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Goteras en el techo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densación en altura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esagües tapados en piso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Trampas para control de plaga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Basura, escombros, equipamiento Viejo apilado cerca de las instalacione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asto sin cortar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Arboles y arbustos antiestético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F18A-051A-4ED1-BC48-FC043BAA5631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1627200" y="558720"/>
            <a:ext cx="117468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16:09:51Z</dcterms:created>
  <dc:creator>William James</dc:creator>
  <dc:description/>
  <dc:language>en-US</dc:language>
  <cp:lastModifiedBy>Monica</cp:lastModifiedBy>
  <dcterms:modified xsi:type="dcterms:W3CDTF">2019-02-02T11:37:47Z</dcterms:modified>
  <cp:revision>33</cp:revision>
  <dc:subject/>
  <dc:title>Sanitation Performance Standards</dc:title>
</cp:coreProperties>
</file>