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12193588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dt" idx="22"/>
          </p:nvPr>
        </p:nvSpPr>
        <p:spPr>
          <a:xfrm>
            <a:off x="3970440" y="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sldImg"/>
          </p:nvPr>
        </p:nvSpPr>
        <p:spPr>
          <a:xfrm>
            <a:off x="717120" y="1162080"/>
            <a:ext cx="5575320" cy="3137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move the slid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body"/>
          </p:nvPr>
        </p:nvSpPr>
        <p:spPr>
          <a:xfrm>
            <a:off x="701280" y="4473720"/>
            <a:ext cx="5607000" cy="36604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ftr" idx="23"/>
          </p:nvPr>
        </p:nvSpPr>
        <p:spPr>
          <a:xfrm>
            <a:off x="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 type="sldNum" idx="24"/>
          </p:nvPr>
        </p:nvSpPr>
        <p:spPr>
          <a:xfrm>
            <a:off x="397044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329A9-D50C-4122-A576-D07684BCCE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561960" y="766800"/>
            <a:ext cx="6819840" cy="38354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01280" y="4473720"/>
            <a:ext cx="5607000" cy="36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97044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8EDC6-3457-4379-A4FB-8ADB6AD269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Footer Placeholder 4"/>
          <p:cNvSpPr/>
          <p:nvPr/>
        </p:nvSpPr>
        <p:spPr>
          <a:xfrm>
            <a:off x="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James and Associates, LL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561960" y="766800"/>
            <a:ext cx="6819840" cy="38354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01280" y="4473720"/>
            <a:ext cx="5607000" cy="36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97044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DAFD3-863F-452C-952B-411D10DECB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Footer Placeholder 4"/>
          <p:cNvSpPr/>
          <p:nvPr/>
        </p:nvSpPr>
        <p:spPr>
          <a:xfrm>
            <a:off x="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James and Associates, LL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561960" y="766800"/>
            <a:ext cx="6819840" cy="383544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01280" y="4473720"/>
            <a:ext cx="5607000" cy="36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397044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5A147-218B-402D-A28B-E5280400C9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Footer Placeholder 4"/>
          <p:cNvSpPr/>
          <p:nvPr/>
        </p:nvSpPr>
        <p:spPr>
          <a:xfrm>
            <a:off x="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James and Associates, LL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561960" y="766800"/>
            <a:ext cx="6819840" cy="383544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01280" y="4473720"/>
            <a:ext cx="5607000" cy="36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97044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6F322-1F9B-4C34-933B-872491C32A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Footer Placeholder 4"/>
          <p:cNvSpPr/>
          <p:nvPr/>
        </p:nvSpPr>
        <p:spPr>
          <a:xfrm>
            <a:off x="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James and Associates, LL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561960" y="766800"/>
            <a:ext cx="6819840" cy="383544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01280" y="4473720"/>
            <a:ext cx="5607000" cy="36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397044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6122E-99CA-4E10-8B4F-43E8298DDD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Footer Placeholder 4"/>
          <p:cNvSpPr/>
          <p:nvPr/>
        </p:nvSpPr>
        <p:spPr>
          <a:xfrm>
            <a:off x="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James and Associates, LL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561960" y="766800"/>
            <a:ext cx="6819840" cy="38354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01280" y="4473720"/>
            <a:ext cx="5607000" cy="36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397044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A5103-EF8A-4580-A1CF-BFE237A750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Footer Placeholder 4"/>
          <p:cNvSpPr/>
          <p:nvPr/>
        </p:nvSpPr>
        <p:spPr>
          <a:xfrm>
            <a:off x="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James and Associates, LL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561960" y="766800"/>
            <a:ext cx="6819840" cy="383544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01280" y="4473720"/>
            <a:ext cx="5607000" cy="36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397044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78303-7C11-4D4B-8A91-0A2D171F43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Footer Placeholder 4"/>
          <p:cNvSpPr/>
          <p:nvPr/>
        </p:nvSpPr>
        <p:spPr>
          <a:xfrm>
            <a:off x="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James and Associates, LL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8F07-9129-4144-BB29-72A90DF7B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2EA0-BE33-4093-8AE0-A5BCC8DF5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FBC9-6AA8-41FD-813E-382F35E72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8342-536F-4991-A0E5-1FC2C7569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7D842-2425-4593-8F6E-42AFE223A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F582A-8FF0-4659-BC2E-5C2918E38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01E3B-FEFE-454E-BD3C-A81820563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9C4A0-8B2F-4043-9048-F354CF18E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BC160-12A3-4159-9CAC-A625CD21F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B32CC-08CD-4661-93BE-AA2DBF802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81B31-DCE9-418B-B7A4-D25276837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0B66-B7F2-4726-B906-41FF7F477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EF6BE-B53E-487D-9AC2-CF679AA7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E6196-CC97-4443-8C0B-B436EA1B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526FE-8ADF-4F1C-B8DB-7C8679A56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1CF45-43B7-4D49-BD78-DD17128C3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33CC3-35A3-4044-9001-877F642DD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75D38-32A1-4D04-8EC9-55B7ADE07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2AB45-BC75-48E0-AD6E-5FD9DDA93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0C0A5-795C-4D77-B709-F1404BC33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BD894-E34C-4FC9-81BF-375FBD671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85285-44F5-4996-B4C8-2A53F6E69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C7FF-878F-43D9-9F09-C587511FB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B9EC9-9392-4337-974F-472071F28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229FF-3DD8-40C3-8FE8-5E5D7895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949AA-96A0-4470-81C5-EA591FBE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187EB-0861-4CB1-9888-3AF442468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19249-3822-4B3E-A8A6-115B47247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BE2C7-3C77-4A5E-92CF-E9CB53CA8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70530-6075-43CC-B932-564C79A8E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ACFCF-3BBB-4F32-8B87-89BD7BE95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188E9-6BC3-44EA-B3B1-4392FD1DE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709A7-6E2E-4053-807E-2157BC669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1FA8-83F2-4EEB-9A4A-2C85B8304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50AC3-122A-4770-A4AB-16167E949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EB492-A015-45B7-ADA7-A34E3DE83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CD681-28AA-4234-BBE8-20186A167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A0134-A847-42C6-9459-7F19DE72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C56E0-E28A-407F-834F-D25FA27E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ACDA8-DD75-42DB-A803-0FA942EC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3B564-63B1-447C-9D08-652D0F915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D6FF7-E65F-4841-BD09-2AFDEB773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50F61-963A-41D6-A07F-F5F0CC6E6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B99F6F-CE11-448C-8D5D-CAA96E250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9A76-253B-43A0-B8F3-F410D01E2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07CF4C-4BC9-4C77-A451-F890B0DAC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0C5C21-6CB9-45B9-8E92-F7E454A47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D6546-44B9-4BAA-86B3-4D85A96DA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433C8-0E6F-4FE2-A207-9AE829145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67437F-47FC-4599-B6C5-503F00B07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E949FC-C902-45F7-86A0-61C3BB30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F60E7-CA13-469A-8A17-06CB0CAB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5E339-E564-42BF-AEF5-D4274996F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572588-F753-43FA-B41D-E72A047ED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BE7907-896C-4AD9-9251-A3A4F8AF6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BCC2-53DF-49F0-89E5-4D64E69CF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74A48-D253-4649-A77F-459734449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3737C2-5820-495F-9A11-EDE1C1242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200FB1-ABE8-4BAA-9DF0-848D16B6A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B5478D-33A9-4EBF-B59B-8105DBA5E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A734B2-D60E-44BA-90E5-86E339B34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4B92C1-2612-42F1-B053-A94224C6F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01244A-CB5F-4555-9246-81405B971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E12A34-2D56-4F33-B824-779D7E15B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E0956A-7018-4E6C-8FD6-D80D523C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5B3D6E-2CF6-415B-B921-1EAEA3450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A98B-F8A5-4492-822C-2D0D99092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26E2CB-1E36-4804-825E-237CB52F6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F3A37F-4585-41A7-A407-FA46485D3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9AFE06-9FC5-4B62-BEA0-F5B4E8C11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FA7F20-E0B2-4676-8BA8-65EE44336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2FD144-3033-477F-993D-B169E6B8A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52D819-CE87-4233-A381-8592F062B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652818-091F-4461-9C65-18253B0BA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337450-76E5-4F9E-96DD-B02965FFE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E42787-2C15-4C29-8F44-A84510E62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4B78ED-FE14-4ECF-9393-78F4DBC3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22B6-B2A0-4E0E-829D-3E594C0BC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5BFC5E-50F9-4AA0-A509-1D31F5F00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8E9A8C-25FF-4829-BFF4-3EB7BDDC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CCA924-F791-41D4-BBC4-67A9DA719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6CF72B-C9E8-41E9-A744-666224EFD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9B60A5-DB95-4887-B7A0-35E84E955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A0B9-6FF7-409F-9BE2-EF94EC7D2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1219212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1219212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bcbcbc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08A8D-9872-4960-A551-AA2D440F8FF3}" type="datetime">
              <a:rPr b="0" lang="en-US" sz="900" spc="-1" strike="noStrike">
                <a:solidFill>
                  <a:srgbClr val="bcbcbc"/>
                </a:solidFill>
                <a:latin typeface="Calibri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cbcbc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0536C-F8EA-4012-851C-D5E75F1A56EF}" type="slidenum">
              <a:rPr b="0" lang="en-US" sz="1000" spc="-1" strike="noStrike">
                <a:solidFill>
                  <a:srgbClr val="bcbcbc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1193760" y="1738440"/>
            <a:ext cx="99662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6400800"/>
            <a:ext cx="1219212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6334200"/>
            <a:ext cx="1219212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traight Connector 9"/>
          <p:cNvSpPr/>
          <p:nvPr/>
        </p:nvSpPr>
        <p:spPr>
          <a:xfrm>
            <a:off x="1193760" y="1738440"/>
            <a:ext cx="99662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traight Connector 12"/>
          <p:cNvSpPr/>
          <p:nvPr/>
        </p:nvSpPr>
        <p:spPr>
          <a:xfrm>
            <a:off x="1208160" y="4343400"/>
            <a:ext cx="98758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bcbcbc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28F3A-DB8F-47EE-887A-6EA3DA013153}" type="datetime">
              <a:rPr b="0" lang="en-US" sz="900" spc="-1" strike="noStrike">
                <a:solidFill>
                  <a:srgbClr val="bcbcbc"/>
                </a:solidFill>
                <a:latin typeface="Calibri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cbcbc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7F7BD-24D3-423A-A422-FA02C745C751}" type="slidenum">
              <a:rPr b="0" lang="en-US" sz="1000" spc="-1" strike="noStrike">
                <a:solidFill>
                  <a:srgbClr val="bcbcbc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0" y="6400800"/>
            <a:ext cx="1219212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6334200"/>
            <a:ext cx="1219212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traight Connector 9"/>
          <p:cNvSpPr/>
          <p:nvPr/>
        </p:nvSpPr>
        <p:spPr>
          <a:xfrm>
            <a:off x="1193760" y="1738440"/>
            <a:ext cx="99662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traight Connector 12"/>
          <p:cNvSpPr/>
          <p:nvPr/>
        </p:nvSpPr>
        <p:spPr>
          <a:xfrm>
            <a:off x="1208160" y="4343400"/>
            <a:ext cx="98758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bcbcbc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7B8A5-9872-4821-B342-D86EF99E9E50}" type="datetime">
              <a:rPr b="0" lang="en-US" sz="900" spc="-1" strike="noStrike">
                <a:solidFill>
                  <a:srgbClr val="bcbcbc"/>
                </a:solidFill>
                <a:latin typeface="Calibri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cbcbc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F2C74-68E8-44D2-ACAA-0DB645C8DA54}" type="slidenum">
              <a:rPr b="0" lang="en-US" sz="1000" spc="-1" strike="noStrike">
                <a:solidFill>
                  <a:srgbClr val="bcbcbc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6"/>
          <p:cNvSpPr/>
          <p:nvPr/>
        </p:nvSpPr>
        <p:spPr>
          <a:xfrm>
            <a:off x="0" y="6400800"/>
            <a:ext cx="1219212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0" y="6334200"/>
            <a:ext cx="1219212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traight Connector 9"/>
          <p:cNvSpPr/>
          <p:nvPr/>
        </p:nvSpPr>
        <p:spPr>
          <a:xfrm>
            <a:off x="1193760" y="1738440"/>
            <a:ext cx="99662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10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11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bcbcbc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847FE-91FF-4D95-9875-D6D7600F1D67}" type="datetime">
              <a:rPr b="0" lang="en-US" sz="900" spc="-1" strike="noStrike">
                <a:solidFill>
                  <a:srgbClr val="bcbcbc"/>
                </a:solidFill>
                <a:latin typeface="Calibri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cbcbc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4CCAC-96FA-4A4C-AFD9-4392FECEBC2F}" type="slidenum">
              <a:rPr b="0" lang="en-US" sz="1000" spc="-1" strike="noStrike">
                <a:solidFill>
                  <a:srgbClr val="bcbcbc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6"/>
          <p:cNvSpPr/>
          <p:nvPr/>
        </p:nvSpPr>
        <p:spPr>
          <a:xfrm>
            <a:off x="0" y="6400800"/>
            <a:ext cx="1219212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0" y="6334200"/>
            <a:ext cx="1219212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traight Connector 9"/>
          <p:cNvSpPr/>
          <p:nvPr/>
        </p:nvSpPr>
        <p:spPr>
          <a:xfrm>
            <a:off x="1193760" y="1738440"/>
            <a:ext cx="99662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Rectangle 10"/>
          <p:cNvSpPr/>
          <p:nvPr/>
        </p:nvSpPr>
        <p:spPr>
          <a:xfrm>
            <a:off x="0" y="0"/>
            <a:ext cx="4051440" cy="68580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Rectangle 11"/>
          <p:cNvSpPr/>
          <p:nvPr/>
        </p:nvSpPr>
        <p:spPr>
          <a:xfrm>
            <a:off x="4040280" y="0"/>
            <a:ext cx="63360" cy="68580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465120" y="6459480"/>
            <a:ext cx="2619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bcbcbc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214C6-596F-481A-9D2F-B75EB7EB6FFE}" type="datetime">
              <a:rPr b="0" lang="en-US" sz="900" spc="-1" strike="noStrike">
                <a:solidFill>
                  <a:srgbClr val="bcbcbc"/>
                </a:solidFill>
                <a:latin typeface="Calibri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4800600" y="6459480"/>
            <a:ext cx="464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cbcbc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36D70-6B3A-4D19-A60E-8C0749F0663B}" type="slidenum">
              <a:rPr b="0" lang="en-US" sz="1000" spc="-1" strike="noStrike">
                <a:solidFill>
                  <a:srgbClr val="bcbcbc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6"/>
          <p:cNvSpPr/>
          <p:nvPr/>
        </p:nvSpPr>
        <p:spPr>
          <a:xfrm>
            <a:off x="0" y="6400800"/>
            <a:ext cx="1219212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Rectangle 8"/>
          <p:cNvSpPr/>
          <p:nvPr/>
        </p:nvSpPr>
        <p:spPr>
          <a:xfrm>
            <a:off x="0" y="6334200"/>
            <a:ext cx="1219212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traight Connector 9"/>
          <p:cNvSpPr/>
          <p:nvPr/>
        </p:nvSpPr>
        <p:spPr>
          <a:xfrm>
            <a:off x="1193760" y="1738440"/>
            <a:ext cx="99662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10"/>
          <p:cNvSpPr/>
          <p:nvPr/>
        </p:nvSpPr>
        <p:spPr>
          <a:xfrm>
            <a:off x="0" y="4952880"/>
            <a:ext cx="12188880" cy="190512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11"/>
          <p:cNvSpPr/>
          <p:nvPr/>
        </p:nvSpPr>
        <p:spPr>
          <a:xfrm>
            <a:off x="0" y="491508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bcbcbc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B3218-87A9-4068-B89C-040647F81548}" type="datetime">
              <a:rPr b="0" lang="en-US" sz="900" spc="-1" strike="noStrike">
                <a:solidFill>
                  <a:srgbClr val="bcbcbc"/>
                </a:solidFill>
                <a:latin typeface="Calibri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cbcbc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6F515-ED8C-4A2A-99A3-334B38D1F62A}" type="slidenum">
              <a:rPr b="0" lang="en-US" sz="1000" spc="-1" strike="noStrike">
                <a:solidFill>
                  <a:srgbClr val="bcbcbc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6"/>
          <p:cNvSpPr/>
          <p:nvPr/>
        </p:nvSpPr>
        <p:spPr>
          <a:xfrm>
            <a:off x="0" y="6400800"/>
            <a:ext cx="1219212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Rectangle 8"/>
          <p:cNvSpPr/>
          <p:nvPr/>
        </p:nvSpPr>
        <p:spPr>
          <a:xfrm>
            <a:off x="0" y="6334200"/>
            <a:ext cx="1219212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traight Connector 9"/>
          <p:cNvSpPr/>
          <p:nvPr/>
        </p:nvSpPr>
        <p:spPr>
          <a:xfrm>
            <a:off x="1193760" y="1738440"/>
            <a:ext cx="99662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Rectangle 10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11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bcbcbc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CBCE5-8F4B-4C7E-ADA9-54D98F0DF36B}" type="datetime">
              <a:rPr b="0" lang="en-US" sz="900" spc="-1" strike="noStrike">
                <a:solidFill>
                  <a:srgbClr val="bcbcbc"/>
                </a:solidFill>
                <a:latin typeface="Calibri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cbcbc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4558A-EFDE-4990-90F1-753AEC0D8E39}" type="slidenum">
              <a:rPr b="0" lang="en-US" sz="1000" spc="-1" strike="noStrike">
                <a:solidFill>
                  <a:srgbClr val="bcbcbc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767040" y="164880"/>
            <a:ext cx="7182000" cy="149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P DE SANEAMIENTO</a:t>
            </a:r>
            <a:br>
              <a:rPr sz="2400"/>
            </a:br>
            <a:endParaRPr b="0" lang="en-US" sz="2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220400" y="1870200"/>
            <a:ext cx="9907560" cy="44496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36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sponsabilidad de los establecimientos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El establecimiento tiene la responsabilidad de desarrollar los SOP de saneamiento por escrito que describan claramente los procedimientos que implementará para evitar la contaminación directa o la adulteración del producto. 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Los SOP de saneamiento cubren todo el establecimiento y todos los turnos de operación.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1" name="Slide Number Placeholder 1"/>
          <p:cNvSpPr/>
          <p:nvPr/>
        </p:nvSpPr>
        <p:spPr>
          <a:xfrm>
            <a:off x="990108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24A22-29D2-4BDF-9D93-7305F13D209A}" type="slidenum">
              <a:rPr b="0" lang="en-US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2" name="Picture 5" descr=""/>
          <p:cNvPicPr/>
          <p:nvPr/>
        </p:nvPicPr>
        <p:blipFill>
          <a:blip r:embed="rId1"/>
          <a:stretch/>
        </p:blipFill>
        <p:spPr>
          <a:xfrm>
            <a:off x="2271600" y="536400"/>
            <a:ext cx="1175040" cy="747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767040" y="165240"/>
            <a:ext cx="7182000" cy="111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P DE SANEAMIENTO</a:t>
            </a:r>
            <a:endParaRPr b="0" lang="en-US" sz="2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220400" y="1870200"/>
            <a:ext cx="9907560" cy="44496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36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sponsabilidad de los establecimiento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Estos procedimientos escritos deben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Incluir todos los procedimientos que el establecimiento llevará a cabo diariamente, antes y durante la operación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Se debe incluir como mínimo la limpieza de las superficies en contacto con los alimentos, equipos y utensilios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Especificar la frecuencia con la que se realizará cada procedimiento en los SOP de Saneamiento e identificar al empleado del establecimiento o cargo del responsable de la implementación y el mantenimiento de los procedimientos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  <a:ea typeface="Arial"/>
              </a:rPr>
              <a:t>Los procedimientos serán firmados y fechados por un funcionario pertinente del establecimiento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5" name="Slide Number Placeholder 1"/>
          <p:cNvSpPr/>
          <p:nvPr/>
        </p:nvSpPr>
        <p:spPr>
          <a:xfrm>
            <a:off x="990108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BFA24-DD3B-4876-9CAA-5F8B0DCFE06C}" type="slidenum">
              <a:rPr b="0" lang="en-US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6" name="Picture 5" descr=""/>
          <p:cNvPicPr/>
          <p:nvPr/>
        </p:nvPicPr>
        <p:blipFill>
          <a:blip r:embed="rId1"/>
          <a:stretch/>
        </p:blipFill>
        <p:spPr>
          <a:xfrm>
            <a:off x="2271600" y="536400"/>
            <a:ext cx="1175040" cy="747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767040" y="165240"/>
            <a:ext cx="7182000" cy="111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P DE SANEAMIENTO</a:t>
            </a:r>
            <a:endParaRPr b="0" lang="en-US" sz="2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2320560" y="1870200"/>
            <a:ext cx="8807400" cy="44496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36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quisitos para los SOP de saneamiento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Monitoreo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- SOP de saneamiento Pre-Operacional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- SOP de saneamiento Operacional Mantenimiento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Acción correctiva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Mantenimiento de registros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9" name="Slide Number Placeholder 1"/>
          <p:cNvSpPr/>
          <p:nvPr/>
        </p:nvSpPr>
        <p:spPr>
          <a:xfrm>
            <a:off x="990108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CF1AB-A2B1-4119-91AD-E5135A018823}" type="slidenum">
              <a:rPr b="0" lang="en-US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0" name="Picture 5" descr=""/>
          <p:cNvPicPr/>
          <p:nvPr/>
        </p:nvPicPr>
        <p:blipFill>
          <a:blip r:embed="rId1"/>
          <a:stretch/>
        </p:blipFill>
        <p:spPr>
          <a:xfrm>
            <a:off x="2271600" y="536400"/>
            <a:ext cx="1175040" cy="747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767040" y="165240"/>
            <a:ext cx="7182000" cy="111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P DE SANEAMIENTO</a:t>
            </a:r>
            <a:endParaRPr b="0" lang="en-US" sz="2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216080" y="1870200"/>
            <a:ext cx="9912240" cy="44496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36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onitoreo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Cada establecimiento llevará a cabo los procedimientos pre- operacionales de los SOP de saneamiento antes de comenzar las operaciones.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Cada establecimiento llevará a cabo todos los otros procedimientos de los SOP en las frecuencias especificadas.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Cada establecimiento oficial deberá supervisar diariamente la aplicación de los procedimientos en los SOP de saneamiento. 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3" name="Slide Number Placeholder 1"/>
          <p:cNvSpPr/>
          <p:nvPr/>
        </p:nvSpPr>
        <p:spPr>
          <a:xfrm>
            <a:off x="990108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58C46-A5DB-4F12-A245-95489228F596}" type="slidenum">
              <a:rPr b="0" lang="en-US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4" name="Picture 5" descr=""/>
          <p:cNvPicPr/>
          <p:nvPr/>
        </p:nvPicPr>
        <p:blipFill>
          <a:blip r:embed="rId1"/>
          <a:stretch/>
        </p:blipFill>
        <p:spPr>
          <a:xfrm>
            <a:off x="2271600" y="536400"/>
            <a:ext cx="1175040" cy="747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743280" y="-49680"/>
            <a:ext cx="7182000" cy="149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P DE SANEAMIENTO</a:t>
            </a:r>
            <a:br>
              <a:rPr sz="2400"/>
            </a:br>
            <a:endParaRPr b="0" lang="en-US" sz="2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216080" y="1711080"/>
            <a:ext cx="9912240" cy="4748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9000"/>
          </a:bodyPr>
          <a:p>
            <a:pPr marL="1350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antenimiento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1350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1350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Cada establecimiento oficial deberá evaluar sistemáticamente la eficacia de los SOP de saneamiento para prevenir la contaminación directa o adulteración del producto.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1350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1350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Cada establecimiento oficial deberá los SOP de saneamiento según sea necesario, para mantener su eficacia y actualización con respecto a los cambios en las instalaciones, equipamiento, utensilios, operaciones o personal.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1350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7" name="Slide Number Placeholder 1"/>
          <p:cNvSpPr/>
          <p:nvPr/>
        </p:nvSpPr>
        <p:spPr>
          <a:xfrm>
            <a:off x="990108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D71DB-A338-4A60-8B0D-B2D0CC002930}" type="slidenum">
              <a:rPr b="0" lang="en-US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8" name="Picture 5" descr=""/>
          <p:cNvPicPr/>
          <p:nvPr/>
        </p:nvPicPr>
        <p:blipFill>
          <a:blip r:embed="rId1"/>
          <a:stretch/>
        </p:blipFill>
        <p:spPr>
          <a:xfrm>
            <a:off x="2271600" y="536400"/>
            <a:ext cx="1175040" cy="747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767040" y="165240"/>
            <a:ext cx="7182000" cy="111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P DE SANEAMIENTO</a:t>
            </a:r>
            <a:br>
              <a:rPr sz="2400"/>
            </a:br>
            <a:endParaRPr b="0" lang="en-US" sz="2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216080" y="1869840"/>
            <a:ext cx="9912240" cy="5327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36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cciones correctivas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Cada establecimiento oficial deberá tomar las acciones correctivas apropiadas cuando el SOP de saneamiento ha fallado en la prevención de la contaminación directa del producto.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Las acciones correctivas incluyen: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Disposición adecuada del producto 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Restablecimiento de las condiciones sanitarias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Prevención de la recurrencia 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Reevaluación y modificación de los SOP de saneamiento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1" name="Slide Number Placeholder 1"/>
          <p:cNvSpPr/>
          <p:nvPr/>
        </p:nvSpPr>
        <p:spPr>
          <a:xfrm>
            <a:off x="990108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77628-4143-42FA-A8DE-839A74FB76E0}" type="slidenum">
              <a:rPr b="0" lang="en-US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2" name="Picture 5" descr=""/>
          <p:cNvPicPr/>
          <p:nvPr/>
        </p:nvPicPr>
        <p:blipFill>
          <a:blip r:embed="rId1"/>
          <a:stretch/>
        </p:blipFill>
        <p:spPr>
          <a:xfrm>
            <a:off x="2271600" y="536400"/>
            <a:ext cx="1175040" cy="747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767040" y="164880"/>
            <a:ext cx="7182000" cy="149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P DE SANEAMIENTO</a:t>
            </a:r>
            <a:br>
              <a:rPr sz="2400"/>
            </a:br>
            <a:endParaRPr b="0" lang="en-US" sz="2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644040" y="1657080"/>
            <a:ext cx="99126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5000"/>
          </a:bodyPr>
          <a:p>
            <a:pPr marL="129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antenimiento de registros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129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129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Cada establecimiento oficial deberá mantener registros diarios para documentar el seguimiento de los SOP de saneamiento y las acciones correctivas tomadas.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129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129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Los registros pueden ser llevados en computadoras 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129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129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Los registros requeridos deberán ser conservados durante al menos 6 meses 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1296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5" name="Slide Number Placeholder 1"/>
          <p:cNvSpPr/>
          <p:nvPr/>
        </p:nvSpPr>
        <p:spPr>
          <a:xfrm>
            <a:off x="990108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473E2-D49B-41B7-BC6C-2C2C1420DE81}" type="slidenum">
              <a:rPr b="0" lang="en-US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6" name="Picture 5" descr=""/>
          <p:cNvPicPr/>
          <p:nvPr/>
        </p:nvPicPr>
        <p:blipFill>
          <a:blip r:embed="rId1"/>
          <a:stretch/>
        </p:blipFill>
        <p:spPr>
          <a:xfrm>
            <a:off x="2271600" y="536400"/>
            <a:ext cx="1175040" cy="747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17:00:43Z</dcterms:created>
  <dc:creator>William James</dc:creator>
  <dc:description/>
  <dc:language>en-US</dc:language>
  <cp:lastModifiedBy>Monica</cp:lastModifiedBy>
  <cp:lastPrinted>2019-01-22T18:10:04Z</cp:lastPrinted>
  <dcterms:modified xsi:type="dcterms:W3CDTF">2019-02-02T12:17:45Z</dcterms:modified>
  <cp:revision>27</cp:revision>
  <dc:subject/>
  <dc:title>SANITATION STANDARD OPERATING PROCEDURES</dc:title>
</cp:coreProperties>
</file>