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41520" y="1162080"/>
            <a:ext cx="557496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73720"/>
            <a:ext cx="5486400" cy="36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5B83-3D88-47CE-97A8-E8990D584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641520" y="1162080"/>
            <a:ext cx="5574960" cy="31370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73720"/>
            <a:ext cx="54864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95CD-8597-4371-9ED7-3C2F3DC3D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641520" y="1162080"/>
            <a:ext cx="5574960" cy="3137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73720"/>
            <a:ext cx="54864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829720"/>
            <a:ext cx="29718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14D8-E678-4EA3-8C5F-3144AF19E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10A-18A5-42A9-A742-D722300BB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C731-D244-4CCD-A7BB-19336B19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38CB-2B7F-48F5-B361-6EB657CD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9CE-DACF-4AAD-B624-2D3EF54C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22B-8D77-474E-AE13-8692736A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B404-3EFA-4976-8F16-8C968E7E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5AAB-EE32-4647-9592-CBB45648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90A-2D62-45B0-9D80-73E6EDC8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9346-8438-4AE0-9FD8-34177F3B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7C67-2031-4C88-8C50-31D4BA61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A5E1-E102-4B24-908C-CE10F41C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FC45-4077-4871-8923-EB7C4F34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F2B95-D07B-4724-B35B-4956C873CB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-  August 2018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18DC-DD5E-432D-9AF9-C0F900A032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120"/>
            <a:ext cx="9144000" cy="203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 Light"/>
              </a:rPr>
              <a:t>Programa nacional de muestreo de residuos del FSIS y políticas relacionadas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. Victor Cook, J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icrobiologist/Managing Me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6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fetyTaste Solutions, LL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ebrero 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5F9C-9330-405E-9510-463CB1F73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81040" y="365040"/>
            <a:ext cx="107726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Cantidad de muestras requeridas para detectar la prevalencia de residuos (Nivel 1 del NRP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81040" y="1690560"/>
          <a:ext cx="10515600" cy="479592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752480"/>
                <a:gridCol w="1752480"/>
                <a:gridCol w="1752840"/>
                <a:gridCol w="175248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babilidad de detección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99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tasa de def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revalencia de residuo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6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4A86-4DF3-4142-ABB1-1238AAE5B3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Muestreo del Nivel 2 y 3 del NRP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837720" y="1417320"/>
            <a:ext cx="9372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nivel 2 consiste en dos programas naciona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estreo generado por el inspector (por alguna caus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sultado positivo de la prueba KIS en planta (método FSIS CLG-ADD 3.0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ugar de inyección en la carcasa u otra evidencia sospechosa de contaminación ambiental / medicamen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gramas de evaluación explorato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Investigan las tendencias de residuos y preocupaciones emergentes (por ejemplo, compuestos sin tolerancia establecid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resultados informan las futuras prioridades del muestreo de Nivel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muestreo de nivel 3 investiga la exposición a sustancias químicas regionales domésticas a nivel de rodeo (por ejemplo, investigación de múltiples agencias sobre la contaminación ambiental a nivel de explotación o área geográfica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CCFB-DD28-4803-87C2-034FE2D73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15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Pruebas de residuos de productos importados del FSI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5120" y="1519200"/>
            <a:ext cx="1088856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r peso,&gt; 50% de las importaciones reguladas por el FSIS son productos de carne vacuna (51% crudos, 5% procesado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Diferencias para el muestreo de importaciones comparado con el muestreo nacional Nivel 1 del NRP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productos de carne cruda son solo músculos (es decir, sin carcasas, sin hígado o riñó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Se incluyen productos procesados (es decir, listos para consumir RT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información sobre categoría de producción no está disponi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s prácticas de aplicación de medicamentos varían según el país (los analitos blanco pueden ser diferen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Número de muestras de importación proyectadas para 2018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33320" y="5010120"/>
          <a:ext cx="10007640" cy="2193840"/>
        </p:xfrm>
        <a:graphic>
          <a:graphicData uri="http://schemas.openxmlformats.org/drawingml/2006/table">
            <a:tbl>
              <a:tblPr/>
              <a:tblGrid>
                <a:gridCol w="1254240"/>
                <a:gridCol w="1038240"/>
                <a:gridCol w="1050840"/>
                <a:gridCol w="1128600"/>
                <a:gridCol w="947880"/>
                <a:gridCol w="1127160"/>
                <a:gridCol w="1295280"/>
                <a:gridCol w="1011240"/>
                <a:gridCol w="115416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jetivos de análisis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lti-Residu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lucós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stici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ta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oni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r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ermect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sé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lf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ne cru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ne proces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95" name="Footer Placeholder 4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C62E-F71E-4353-8F98-EC6793AA1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 Light"/>
              </a:rPr>
              <a:t>Políticas sobre residuos de los Estados Unidos para medicamentos veterinarios y contaminantes ambiental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4D26-7028-4070-A3EF-87A664590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Políticas de residuos químicos en los Estados Unido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07760" y="1690200"/>
            <a:ext cx="1064556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os organismos reguladores de EE. UU. responsables de las tolerancias de residuos químicos y los niveles de acció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Centro de Medicina Veterinaria (CVM) del HHS de la Administración de Alimentos y Medicamentos (FDA) de los EE. UU. es responsable de establecer las prácticas y tolerancias aprobadas para el uso de medicamentos veterinarios en animales destinados a la alimentación según lo prescrito por las reglamentaciones federales en CFR 2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Agencia de Protección Ambiental de los EE. UU. (EPA, por sus siglas en inglés) es responsable de las políticas relacionadas con pesticidas y contaminantes ambientales según lo prescrito por las reglamentaciones federales en CFR 4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FSIS USDA colabora con estos organismos, según sea necesar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FSIS es responsable de la eliminación de las carcasas contaminadas y las cuestiones de cumplimiento relacionadas con el frigoríf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FDA sería responsable de la investigación y el cumplimiento en el establecimiento de produc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4C0E-43B5-4B37-95CA-3F0F952A9D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Acta de Aclaración del Uso de Drogas Medicinales en Animales de 1994 (AMDUCA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Reglamentación 21 CFR 530 permite a los veterinarios autorizados prescribir el uso fuera del contemplado en la etiqueta de medicamentos veterinarios y para humanos en circunstancias especia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so fuera de etiqueta = uso de un medicamento aprobado de una manera que no esta de acuerdo con lo aprobado en la etiqueta del medicame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jemplos de uso fuera de etiqueta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so en especies animales no mencionadas en la etiquet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so para enfermedades o afecciones que no figuran en la etique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se en dosis, frecuencia o vía de administración que no figuran en la etique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Desviación del período de retiro etiquetado basado en estos us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uchas limitaciones y excepciones a estas reglas se basan en consideraciones de salud públic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789B-526A-4322-8B9E-98A6B79CB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Medicamentos prohibidos por AMDUCA para uso fuera de etiqueta en animales para consumo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1879560"/>
            <a:ext cx="10515600" cy="43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loranfenic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lembuter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etilestilbestrol (D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imetridazol, ipronidazol y otros nitroimidazo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urazolidona y nitrofurazo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Sulfonamidas en ganado lactante (excepto el uso aprobado de sulfadimetoxina, sulfabromometazina y sulfametoxipiridazin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luoroquinolonas y glicopéptidos (es decir, debido a las tendencias de resistencia a los fármaco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Fenilbutazona en hembras lecheras ≥ 20 meses de e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efalosporinas (sin incluir cefapirina) en bovinos, cerdos, pollos y pavos para 1) prevención de enfermedades, 2) en dosis, frecuencias, duraciones o vías de administración no aprobadas, o 3) si el medicamento no está aprobado para esa especie y categoría de producción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CBADB-A411-4567-935B-CBFE1EE7B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Recursos y políticas para tolerancias de residuo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38080" y="2370240"/>
            <a:ext cx="10515600" cy="38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“Apéndice 1” (FSIS) resume los niveles de acción prescritos por 21 CFR, 40 CFR y 51 F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cluye especies animales y tipo de teji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a reciente Notificación del Registro Federal del FSIS describe una nueva política para compuestos sin límite de acción estableci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2138-5F86-47B6-82B8-BD80AADEA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Notificación del Registro Federal (FRN) Diciembre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7720" y="1417320"/>
            <a:ext cx="9372600" cy="49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El FSIS planea considerar límites regulatorios para compuestos potencialmente peligrosos no cubiertos por título 21 del CFR (medicamentos de uso veterinario) o 40 CFR (pesticidas) que incluye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Contaminantes ambient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etales pesad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Productos químicos industria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icotoxin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ra estos tipos de compuestos, el FSI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terminará los niveles mínimos utilizando valores de referencia basados en la salud provenientes de otras agencias (por ejemplo, EPA, FAO / O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alizará un muestreo de evaluación exploratoria de Nivel 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Incluye productos de huevo y siluriform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B4D9-CF46-4B93-A60D-6C8938ED6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Evaluación del impacto relativo de los pesticidas en la salud públic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17870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Riesgo relativo para la salud pública = Exposición x Toxicid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Uso (por ejemplo, prácticas conocidas, encuestas gubernamental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Biodisponibilidad (es decir, acumulación potencial en el tejido gras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Frecuencia (es decir, basada en datos histórico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Valor guía basado en la salud (es decir, evaluación de toxicidad basada en dosis de referencia agudas y crónicas de la diet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otencial carcinogénico (es decir, evidencia de asociación con cáncer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os 9 principales pesticidas de preocupación según la reciente evaluación del FSI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Objetivos de pruebas en el NRP del FSIS 2018 Dieldrín, Aldrín, Clordano (Cis y Trans), Heptacloro y Hexaclorobenceno (Hcb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o hay pruebas actuales del FSIS, pero posibles en el futuro para Mancozeb, Tribufos (Def) y Triflurali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446B-A96B-420F-8394-4333984492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Calibri Light"/>
              </a:rPr>
              <a:t>Programa nacional de muestreo de residuos del FSIS 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B75C-E950-45B8-ABDC-4BBC6BEE2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 Light"/>
              </a:rPr>
              <a:t>Muestreo del FSIS en el Puerto de importación de entrada (POE)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52200" y="1600200"/>
            <a:ext cx="925812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frecuencia de muestreo en el POE depende del puntaje de riesgo relativo para el país exportador (p. Ej., Auditoría anterior y resultados de pruebas de laboratori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"adulterante" se definiría com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patógeno prohibido (es decir, "tolerancia cero"), fármaco u otro residuo quím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Un residuo que exceda la tolerancia o los niveles de acción establecidos por la FDA de los EE. UU. o la EP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3920" indent="-2239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osible muestreo del FSIS en respuesta al hallazgo de un adulterante en el PO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estreo de investigación para verificar el alcance de la contamin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estreo de seguimiento para verificar que las acciones correctivas hayan eliminado el problema de contamin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6490-47C4-401A-B527-8A37A2C77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Calibri Light"/>
              </a:rPr>
              <a:t>Laboratorio del FSIS </a:t>
            </a:r>
            <a:br>
              <a:rPr sz="4400"/>
            </a:br>
            <a:r>
              <a:rPr b="1" lang="es-ES" sz="4400" spc="-1" strike="noStrike">
                <a:solidFill>
                  <a:srgbClr val="000000"/>
                </a:solidFill>
                <a:latin typeface="Calibri Light"/>
              </a:rPr>
              <a:t>Prueba de residuo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-  August 2018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CC76-BD38-45CA-A086-2B736322C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 Light"/>
              </a:rPr>
              <a:t>Métodos de muestreo y prueba de residuos para carcasas bovina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39960" y="1690200"/>
            <a:ext cx="10045440" cy="50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oma de muestras para productos naciona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Riñón (0,5 Kg), hígado (0,5 Kg) y/o musculo (1 K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Toma de muestras para productos importad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usculo (carnes crudas) o productos procesad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étodos de prueba del FSIS publicados en la Guía del laboratorio de química (CLG) en el sitio web del FSIS (sección "Ciencia"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cluye tejidos objetivo y controles de cali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os métodos de residuos de múltiples analitos desarrollados recientemente para medicamentos veterinarios y residuos ofrecen una mayor cobertura y eficiencia para el Programa Nacional de Residuos (NRP) del F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-  August 2018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CE4C-9023-400D-BA9C-1FB1C2F50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 Light"/>
              </a:rPr>
              <a:t>Clases de residuos/Métodos para tejidos bovinos FSIS CLG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ultiResiduos (MR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esticidas (PS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mino glucósidos (AM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vermectinas (AV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eta-agonistas (AG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ormonas (HR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rsénico (A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-  August 2018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3DAF-E948-4605-AABF-38561D6A3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 Light"/>
              </a:rPr>
              <a:t>Métodos multi-analitos (CLG-MRM) – Residuos objetivo 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7720" y="1690200"/>
            <a:ext cx="937260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Dos métodos diferentes de MRM detectan y confirman una amplia gama de medicamentos de uso veterinario en las siguientes clases de compuesto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Antimicrobianos que incluyen sulfonamidas, betalactámicos / cefalosporinas, tetraciclinas, macrólidos / lincosamidas, fluoroquinolonas y fenicol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Beta-agonist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edicamentos antiinflamatorios / analgésic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Hormon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Medicamentos en gener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-  August 2018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F7DD-6391-4EF1-B979-9CDE2D5B49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 Light"/>
              </a:rPr>
              <a:t>Consideraciones sobre la Equivalencia del Método Químic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837720" y="1690200"/>
            <a:ext cx="9372600" cy="46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El método detecta el analito en los EE. UU. o a nivel de la acción reguladora internacional (es decir, el que sea más bajo)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Si no hay un nivel de acción aparente de EE. UU. (FDA o EPA), se considera el Codex Alimentarius (es decir, en el futuro, el FSIS puede optar por establecer niveles de preocupación basados en datos de salud pública u otros precedent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Se valida el método documentado para el músculo del pe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¿Sigue el laboratorio el método y aplica controles equivalentes al FSI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-  August 2018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B4A2-FF6F-4233-A736-4A4B0B55BD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 Light"/>
              </a:rPr>
              <a:t>Aptitud de uso del método químic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7720" y="1790280"/>
            <a:ext cx="93726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Los métodos se validan para matrices / tejidos y  compuestos seleccionados por el programa de carcasas bovinas NRP del F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Niveles de detección (a partir del Componente 5 de la SRT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492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ra los compuestos que representan residuos de tolerancia cero (por ejemplo, drogas prohibidas), el método debe detectar el analito en un nivel comparable al del método FSG CL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492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Para compuestos que tienen un nivel de tolerancia o nivel de acción, el método debe detectar el analito al 50% del nivel de tolerancia o men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492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-  August 2018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9A75-2A1B-44BA-9B44-CB7BEDBF3E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Calibri Light"/>
              </a:rPr>
              <a:t>Guía del laboratorio de química</a:t>
            </a:r>
            <a:r>
              <a:rPr b="1" lang="en-US" sz="3200" spc="-1" strike="noStrike">
                <a:solidFill>
                  <a:srgbClr val="000000"/>
                </a:solidFill>
                <a:latin typeface="Calibri Light"/>
              </a:rPr>
              <a:t> (CLG) -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Calibri Light"/>
              </a:rPr>
              <a:t>Secciones para cada protocolo del métod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7720" y="1752120"/>
            <a:ext cx="9372600" cy="460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usque orientación sobre el programa de calidad en las secciones de protocolo apropiadas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 = Introduc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B = Equip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 = Reactivos y Solu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D = Estánda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 = Preparación de la muest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 = Procedimiento analític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G = Cálculos / Identific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 = Información de seguridad y precau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 = Plan de garantía de calidad (es decir, estándares de desempeño de aceptación de conjuntos de muestras, puntos de críticos control, verificación / muestras interlaboratorio, recepció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J = Apénd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K = Aprobaciones y autorida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-  August 2018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2DD2-9348-4AF6-9A2D-0213CDC2EC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 Light"/>
              </a:rPr>
              <a:t>¿Preguntas?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29CC-A2EF-476C-8925-F75620A375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Programa nacional de residuos (NRP) del FSI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7720" y="1854360"/>
            <a:ext cx="937260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NRP = plan anual para el muestreo y análisis del FSIS de residuos químicos (es decir, medicamentos veterinarios, pesticidas, contaminantes ambientales) de interés para la salud human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l FSIS administra el NRP, pero seis agencias federales de los EE. UU. asesoran sobre las prioridades de muestreo (es decir, el Equipo Asesor de Vigilancia = SAT por sus siglas en inglés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l NRP incluye el muestreo programado, el muestreo dirigido y el muestreo de importación actualmente organizado dentro de los tres niveles del programa (1-3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Calibri"/>
              </a:rPr>
              <a:t>"Libro azul"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 el plan de muestreo y prueba del NRP para el año en curs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Plazo = 1 de octubre - 30 de septiembre de cada año (es decir, año fiscal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" sz="2200" spc="-1" strike="noStrike" u="sng">
                <a:solidFill>
                  <a:srgbClr val="000000"/>
                </a:solidFill>
                <a:uFillTx/>
                <a:latin typeface="Calibri"/>
              </a:rPr>
              <a:t>"Libro Rojo" 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e refiere a los datos del programa de residuos para el año anterio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alibri"/>
              </a:rPr>
              <a:t>El FSIS publica actualizaciones del programa de residuos en el sitio web trimestralmente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33FC-75BF-4A6F-9A97-72FCCA2E88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El Equipo Asesor de Vigilancia representa a seis agencias de los Estados Unido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38080" y="1690200"/>
            <a:ext cx="105156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Agencia de protección ambiental de Estados Unidos (EP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onitorea e implementa controles de contaminación ambient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ntro del Departamento de Salud y Servicios Humanos de los EE. UU. (HHS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Administración de Alimentos y Medicamentos (FDA)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gula la seguridad de los medicamentos humanos / veterinarios y los alimentos no regulados por el USDA F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Centros para el Control y la Prevención de Enfermedades (CDC, por sus siglas en inglés)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monitorean las tendencias de la salud humana, incluidas las investigaciones de brot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Dentro del Departamento de Agricultura de los Estados Unidos (USDA)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Servicio de Investigación Agrícola (ARS)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aliza investigaciones que incluyen temas de seguridad alimentari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Los programas del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Servicio de Comercialización Agrícola (AMS)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apoyan la comercialización de productos alimentic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El </a:t>
            </a:r>
            <a:r>
              <a:rPr b="1" lang="es-ES" sz="2000" spc="-1" strike="noStrike" u="sng">
                <a:solidFill>
                  <a:srgbClr val="000000"/>
                </a:solidFill>
                <a:uFillTx/>
                <a:latin typeface="Calibri"/>
              </a:rPr>
              <a:t>Servicio de Seguridad e Inspección de los Alimentos (FSIS)</a:t>
            </a: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regula la inocuidad de la carne, aves de corral, huevos líquidos / secos y los peces siluriform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D7D9-2AA7-4C72-9965-7E1BA31E6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Muestreo de residuos del FSI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Directiva 10.800.1 del FSIS proporciona instrucciones a los inspectores del FSIS sobre el muestreo, las pruebas en planta y los procedimientos de verificació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l Aviso 81-15 del FSIS aborda el muestreo de import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estreo de residuos domésticos normalmente enfocado en el muestreo de carcas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iñón (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Hígado (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sculo (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Musculo del área de inyección (I) posible para las muestras generadas por el insp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roductos procesados muestreados en algunas circunstanci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14A2-63AD-49B3-82F6-920DD239D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Planes de muestreo de residuos del FSI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38080" y="1690560"/>
            <a:ext cx="105156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Producción nacional de los EE. UU. = Tres planes de muestreo de residuos químicos separados, pero interrelacionado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Nivel 1 = muestreo aleatorio programad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Nivel 2 = muestreo dirigido a nivel de producción o clase de compuest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Nivel 3 = muestreo dirigido a nivel de rodeo o clase de compuest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Plan de muestreo de reinspección de importación (IRS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Muestreo normal (muestreo aleatorio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Muestreo incrementado (mayor frecuencia de muestreo basada en decisiones de gestió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Muestreo intensificado (cuando la muestra anterior no cumplió con los requisito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CD0E-D84A-4EFF-9E39-49324AC87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Nivel 1 de muestreo del NRP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lección aleatoria de carcasas y lotes para muestreo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Frecuencia de muestreo basada en la probabilidad de detectar una infracción (para el programa en su conjunto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irve como base para comprender la exposición de las personas a los residu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El programa identifica e intenta reducir los establecimientos y explotaciones problemática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Se toman medidas reglamentarias para los residuos que excedan los niveles de acción de la FDA o EPA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Carcasas de ganado que generalmente se mantuvieron pendientes de los resultados de las prueb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libri"/>
              </a:rPr>
              <a:t>Las categorías de producción para el muestreo de Nivel 1 incluyen novillos, vaquillonas, vacas lecheras, vacas para carne y ternero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ooter Placeholder 3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29B3-0A60-4E50-815C-7B94013CB6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5160" y="365040"/>
            <a:ext cx="111394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Categoría de producción de ganado bovino (Nivel 1 del NRP )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55480" y="1528920"/>
          <a:ext cx="10515600" cy="5516280"/>
        </p:xfrm>
        <a:graphic>
          <a:graphicData uri="http://schemas.openxmlformats.org/drawingml/2006/table">
            <a:tbl>
              <a:tblPr/>
              <a:tblGrid>
                <a:gridCol w="1789200"/>
                <a:gridCol w="6438960"/>
                <a:gridCol w="22874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egoría de produ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 estimado de carcasas anual EUA 201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i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vinos machos castrados antes de la madurez sex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284.8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quillo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mbras jóvenes &gt; 1 año de edad pero que no haya parido todav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45.1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ca leche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cas hembras maduras criadas para la producción lechera, que normalmente han tenido uno o más tern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24.6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ca para car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cas hembras maduras criadas para el desarrollo de la musculatura, que normalmente han dado a luz a uno o más terne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49.5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ho maduro sin castr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7.0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nero para car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nera = bovino inmaduro (terneros) sin rumen funcional.  Bob = terneros recién nacidos &lt; 3 semanas de edad.  El FSIS esta trabajando para definir oficialmente ternera (veal) y sus subcategorí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.0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  <p:sp>
        <p:nvSpPr>
          <p:cNvPr id="78" name="Footer Placeholder 2"/>
          <p:cNvSpPr/>
          <p:nvPr/>
        </p:nvSpPr>
        <p:spPr>
          <a:xfrm>
            <a:off x="4038480" y="6858000"/>
            <a:ext cx="474516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 ternera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BAE7-E512-49C4-8D3C-D0AF51E3D8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3680" y="365040"/>
            <a:ext cx="111790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Calibri Light"/>
              </a:rPr>
              <a:t>Número de muestras de carcasa bovina por categoría de producción- Nivel 1 del NRP Carne vacuna/ternera 2018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69960" y="1690560"/>
          <a:ext cx="10683720" cy="4596120"/>
        </p:xfrm>
        <a:graphic>
          <a:graphicData uri="http://schemas.openxmlformats.org/drawingml/2006/table">
            <a:tbl>
              <a:tblPr/>
              <a:tblGrid>
                <a:gridCol w="1281240"/>
                <a:gridCol w="1112760"/>
                <a:gridCol w="1166760"/>
                <a:gridCol w="1227240"/>
                <a:gridCol w="1147680"/>
                <a:gridCol w="1187280"/>
                <a:gridCol w="1185840"/>
                <a:gridCol w="1386000"/>
                <a:gridCol w="988920"/>
              </a:tblGrid>
              <a:tr h="1453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egoría de produ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#Anim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estre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lti-Residuos (M,L,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mi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lucós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,L,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stici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,L,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eta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oni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,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rm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,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vermecti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,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sén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,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cas para ca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cas lecher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neros para ca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quillo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5803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ill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2" name="Footer Placeholder 2"/>
          <p:cNvSpPr/>
          <p:nvPr/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(c) SafetyTaste Solutions LLC.  All rights reser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F83B-8CA4-4333-A456-C25CEA837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4:30:01Z</dcterms:created>
  <dc:creator>Victor Cook</dc:creator>
  <dc:description/>
  <dc:language>en-US</dc:language>
  <cp:lastModifiedBy>Monica</cp:lastModifiedBy>
  <cp:lastPrinted>2019-01-22T16:38:13Z</cp:lastPrinted>
  <dcterms:modified xsi:type="dcterms:W3CDTF">2019-02-02T12:08:13Z</dcterms:modified>
  <cp:revision>226</cp:revision>
  <dc:subject/>
  <dc:title>Chemical Residue  Testing Programs  For Raw Beef Products</dc:title>
</cp:coreProperties>
</file>