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B13D9-A984-49CD-9485-2214E96F0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1C4A-EC65-4ABE-83D4-9FAB1382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1087-215B-46F2-A432-37A289ADFB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C771-8CBB-4ABD-B143-5CD91AD31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7432-D9B7-4859-950E-A2F9295EF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232E-A951-4004-9183-15259EBD4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3970-91EC-40B0-8421-3B25B67303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13EF-18ED-422B-B7E5-2904FC1D45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9707-91ED-40EE-9941-A118F4198B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E49C-9208-4FF9-B860-67BE50E14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3978-5C98-4FBB-8727-FF6326DF3A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17EB-86F1-4678-82CC-F1A8237C9D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79FB-A6E9-4AF9-89A3-7A6DD8F4E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1047-2605-4101-A407-F214BA779C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65F1-E3E8-4062-99A2-6577163FF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18CF2-CB90-4F01-AE04-8952A757A4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1E05-C65A-43B4-BA73-08AE203B9A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F775-40A7-4E5B-8E8C-B47A662B0C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8ACC-2B82-4A08-BAAF-0D8E61523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55DA-140F-47A9-9A64-9081963B5D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D66-A425-4352-BE04-4D91BAD6D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E5BA-679E-4419-A1C8-50BFEE6BD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EFEC-FC98-42ED-9A4F-3EFEF2864C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561960" y="766800"/>
            <a:ext cx="6819840" cy="3835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38B3-FD68-4C6D-B1AC-667EEEE86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Footer Placeholder 4"/>
          <p:cNvSpPr/>
          <p:nvPr/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James and Associates, L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718E-7931-4D43-9C6D-0F11FC8A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BA6B-283D-4888-AD4F-888A5659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1CB-FDF4-45B8-BB61-D6A8A496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340-0030-4C61-9851-D6D0B7B8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8D8F-F901-4654-A167-14AA0334D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DEC0-F776-4154-9233-C297254F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8130-3D1E-4318-88B2-A109BFFF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D8B0-F975-4CE7-B996-AC4340F5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FBF5A-93C4-4CE5-9A74-2E86EC25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4934-2CFF-453B-BD38-4AA184BE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448A-5242-45CF-8039-06A302B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BC5C-F903-4171-8661-BD02BDD2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B40D-4EE9-406F-AB9E-B7295A16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81B5-1B9F-4FFB-963A-07C1654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5AAB-C1DB-4470-80D3-BEA539DD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7B0-2D0B-4E1B-B654-221A38171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B1A2-B1BA-4ABC-9E82-9B4CE9AF1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EA7BB-C796-4520-960D-41FC9B9D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C1540-7D30-42AB-A0CF-22D282E8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56736-F95B-488F-A14C-C276EDBA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DDCD8-87E0-4393-89FE-6ED0464D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C055-59E9-4267-8F36-15B97F50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F2EB-CC1E-42AC-88B9-8917AC59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5F78C-C7D1-43FA-9EAA-23180660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7CF47-1395-42E1-8EFC-29BF21E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E2CD9-3A65-4EA5-9FA9-EF5C8E60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F0157-A27A-46AE-998A-81D62513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3EBCD-E295-48FA-940B-1557477E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C181E-185C-4113-8D36-6B3C808C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FF646-3261-43AF-BEB6-0592344E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F1FD-9724-4CC3-8EAD-D17C898A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1D1E3-86DB-44F0-9250-9507B747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7CF03-5C9F-4750-8042-07F3F9BC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2A8-B566-439B-AE54-7BB0A841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F68E-07DF-410E-A7B5-E77C4B3E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D6B1D-4E20-46F6-8118-9B143301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F925-FEA3-475C-8F21-3339B9CA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2E20-C862-4897-AF45-B1A50ED8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7F5B-D608-4B6C-8D83-36B40474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2F64F-0CB0-4781-BC44-39AB20D6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B2E55-F0A8-4F17-BD1E-5C75C4A7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7A997-2DFD-4744-A125-F6A53562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29AF3-93AB-4EFE-B2D1-AD9787366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733A2-D5EA-4F29-B6E1-63551AF7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39D-40DE-4F4C-A34C-E6BBAE4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8F3D8-2D89-4F9D-95C4-2711B758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F2BCE-C269-46FD-A37F-24B5202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0FF84-F40C-4A61-B248-E8A73A70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2969F-AA30-46B8-9B29-1257C5D4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CB9C7-B029-44D3-BFEB-D2B983E4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EA49ED-6B03-408D-AFDE-A35187B8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663D-D7C0-40E4-89D4-3CD86F9C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4655-5B86-429C-B4F6-D23950A8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4E12B-5145-4F67-9989-23BBA9E3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BDED-55BC-40CA-83CB-E5177F821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5BE-70E8-44DF-9005-5DE533C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BEDC3-1BA2-4B0B-BE32-0FEA9B81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136A-59F9-4235-AF51-57B3A70F1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0C94D-7DCC-4922-9223-026F4AE9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BDC4C-63AB-46BD-B734-3D7CDAC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59624-1DFF-4E58-80CE-FA0A6A1D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7AF09-6846-4057-B8D1-4C8BB9D5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B29B4-B5A8-414B-A267-90CC92E6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23A32-2DC3-4D1F-8C92-5B873696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8EDB3-3A8F-4960-9E7B-AA04408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E836C-3F67-488C-9FAE-CCD81214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33B0-E458-4E35-BF1A-8822162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D058-0C24-4232-8EF9-33668C53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951D2-E4E7-42AF-852E-359F6E901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0BB40-95BD-44A6-9F6C-13F6195C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94193-076F-4537-ABF3-2ECD36E0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EA462-29E3-4DD8-A0BF-EF631AE1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C7B94-9A33-4177-8B8E-51126C5F3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33AFE-1D04-4534-B779-FCAE506B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09045-F7F5-41C2-99E7-690E860A6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096920" y="287280"/>
            <a:ext cx="100584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89606-B4F0-414A-9AA9-C15669EF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69BD-D210-481F-B91A-B9853FCE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1587-5D93-4D9A-B8E5-65EB284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63104-E7C2-4DED-96F8-8EF501C4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46ECC-ABA5-4F84-9E79-4B60B258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653D-C0B7-429D-84D3-2C901F0B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251040" y="394740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C708B-19EA-45DE-98FA-2285BAB44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49784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898760" y="184644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09692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449784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7898760" y="3947400"/>
            <a:ext cx="32385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F68E0-831F-40DB-8BFF-56B51CB8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9692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51040" y="1846440"/>
            <a:ext cx="490824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96920" y="3947400"/>
            <a:ext cx="100584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0C4F-F1F4-42A0-9C8F-611BEA0CA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D357C-D6CB-4A30-8573-A114404DFA07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B5FB-6D53-4C2B-B1FE-1054B12D4DA8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D3C3-D00F-48A0-B9BA-016AA90253CD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4ADA-14EC-4C3B-A516-546CE10BE8BA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traight Connector 12"/>
          <p:cNvSpPr/>
          <p:nvPr/>
        </p:nvSpPr>
        <p:spPr>
          <a:xfrm>
            <a:off x="1208160" y="4343400"/>
            <a:ext cx="987588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E774-DE92-4D41-8FB7-148738BF392D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E2D-7192-443B-ADD0-0DCBA65A17DC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1622-8596-4809-ACB1-AE3790834026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809EB-D9BF-4CE9-A14D-1C04AADF33E7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0" y="0"/>
            <a:ext cx="405144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4040280" y="0"/>
            <a:ext cx="6336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65120" y="6459480"/>
            <a:ext cx="2619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B5E9-BC7F-4800-B826-B600FC1388B3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4800600" y="6459480"/>
            <a:ext cx="464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6025-509A-4AEC-8824-0F4C79C42075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0"/>
          <p:cNvSpPr/>
          <p:nvPr/>
        </p:nvSpPr>
        <p:spPr>
          <a:xfrm>
            <a:off x="0" y="4952880"/>
            <a:ext cx="1218888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1"/>
          <p:cNvSpPr/>
          <p:nvPr/>
        </p:nvSpPr>
        <p:spPr>
          <a:xfrm>
            <a:off x="0" y="491508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4291-EEDF-404B-989C-5ED98DCF9DD5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8FA4-D8C0-410D-95EC-A869FF6E07AF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6"/>
          <p:cNvSpPr/>
          <p:nvPr/>
        </p:nvSpPr>
        <p:spPr>
          <a:xfrm>
            <a:off x="0" y="6400800"/>
            <a:ext cx="1219212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6334200"/>
            <a:ext cx="1219212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traight Connector 9"/>
          <p:cNvSpPr/>
          <p:nvPr/>
        </p:nvSpPr>
        <p:spPr>
          <a:xfrm>
            <a:off x="1193760" y="1738440"/>
            <a:ext cx="99662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0"/>
          <p:cNvSpPr/>
          <p:nvPr/>
        </p:nvSpPr>
        <p:spPr>
          <a:xfrm>
            <a:off x="3240" y="6400800"/>
            <a:ext cx="1218888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11"/>
          <p:cNvSpPr/>
          <p:nvPr/>
        </p:nvSpPr>
        <p:spPr>
          <a:xfrm>
            <a:off x="0" y="6334200"/>
            <a:ext cx="1218888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96920" y="287280"/>
            <a:ext cx="100584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96920" y="1846440"/>
            <a:ext cx="100584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1096920" y="6459480"/>
            <a:ext cx="247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E963-70BA-4D8F-9BCB-70574BF0CEC2}" type="datetime">
              <a:rPr b="0" lang="en-US" sz="900" spc="-1" strike="noStrike">
                <a:solidFill>
                  <a:srgbClr val="bcbcbc"/>
                </a:solidFill>
                <a:latin typeface="Calibri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685680" y="6459480"/>
            <a:ext cx="4822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bcbcbc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990072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cbc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A03F-DAA5-4C75-94E3-C22EBE7CC052}" type="slidenum">
              <a:rPr b="0" lang="en-US" sz="1000" spc="-1" strike="noStrike">
                <a:solidFill>
                  <a:srgbClr val="bcbcbc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 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CTIVOS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1. Definir el propósito de la inspección post mortem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2. Identificar las responsabilidades de los establecimientos con respecto a la conducción de la inspección post mortem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3. Describir el proceso de realización de inspecciones post mortem y sus procedimientos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  <a:ea typeface="Arial"/>
              </a:rPr>
              <a:t>4. Definir de qué manera el establecimiento debe disponer del producto desechado.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D856-5095-40FB-98D9-98651BC63276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SO DE INSPECCIÓN POST-MORTEM</a:t>
            </a:r>
            <a:endParaRPr b="0" lang="en-US" sz="3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000000"/>
                </a:solidFill>
                <a:latin typeface="Arial"/>
                <a:ea typeface="Arial"/>
              </a:rPr>
              <a:t>Criterios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000000"/>
                </a:solidFill>
                <a:latin typeface="Arial"/>
                <a:ea typeface="Arial"/>
              </a:rPr>
              <a:t>Localizado vs. Generalizado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000000"/>
                </a:solidFill>
                <a:latin typeface="Arial"/>
                <a:ea typeface="Arial"/>
              </a:rPr>
              <a:t>Diagnóstico vs. Disposición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700" spc="-1" strike="noStrike">
                <a:solidFill>
                  <a:srgbClr val="000000"/>
                </a:solidFill>
                <a:latin typeface="Arial"/>
                <a:ea typeface="Arial"/>
              </a:rPr>
              <a:t>Seguridad alimentaria vs. inocuidad alimentaria. </a:t>
            </a: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DD48-B6A1-48F3-85AB-D01947308F9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OS RESTRINGIDO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Se define producto restringido a todo tipo de producto cárnico que fue inspeccionado y aprobado pero que no se puede liberar para consumo humano hasta haber sido sometido a un tratamiento específico porque tiene una enfermedad o condición que puede ser transmitida a los seres humanos si la carne no se trata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xisten varios tipos de tratamiento para los productos restringidos: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1. Refrigeració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2. Proceso térmico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3. Cocció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C6F7B-C3E8-42E1-9153-C1B49F3FE0B6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DUCTOS RESTRINGIDOS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Los productos restringidos se pueden utilizar para consumo humano luego de que se complete el tratamiento requerido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Por lo dicho anteriormente, los desechos y productos no comestibles no pueden convertirse en productos restringidos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El establecimiento debe controlar todos los productos restringidos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C056-F9E1-42C8-996E-F5E3BD478436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br>
              <a:rPr sz="2400"/>
            </a:b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DB32-A226-4AD8-9C2A-37680809871B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4" name=""/>
          <p:cNvGraphicFramePr/>
          <p:nvPr/>
        </p:nvGraphicFramePr>
        <p:xfrm>
          <a:off x="2271600" y="1870200"/>
          <a:ext cx="8425080" cy="4325760"/>
        </p:xfrm>
        <a:graphic>
          <a:graphicData uri="http://schemas.openxmlformats.org/drawingml/2006/table">
            <a:tbl>
              <a:tblPr/>
              <a:tblGrid>
                <a:gridCol w="1554120"/>
                <a:gridCol w="49320"/>
                <a:gridCol w="1992240"/>
                <a:gridCol w="1791000"/>
                <a:gridCol w="1569960"/>
                <a:gridCol w="1468440"/>
              </a:tblGrid>
              <a:tr h="109368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NDI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GELAMIENTO (15F) (-9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ía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-media 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-en c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COC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ts val="125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0F/ 30 mi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63360">
                        <a:lnSpc>
                          <a:spcPts val="1250"/>
                        </a:lnSpc>
                        <a:spcBef>
                          <a:spcPts val="13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77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O TÉRMICO 140F (60C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DUCTO TRITURADO COCIDO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rampión vacu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rampión ov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arampión porc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uberculo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Linfadenitis Case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88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arásitos (no transmisibles a human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33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Olor sexual de los porci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ositis eosinofilic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66600">
                        <a:lnSpc>
                          <a:spcPts val="1236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5" name="Rectangle 1"/>
          <p:cNvSpPr/>
          <p:nvPr/>
        </p:nvSpPr>
        <p:spPr>
          <a:xfrm>
            <a:off x="2833560" y="218592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46280" y="692280"/>
            <a:ext cx="665316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br>
              <a:rPr sz="3200"/>
            </a:b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 DEL ESTABLECIMIENTO SOBRE PRODUCTOS NO COMESTIBLES Y PRODUCTOS DESECHADOS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Los productos desechados son aquellos que fueron inspeccionados y cuyos resultados arrojan que están afectados por alguna enfermedad o condición que los hace no aptos para consumo humano. 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No comestible se refiere a los productos que por su naturaleza no se los trata como alimento para consumo humano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Ambos, los productos desechados y  los no comestibles, no son aptos para consumo humano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5E20-8F51-4AE0-85DB-A611BAA37D2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216080" y="1763640"/>
            <a:ext cx="999648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 DEL ESTABLECIMIENTO SOBRE PRODUCTOS NO COMESTIBLES Y  PRODUCTOS DESECHADOS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Destrucció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xisten dos métodos aprobados para hacer de los productos desechados y no comestibles no aptos para ser utilizados para consumo humano. A saber: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1. Rendering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2. Aplicación de desnaturalizantes aprobados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El rendering consiste en convertir productos desechados o no comestibles de tejido animal en otros productos con valor agregado mediante un proceso térmico o picando finamente el tejido original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  <a:ea typeface="Arial"/>
              </a:rPr>
              <a:t>Se debe desnaturalizar apropiadamente los materiales de desecho cuando se los deba enviar a otro lugar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6BB4-8E3F-4088-B63D-B998C1EE76D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 DEL ESTABLECIMIENTO SOBRE PRODUCTOS NO COMESTIBLES Y  PRODUCTOS DESECHADOS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Pautas de control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El control de los productos desechados y no comestibles consta de cinco pautas: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1. Identificació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2. Retenció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3. Separació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4. Destrucció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5. Documentació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EB3-1D2F-4E28-A89E-1E4362C8485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446280" y="692280"/>
            <a:ext cx="6653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ELOCIDAD DE LAS CINTAS TRANSPORTADORA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Las cintas transportadoras en las áreas de faena o eviscerado pueden operar a la máxima velocidad permitida por las autoridades siempre que existan condiciones óptimas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uando las condiciones no sean las óptimas, se requiere que se ajuste la velocidad de la cinta transportadora a fin de que los inspectores puedan llevar a cabo inspecciones post mortem del ganado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El veterinario puede solicitar que se ajuste la velocidad de la cinta transportadora cuando no se pueden mantener los procesos de control sobre la misma, debido a inconsistencias en el tamaño, el peso, el tipo de animal, el estado de salud, la patología, contaminación, dressing o presentación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3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5014-8D71-4FFE-B2C9-4D19ADA20F5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ARCAS DE INSPECCIÓ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Las marcas de inspección se aplican  justo antes de que la carcasa ingrese a la cámara frigorífica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Cada carcasa debe tener al menos una marca de inspección sobre cada mitad si se encuentra dividida al medio antes de ingresar a la cámara frigorífica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000000"/>
                </a:solidFill>
                <a:latin typeface="Arial"/>
                <a:ea typeface="Arial"/>
              </a:rPr>
              <a:t>Las carcasas que fueron inspeccionadas y aprobadas pueden salir del área de faena sin las marcas de inspección si  van a ser cortadas en el mismo establecimiento y éste mantiene el control adecuado de las mismas.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953C-D36C-4CB8-AC90-EF25BBE19D1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br>
              <a:rPr sz="24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FORMES DE INSPECCIÓN POST MORTEM. 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Arial"/>
                <a:ea typeface="Arial"/>
              </a:rPr>
              <a:t>El personal de inspección debe asimismo llevar registro del número de animales faenados, la cantidad y tipo de productos desechados y otros detalles. 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900" spc="-1" strike="noStrike">
                <a:solidFill>
                  <a:srgbClr val="000000"/>
                </a:solidFill>
                <a:latin typeface="Arial"/>
                <a:ea typeface="Arial"/>
              </a:rPr>
              <a:t>La información que se encuentra en los informes de faena refleja un registro preciso de la prevalencia de enfermedades halladas por los inspectores que realizan la inspección post mortem. 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AB4-2F44-479F-A538-5FA46C692E0F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46280" y="692280"/>
            <a:ext cx="6653160" cy="59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TRODUCCIÓ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inspección post mortem abarca los pasos de la faena que comienzan con la insensibilización y finalizan cuando se coloca la carcasa en la cámara de frigorífica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propósito de la inspección post mortem es proteger la salud pública asegurando que las carcasas y partes de carcasas que se comercializan sean saludables, no estén adulteradas y estén debidamente marcada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E12B-F4E4-48C8-B429-2B77D40AA7BC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imientos de inspección post mortem de ganado vacuno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Inspección de la cabeza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1. Observar la superficie exterior de la cabeza y los ojos. 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2. Realizar incisión y observar los cuatro pares de ganglios linfáticos – mandibular, parotídeos, retro faríngeos  laterales (Atlantales) y  retro faríngeos medios ( supra faríngeos)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3. Realizar incisión y observar  los músculos masticatorios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4. Observar y palpar la lengua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5598-2AF1-4758-BEDF-B803D18A44A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 mortem </a:t>
            </a:r>
            <a:br>
              <a:rPr sz="32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imientos de inspección post mortem de ganado vacuno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Inspección de la carcasa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1. Palpar los ganglios linfáticos inguinales superficiales, supra mamarios y los ilíacos internos. 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2. Observar la región lumbar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3. Observar y palpar los riñones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4. Observar los pilares del diafragma y el peritoneo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5. Observar y palpar el diafragma. 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000000"/>
                </a:solidFill>
                <a:latin typeface="Arial"/>
                <a:ea typeface="Arial"/>
              </a:rPr>
              <a:t>6. Observar la pleura, cortes de los músculos y huesos, cogote  y el exterior de la carcasa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500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3301-E33B-4FAA-9F4A-3E477AA8F822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5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 mortem </a:t>
            </a:r>
            <a:br>
              <a:rPr sz="32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imientos de inspección post mortem de ganado vacuno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Inspección de las vísceras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1. Observar los ganglios linfáticos  mesentéricos craneales y caudales  y las vísceras abdominales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2. Observar y palpar la unión rumino reticular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3.  Observar el esófago y el bazo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4. Realizar una incisión y observar los ganglios linfáticos pulmonares-  mediastínicos y traqueo bronquiales izquierdo y derecho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5. Observar y palpar la cara costal de la superficie pulmonar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6. Realizar incisión en el corazón, desde la base hasta el vértice o viceversa a través del tabique interventricular y observar el corte y las superficies internas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7. Girar los pulmones; observar las superficie ventral (plana) y la superficie exterior del corazón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8.  Realizar incisión de los ganglios linfáticos hepáticos (portales)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9. Abrir el conducto biliar y observar el contenido.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10. Observar y palpar la superficie ventral del hígado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  <a:ea typeface="Arial"/>
              </a:rPr>
              <a:t>11. Girar el hígado, palpar la impresión renal, observar y palpar la superficie parietal (dorsal).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2D97-D532-4086-BDA5-8E72532392A2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AR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 mortem </a:t>
            </a:r>
            <a:br>
              <a:rPr sz="3200"/>
            </a:b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dimientos de inspección post mortem de ganado vacuno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umen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La inspección P-M debe realizarse inmediatamente después de la faena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La inspección P-M debe incluir todas las carcasas y sus partes pertinentes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La inspección P-M debe ser parte de un sistema global basado en el riesgo para la producción de carne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La inspección P-M debe realizarse en condiciones higiénicas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000000"/>
                </a:solidFill>
                <a:latin typeface="Arial"/>
                <a:ea typeface="Arial"/>
              </a:rPr>
              <a:t>El producto descartado debe ser identificado, controlado y debidamente desechado.</a:t>
            </a: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B441C-1A7C-4522-BDD4-FBF62B770DCD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ES DE LOS ESTABLECIMIENTO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n tres responsabilidades básicas del establecimiento que están específicamente relacionadas con la inspección post mortem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1.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as condiciones de higiene durant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la preparación de las carcasas para la inspección post mortem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2. Presentación de carcasas y partes de carcasas para su inspección de una manera específica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s-AR" sz="2400" spc="-1" strike="noStrike">
                <a:solidFill>
                  <a:srgbClr val="000000"/>
                </a:solidFill>
                <a:latin typeface="Arial"/>
                <a:ea typeface="Arial"/>
              </a:rPr>
              <a:t>Los requisitos que debe cumplir el establecimiento en relación a  las instalaciones de las áreas de inspección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F4CC-851B-4ABA-AB3F-DE3196FB173D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SPONSABILIDADES DE LOS ESTABLECIMIENTO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dependientemente del número o la ubicación de las áreas de inspección, el establecimiento debe cumplir con las siguientes condiciones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spacio adecuado para realizar la inspección (por ejemplo, el tamaño y la altura del área de inspección)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luminación adecuada para realizar las inspeccione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stalaciones para el lavado de manos que aseguren que se mantienen las condiciones sanitaria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AR" sz="2000" spc="-1" strike="noStrike">
                <a:solidFill>
                  <a:srgbClr val="000000"/>
                </a:solidFill>
                <a:latin typeface="Arial"/>
                <a:ea typeface="Arial"/>
              </a:rPr>
              <a:t>Contenedores de desechos para el descarte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carcasas o sus partes desechada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5FC0C-CE2B-463F-88DE-BD5094EAE6DA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SO DE INSPECCIÓN POST-MOR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isión genera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Al igual que en la inspección ante mortem, existen tres resultados posibles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aprobado, y por lo tanto elegible para recibir la marca de inspección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sospechoso, que debe ser retenido para disposición del veterinario (cuando la inspección es realizada por personal no veterinario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desechado, que no es elegible para recibir marcas de inspección y no puede ingresar al comercio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E00F-A69D-46DC-BB30-93BB26737E3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SO DE INSPECCIÓN POST-MORTEM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Saneamient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establecimiento debe tener y cumplir una serie de procedimientos para mantener la higiene en las operaciones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Insistir siempre en la correcta higiene de los empleados del establecimiento al realizar los procedimientos de inspección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inspectores son responsables de verificar que el establecimiento esté preparando la carcasa y sus partes de manera higiénica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BACB-D3B3-4741-BDD3-460E70C82033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SO DE INSPECCIÓN POST-MOR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Métodos generales en la inspección post morte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métodos generales utilizados para detectar enfermedades, anomalías y contaminación involucran a los sentidos. Éstos incluyen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ista: observar una lesión causada por enfermedad (por ejemplo, un tumor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Tacto: palpación (por ejemplo, palpar firmeza anormal en un órgano)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lfato, por ejemplo, oler el contenido de un absceso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9479-D6FF-4A51-8195-277A6A26F6B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SO DE INSPECCIÓN POST-MORTEM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importancia de los ganglios linfáticos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l sistema linfático es de importancia primordial en la detección organoléptica de la enfermedad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os ganglios linfáticos funcionan como filtros para los microorganismos de la enfermedad y sustancias químicas anormales en el fluido tisular del cuerpo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En algunos ganglios linfáticos y tejidos se debe hacer una incisión para observar las porciones interna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C419-7B7B-446A-B934-B6EA21946D30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8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446280" y="691920"/>
            <a:ext cx="6653160" cy="81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Inspección post-mortem</a:t>
            </a:r>
            <a:endParaRPr b="0" lang="en-US" sz="24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216080" y="1870200"/>
            <a:ext cx="999648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136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CESO DE INSPECCIÓN POST-MORTEM</a:t>
            </a:r>
            <a:endParaRPr b="0" lang="en-US" sz="32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El proceso de inspección post mortem en ganado consta de los siguientes pasos: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inspección de cabeza,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inspección de vísceras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• </a:t>
            </a:r>
            <a:r>
              <a:rPr b="1" lang="es-ES" sz="2900" spc="-1" strike="noStrike">
                <a:solidFill>
                  <a:srgbClr val="000000"/>
                </a:solidFill>
                <a:latin typeface="Arial"/>
                <a:ea typeface="Arial"/>
              </a:rPr>
              <a:t>inspección de carcasas</a:t>
            </a:r>
            <a:endParaRPr b="0" lang="en-US" sz="29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  <a:p>
            <a:pPr marL="13644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Footer Placeholder 2"/>
          <p:cNvSpPr/>
          <p:nvPr/>
        </p:nvSpPr>
        <p:spPr>
          <a:xfrm>
            <a:off x="5108400" y="6416640"/>
            <a:ext cx="207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WILLIAM JAMES AND ASSOCIATES, LLC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Slide Number Placeholder 1"/>
          <p:cNvSpPr/>
          <p:nvPr/>
        </p:nvSpPr>
        <p:spPr>
          <a:xfrm>
            <a:off x="9901080" y="6459480"/>
            <a:ext cx="1311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8A11-432E-470B-9FC2-4388A1989629}" type="slidenum">
              <a:rPr b="0" lang="en-US" sz="10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Picture 5" descr=""/>
          <p:cNvPicPr/>
          <p:nvPr/>
        </p:nvPicPr>
        <p:blipFill>
          <a:blip r:embed="rId1"/>
          <a:stretch/>
        </p:blipFill>
        <p:spPr>
          <a:xfrm>
            <a:off x="2271600" y="536400"/>
            <a:ext cx="1175040" cy="7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5T18:51:10Z</dcterms:created>
  <dc:creator>Rebecca James</dc:creator>
  <dc:description/>
  <dc:language>en-US</dc:language>
  <cp:lastModifiedBy>Monica</cp:lastModifiedBy>
  <cp:lastPrinted>2019-01-22T22:50:51Z</cp:lastPrinted>
  <dcterms:modified xsi:type="dcterms:W3CDTF">2019-02-02T11:46:42Z</dcterms:modified>
  <cp:revision>125</cp:revision>
  <dc:subject/>
  <dc:title>Post-Mortem Inspection</dc:title>
</cp:coreProperties>
</file>