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23"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4"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325"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26"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7"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3FE4-5F71-4C2A-9461-F6DE3E78FB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533520" y="754200"/>
            <a:ext cx="6705360" cy="3771720"/>
          </a:xfrm>
          <a:prstGeom prst="rect">
            <a:avLst/>
          </a:prstGeom>
          <a:ln w="0">
            <a:noFill/>
          </a:ln>
        </p:spPr>
      </p:sp>
      <p:sp>
        <p:nvSpPr>
          <p:cNvPr id="40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4D04-E98D-4D88-9DC1-A7F6E75EC0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533520" y="754200"/>
            <a:ext cx="6705360" cy="3771720"/>
          </a:xfrm>
          <a:prstGeom prst="rect">
            <a:avLst/>
          </a:prstGeom>
          <a:ln w="0">
            <a:noFill/>
          </a:ln>
        </p:spPr>
      </p:sp>
      <p:sp>
        <p:nvSpPr>
          <p:cNvPr id="43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FC3EA-A863-4FAA-BA10-16C28503D1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9"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533520" y="754200"/>
            <a:ext cx="6705360" cy="3771720"/>
          </a:xfrm>
          <a:prstGeom prst="rect">
            <a:avLst/>
          </a:prstGeom>
          <a:ln w="0">
            <a:noFill/>
          </a:ln>
        </p:spPr>
      </p:sp>
      <p:sp>
        <p:nvSpPr>
          <p:cNvPr id="44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9BA2B-C7DF-4310-9EB4-4114E95052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533520" y="754200"/>
            <a:ext cx="6705360" cy="3771720"/>
          </a:xfrm>
          <a:prstGeom prst="rect">
            <a:avLst/>
          </a:prstGeom>
          <a:ln w="0">
            <a:noFill/>
          </a:ln>
        </p:spPr>
      </p:sp>
      <p:sp>
        <p:nvSpPr>
          <p:cNvPr id="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2CC5-4A54-4ADB-AF8A-A45AC9B366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4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533520" y="754200"/>
            <a:ext cx="6705360" cy="3771720"/>
          </a:xfrm>
          <a:prstGeom prst="rect">
            <a:avLst/>
          </a:prstGeom>
          <a:ln w="0">
            <a:noFill/>
          </a:ln>
        </p:spPr>
      </p:sp>
      <p:sp>
        <p:nvSpPr>
          <p:cNvPr id="44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9D3E-1A37-4E11-8761-33ABB891FB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1"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533520" y="754200"/>
            <a:ext cx="6705360" cy="3771720"/>
          </a:xfrm>
          <a:prstGeom prst="rect">
            <a:avLst/>
          </a:prstGeom>
          <a:ln w="0">
            <a:noFill/>
          </a:ln>
        </p:spPr>
      </p:sp>
      <p:sp>
        <p:nvSpPr>
          <p:cNvPr id="45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B92A1-ABF3-43AF-A19A-48D21397E2B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5"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533520" y="754200"/>
            <a:ext cx="6705360" cy="3771720"/>
          </a:xfrm>
          <a:prstGeom prst="rect">
            <a:avLst/>
          </a:prstGeom>
          <a:ln w="0">
            <a:noFill/>
          </a:ln>
        </p:spPr>
      </p:sp>
      <p:sp>
        <p:nvSpPr>
          <p:cNvPr id="4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8535-8695-4EF4-B045-9350FE8B10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59"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533520" y="754200"/>
            <a:ext cx="6705360" cy="3771720"/>
          </a:xfrm>
          <a:prstGeom prst="rect">
            <a:avLst/>
          </a:prstGeom>
          <a:ln w="0">
            <a:noFill/>
          </a:ln>
        </p:spPr>
      </p:sp>
      <p:sp>
        <p:nvSpPr>
          <p:cNvPr id="4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E014-BA0B-460D-806A-7DA7E33046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0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533520" y="754200"/>
            <a:ext cx="6705360" cy="3771720"/>
          </a:xfrm>
          <a:prstGeom prst="rect">
            <a:avLst/>
          </a:prstGeom>
          <a:ln w="0">
            <a:noFill/>
          </a:ln>
        </p:spPr>
      </p:sp>
      <p:sp>
        <p:nvSpPr>
          <p:cNvPr id="40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D2013-B59A-4953-B48F-199290D68C4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1"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533520" y="754200"/>
            <a:ext cx="6705360" cy="3771720"/>
          </a:xfrm>
          <a:prstGeom prst="rect">
            <a:avLst/>
          </a:prstGeom>
          <a:ln w="0">
            <a:noFill/>
          </a:ln>
        </p:spPr>
      </p:sp>
      <p:sp>
        <p:nvSpPr>
          <p:cNvPr id="41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319F9-CB45-4935-9794-259EEC18F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5"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533520" y="754200"/>
            <a:ext cx="6705360" cy="3771720"/>
          </a:xfrm>
          <a:prstGeom prst="rect">
            <a:avLst/>
          </a:prstGeom>
          <a:ln w="0">
            <a:noFill/>
          </a:ln>
        </p:spPr>
      </p:sp>
      <p:sp>
        <p:nvSpPr>
          <p:cNvPr id="41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5BD8-3FF4-43C9-A443-0B5EBCC1B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19"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533520" y="754200"/>
            <a:ext cx="6705360" cy="3771720"/>
          </a:xfrm>
          <a:prstGeom prst="rect">
            <a:avLst/>
          </a:prstGeom>
          <a:ln w="0">
            <a:noFill/>
          </a:ln>
        </p:spPr>
      </p:sp>
      <p:sp>
        <p:nvSpPr>
          <p:cNvPr id="42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B8FBA-0BF3-4960-B68B-5FA22AE29C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3"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533520" y="754200"/>
            <a:ext cx="6705360" cy="3771720"/>
          </a:xfrm>
          <a:prstGeom prst="rect">
            <a:avLst/>
          </a:prstGeom>
          <a:ln w="0">
            <a:noFill/>
          </a:ln>
        </p:spPr>
      </p:sp>
      <p:sp>
        <p:nvSpPr>
          <p:cNvPr id="4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F8586-A25C-45CF-BCCF-334FB1D27A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27"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533520" y="754200"/>
            <a:ext cx="6705360" cy="3771720"/>
          </a:xfrm>
          <a:prstGeom prst="rect">
            <a:avLst/>
          </a:prstGeom>
          <a:ln w="0">
            <a:noFill/>
          </a:ln>
        </p:spPr>
      </p:sp>
      <p:sp>
        <p:nvSpPr>
          <p:cNvPr id="42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B42B9-E976-4938-B72A-E0DEC85E97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1"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533520" y="754200"/>
            <a:ext cx="6705360" cy="3771720"/>
          </a:xfrm>
          <a:prstGeom prst="rect">
            <a:avLst/>
          </a:prstGeom>
          <a:ln w="0">
            <a:noFill/>
          </a:ln>
        </p:spPr>
      </p:sp>
      <p:sp>
        <p:nvSpPr>
          <p:cNvPr id="43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BCF7-28D8-42A1-A865-39E9624771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435" name="Footer Placeholder 4"/>
          <p:cNvSpPr/>
          <p:nvPr/>
        </p:nvSpPr>
        <p:spPr>
          <a:xfrm>
            <a:off x="0" y="8685360"/>
            <a:ext cx="2971800" cy="4586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James and Associates, LLC</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EC4CB-CA5E-4821-98DF-61F3A20B3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8D9A6-B31E-4C22-99EB-A1544D3F1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DC839-1F37-44C6-8C47-77E6A1CF2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BC379-B7DE-40C4-AAB3-3EBE08F47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D6C30B-EB4A-4068-980C-6AE8CD47A1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385BFE-182D-4FEA-B895-A1C5571121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5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3E4B1-7280-4C3A-B9DC-F6832FEC08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6D3E40-CF9C-4315-B786-41EC86599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22F66-73C1-4032-BDCA-296641EB3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511A1-EC85-4B63-8D38-89951F4A9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3F710-0284-44D3-9BD1-2875DBEAA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F964C1-D3F3-4181-82D6-3F197CB56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DD5CA-70DE-4F05-A168-108E49F75C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4CBAE-AFF2-4278-9D8F-0B1FCFE69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A90548-E532-4021-932A-2657BE975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CC7F59-44F8-40ED-A02F-7D06C7D0A1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8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8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64268F-51D7-4523-83F7-DEA0A6D80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AA18EA-BF40-4979-87F7-CF574C783C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4950CC-A61D-4942-9F0E-1BC07A59D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EC7CA2-47DC-43F3-893F-329516C3A6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0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0D8A03-29B1-4F96-8911-A5A7522DDD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DA60FB-0D0C-48A8-8789-28B887F0F7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B58D5-A38C-4CEC-B9D8-BA9B13AE6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AF8151-FA36-40B8-9853-61CFFC8F9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17C145-5CF3-4447-A751-7BB8E38060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1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1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EB387-CC27-4891-82CE-B5091E0960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16871E-58BF-4357-859B-ACB8AFABB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94817B-3741-4487-BC42-EB94B88FAC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2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368925-9122-4185-9A26-E28E278C3E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3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4A6BD9-F08D-4CF2-A595-E15A53774C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A3DCF5-9831-462A-96BA-0C3D3E2CB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4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C402A5-EFFC-44B5-A7BB-C5443512E7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FA8C38-64D0-4A8F-BF5A-758ACE1E2E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19419-7D58-4064-A9AF-F63CCF236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7C8F5-3EE4-4262-9DDC-C2EC46ADAE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E837D4-7C9E-460E-A5A1-1E709EC2EB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1F303-2ABB-43FD-9A15-FD74645825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5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1DC2A-32E0-4C6E-8407-FF6B64E13B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53B326-E1E3-45E2-A330-79F6B99F53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6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8C6FF3-7CC5-4B88-B11A-9F4216AE66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3C5C8-FB49-49E0-8E19-599A360B51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FC3EEE4-08FC-4C19-B3A5-CFF4C72EAE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7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7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8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11D43B-4C61-4C8F-BC1F-7104188E6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91D990-A5E7-49E1-8B9C-1A9D0C8FD6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00F31-7F1B-468C-B1D7-55012763D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5"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9B0C69-CC80-4277-8337-48EC54516E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7"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F784B-D7C6-4B1E-9D75-73748A5510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8CC9AD-A1CE-4D43-9150-C02CAF0A61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946D35-AF1D-4554-8F9F-0B6A8FC92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10C2DF-8EC0-4F3A-8377-C9FB00BC00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8CBAF-F313-4A50-97FD-20216B9A77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08"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0"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68F864-57D5-40AF-8FE0-66707F1962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4"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24B510-47E5-488C-8E9F-698119E532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6"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17"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8339D9-4ACD-4994-BEF8-8552C483D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1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2"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749472-56D8-44A4-B624-811DE5B18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3389F-F302-4137-A52B-AD1395E65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4"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5"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6"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7"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8"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29"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477621-F0C5-41ED-9823-68734BC8B6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A38E2A-B459-4CD1-9DC7-D36F0E973B0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1"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8FDEA-ABEF-43E5-A59A-3AEA93DC22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A044AE-1A0B-41E0-B750-6F41BBCA40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52FDB5-DCE7-4568-9B86-D55B2E5239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C8844F-058E-43D8-AA30-B58856DF28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CE0788-43CF-42B4-B632-54C377E9E6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F05026-7D7C-4272-9B45-FAC5A8D520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6"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DC86A0-CB7B-4BC4-9AD5-3105352662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5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59"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0"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246564-3A8C-41CF-B0CF-E15AC8162B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7140-1912-442A-88EF-3672C264C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2"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3"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8BEDA-A7BB-4514-8412-8A745CFB12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6"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68"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2848D0-2100-4B88-BADD-448A24AA4B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70"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1"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2"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3"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4"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5"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3656CB-0B34-4209-8BD0-EC9430528B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7C7A49-0354-425A-B286-3435E17A68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8B6712-82E7-44AF-A64B-D3A51E45E7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8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85F411-17F7-4146-8635-1219988803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31C4C3-25A0-45B6-8271-4CF2B3872A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E8E909-EF78-4B61-ACCB-BF2A25F42C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9BA82-072C-4326-B326-D2B7541989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9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9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EBC9F-7C67-4CB8-88BA-0467ECE4B6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D1560-488D-4A94-A84E-8D0BAE01D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EBF630-FED7-4D4C-B1DF-57BBA9893B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C4B84-D170-4F31-9B9F-27363B626B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0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0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7E3F30-F774-46DF-883E-98EC8D0E61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7DAA08-183F-4BB6-92AB-2B44D4B643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1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32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0D41A60-CCC2-4E25-8EDC-EC317BC50B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2C5B8-E19C-4D87-BF55-7FEB26BE3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00FE-B27B-4146-B15E-85AD4748A118}"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775E-25D4-410D-949B-3526E41486A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4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9"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5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52"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CD53B-F4AF-45B4-B73C-0A266F3B38C6}"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53"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95A6-36F9-4386-9BFA-AA520D6E0FDB}"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2"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93"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9"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42E0-0205-4EE0-BD0D-416EF97E9779}"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00"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7FB8-8935-4C8E-BA78-5A969176DD02}"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40"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4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45"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498C2-A369-490E-BCF6-B17828554BA2}"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46"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15591-C621-4465-8C26-316899DAAC3E}"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86"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90"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91"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009B-C839-4D4E-B91F-11FA9DDD793C}"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192"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F57F1-0B9D-4E94-833A-C26E177B37C3}"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32"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3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36"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37"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CA276-0923-4E3B-8D01-A31D680A2FE8}"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38"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EE043-FB89-4AF2-9EAB-FD0C70006B55}"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7"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78"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79"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80"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8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83"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45156-134D-4F86-8BC8-811018B98621}" type="datetime">
              <a:rPr b="0" lang="en-US" sz="900" spc="-1" strike="noStrike">
                <a:solidFill>
                  <a:srgbClr val="bcbcbc"/>
                </a:solidFill>
                <a:latin typeface="Calibri"/>
              </a:rPr>
              <a:t>07/28/26</a:t>
            </a:fld>
            <a:endParaRPr b="0" lang="en-US" sz="900" spc="-1" strike="noStrike">
              <a:solidFill>
                <a:srgbClr val="000000"/>
              </a:solidFill>
              <a:latin typeface="Calibri"/>
            </a:endParaRPr>
          </a:p>
        </p:txBody>
      </p:sp>
      <p:sp>
        <p:nvSpPr>
          <p:cNvPr id="284"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5"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35C2A-064B-4AE9-88EA-90E64524B6E6}" type="slidenum">
              <a:rPr b="0" lang="en-US" sz="1000" spc="-1" strike="noStrike">
                <a:solidFill>
                  <a:srgbClr val="bcbcbc"/>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30" name=""/>
          <p:cNvSpPr txBox="1"/>
          <p:nvPr/>
        </p:nvSpPr>
        <p:spPr>
          <a:xfrm>
            <a:off x="2406240" y="1870200"/>
            <a:ext cx="7924680" cy="4449600"/>
          </a:xfrm>
          <a:prstGeom prst="rect">
            <a:avLst/>
          </a:prstGeom>
          <a:noFill/>
          <a:ln w="0">
            <a:noFill/>
          </a:ln>
        </p:spPr>
        <p:txBody>
          <a:bodyPr lIns="0" rIns="0" anchor="t">
            <a:normAutofit/>
          </a:bodyPr>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ea typeface="Arial"/>
              </a:rPr>
              <a:t>Objectivos</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escribir las inquietudes del Servicio de Inspección de Sanidad Animal y Vegetal, USDA.</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Identificar las regiones que el APHIS ha declarado libres de fiebre aftosa.</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efinir los requisitos para la exportación de carne vacuna a los Estados Unidos.</a:t>
            </a:r>
            <a:endParaRPr b="0" lang="en-US" sz="2600" spc="-1" strike="noStrike">
              <a:solidFill>
                <a:srgbClr val="404040"/>
              </a:solidFill>
              <a:latin typeface="Calibri"/>
            </a:endParaRPr>
          </a:p>
          <a:p>
            <a:pPr marL="1364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31"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EBB81-A093-4CBC-8250-D2279749703B}"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2"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endParaRPr b="0" lang="en-US" sz="2800" spc="-1" strike="noStrike">
              <a:solidFill>
                <a:srgbClr val="404040"/>
              </a:solidFill>
              <a:latin typeface="Calibri Light"/>
            </a:endParaRPr>
          </a:p>
        </p:txBody>
      </p:sp>
      <p:sp>
        <p:nvSpPr>
          <p:cNvPr id="371" name=""/>
          <p:cNvSpPr txBox="1"/>
          <p:nvPr/>
        </p:nvSpPr>
        <p:spPr>
          <a:xfrm>
            <a:off x="1099800" y="555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2"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59F20-F7D4-46D8-A0A5-745FA907A29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3" name="Picture 5" descr=""/>
          <p:cNvPicPr/>
          <p:nvPr/>
        </p:nvPicPr>
        <p:blipFill>
          <a:blip r:embed="rId1"/>
          <a:stretch/>
        </p:blipFill>
        <p:spPr>
          <a:xfrm>
            <a:off x="2271600" y="536400"/>
            <a:ext cx="1175040" cy="747720"/>
          </a:xfrm>
          <a:prstGeom prst="rect">
            <a:avLst/>
          </a:prstGeom>
          <a:ln w="0">
            <a:noFill/>
          </a:ln>
        </p:spPr>
      </p:pic>
      <p:sp>
        <p:nvSpPr>
          <p:cNvPr id="374" name="Rectangle 7"/>
          <p:cNvSpPr/>
          <p:nvPr/>
        </p:nvSpPr>
        <p:spPr>
          <a:xfrm>
            <a:off x="1227240" y="1860480"/>
            <a:ext cx="993132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rPr>
              <a:t>Argentina Norte</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Argentina norte refiere a una región de Argentina ubicada al norte de Patagonia Sur y Patagonia Norte B. La región está ubicada al norte de la Región Patagonia; la Región Patagonia incluye la región ubicada al sur del paralelo 42 conocido como Patagonia Sur, y la región inmediatamente al norte del paralelo 42 conocido como Patagonia Norte B. Los límites de la región Patagonia Norte B son los siguientes: </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En el oeste a lo largo de la Cordillera de los Andes (frontera internacional con la República de Chile) en la Provincia de Neuquén; en el norte a lo largo del río Barrancas en la frontera con la Provincia de Mendoza; en el este, la frontera con la Provincia de Río Negro; y en el sur, el paralelo 42 y la frontera sur con la Provincia de Chubut.</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 </a:t>
            </a:r>
            <a:r>
              <a:rPr b="1" lang="es-ES" sz="2200" spc="-1" strike="noStrike">
                <a:solidFill>
                  <a:srgbClr val="000000"/>
                </a:solidFill>
                <a:latin typeface="Calibri"/>
              </a:rPr>
              <a:t>La región dentro de Argentina, al norte de la Patagonia Norte B descrita anteriormente se conoce como Argentina norte.</a:t>
            </a:r>
            <a:endParaRPr b="0" lang="en-US" sz="2200" spc="-1" strike="noStrike">
              <a:solidFill>
                <a:srgbClr val="000000"/>
              </a:solidFill>
              <a:latin typeface="Calibri"/>
            </a:endParaRPr>
          </a:p>
        </p:txBody>
      </p:sp>
    </p:spTree>
  </p:cSld>
  <p:transition spd="slow">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endParaRPr b="0" lang="en-US" sz="2800" spc="-1" strike="noStrike">
              <a:solidFill>
                <a:srgbClr val="404040"/>
              </a:solidFill>
              <a:latin typeface="Calibri Light"/>
            </a:endParaRPr>
          </a:p>
        </p:txBody>
      </p:sp>
      <p:sp>
        <p:nvSpPr>
          <p:cNvPr id="376"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383FC-676A-4488-AE8B-BBB6E64736C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78" name="Picture 5" descr=""/>
          <p:cNvPicPr/>
          <p:nvPr/>
        </p:nvPicPr>
        <p:blipFill>
          <a:blip r:embed="rId1"/>
          <a:stretch/>
        </p:blipFill>
        <p:spPr>
          <a:xfrm>
            <a:off x="2271600" y="536400"/>
            <a:ext cx="1175040" cy="747720"/>
          </a:xfrm>
          <a:prstGeom prst="rect">
            <a:avLst/>
          </a:prstGeom>
          <a:ln w="0">
            <a:noFill/>
          </a:ln>
        </p:spPr>
      </p:pic>
      <p:pic>
        <p:nvPicPr>
          <p:cNvPr id="379" name="Picture 2" descr=""/>
          <p:cNvPicPr/>
          <p:nvPr/>
        </p:nvPicPr>
        <p:blipFill>
          <a:blip r:embed="rId2"/>
          <a:stretch/>
        </p:blipFill>
        <p:spPr>
          <a:xfrm>
            <a:off x="4491000" y="1782720"/>
            <a:ext cx="2732040" cy="4513320"/>
          </a:xfrm>
          <a:prstGeom prst="rect">
            <a:avLst/>
          </a:prstGeom>
          <a:ln w="0">
            <a:noFill/>
          </a:ln>
        </p:spPr>
      </p:pic>
    </p:spTree>
  </p:cSld>
  <p:transition spd="slow">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br>
              <a:rPr sz="2400"/>
            </a:br>
            <a:endParaRPr b="0" lang="en-US" sz="2800" spc="-1" strike="noStrike">
              <a:solidFill>
                <a:srgbClr val="404040"/>
              </a:solidFill>
              <a:latin typeface="Calibri Light"/>
            </a:endParaRPr>
          </a:p>
        </p:txBody>
      </p:sp>
      <p:sp>
        <p:nvSpPr>
          <p:cNvPr id="381"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4242-EF9A-4CFD-BC29-B551A6CDE609}"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3" name="Picture 5" descr=""/>
          <p:cNvPicPr/>
          <p:nvPr/>
        </p:nvPicPr>
        <p:blipFill>
          <a:blip r:embed="rId1"/>
          <a:stretch/>
        </p:blipFill>
        <p:spPr>
          <a:xfrm>
            <a:off x="2271600" y="536400"/>
            <a:ext cx="1175040" cy="747720"/>
          </a:xfrm>
          <a:prstGeom prst="rect">
            <a:avLst/>
          </a:prstGeom>
          <a:ln w="0">
            <a:noFill/>
          </a:ln>
        </p:spPr>
      </p:pic>
      <p:sp>
        <p:nvSpPr>
          <p:cNvPr id="384" name="Rectangle 6"/>
          <p:cNvSpPr/>
          <p:nvPr/>
        </p:nvSpPr>
        <p:spPr>
          <a:xfrm>
            <a:off x="1273320" y="1758960"/>
            <a:ext cx="987876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Importación de carne vacuna fresca (enfriada o congelada) de regiones específica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Se puede exportar carne vacuna de animales nacidos, criados y faenados en las regiones exportadoras de Argentina.</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No se ha diagnosticado fiebre aftosa en la región exportadora de Argentina en los últimos 12 mes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 carne proviene de bovinos criados en instalaciones donde la fiebre aftosa no ha estado presente durante la vida útil de ningún bovino faenado para la exportación de carne a los Estados Unidos.</a:t>
            </a:r>
            <a:endParaRPr b="0" lang="en-US" sz="2600" spc="-1" strike="noStrike">
              <a:solidFill>
                <a:srgbClr val="000000"/>
              </a:solidFill>
              <a:latin typeface="Calibri"/>
            </a:endParaRPr>
          </a:p>
        </p:txBody>
      </p:sp>
    </p:spTree>
  </p:cSld>
  <p:transition spd="slow">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br>
              <a:rPr sz="2400"/>
            </a:br>
            <a:endParaRPr b="0" lang="en-US" sz="2800" spc="-1" strike="noStrike">
              <a:solidFill>
                <a:srgbClr val="404040"/>
              </a:solidFill>
              <a:latin typeface="Calibri Light"/>
            </a:endParaRPr>
          </a:p>
        </p:txBody>
      </p:sp>
      <p:sp>
        <p:nvSpPr>
          <p:cNvPr id="386"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854CC-3BE6-4AE3-AFDC-9931049D41E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88" name="Picture 5" descr=""/>
          <p:cNvPicPr/>
          <p:nvPr/>
        </p:nvPicPr>
        <p:blipFill>
          <a:blip r:embed="rId1"/>
          <a:stretch/>
        </p:blipFill>
        <p:spPr>
          <a:xfrm>
            <a:off x="2271600" y="536400"/>
            <a:ext cx="1175040" cy="747720"/>
          </a:xfrm>
          <a:prstGeom prst="rect">
            <a:avLst/>
          </a:prstGeom>
          <a:ln w="0">
            <a:noFill/>
          </a:ln>
        </p:spPr>
      </p:pic>
      <p:sp>
        <p:nvSpPr>
          <p:cNvPr id="389" name="Rectangle 6"/>
          <p:cNvSpPr/>
          <p:nvPr/>
        </p:nvSpPr>
        <p:spPr>
          <a:xfrm>
            <a:off x="1273320" y="1758960"/>
            <a:ext cx="987876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Importación de carne vacuna fresca (enfriada o congelada) de regiones específica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 carne proviene de bovinos u ovejas que se trasladaron directamente de las instalaciones de origen al frigorífico sin ningún contacto con otros animale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 carne proviene de bovinos que recibieron inspecciones veterinarias ante mortem y post mortem, prestando especial atención a cabezas y patas en el frigorífico, sin evidencia de enfermedad vesicular.</a:t>
            </a:r>
            <a:endParaRPr b="0" lang="en-US" sz="2600" spc="-1" strike="noStrike">
              <a:solidFill>
                <a:srgbClr val="000000"/>
              </a:solidFill>
              <a:latin typeface="Calibri"/>
            </a:endParaRPr>
          </a:p>
        </p:txBody>
      </p:sp>
    </p:spTree>
  </p:cSld>
  <p:transition spd="slow">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br>
              <a:rPr sz="2400"/>
            </a:br>
            <a:endParaRPr b="0" lang="en-US" sz="2800" spc="-1" strike="noStrike">
              <a:solidFill>
                <a:srgbClr val="404040"/>
              </a:solidFill>
              <a:latin typeface="Calibri Light"/>
            </a:endParaRPr>
          </a:p>
        </p:txBody>
      </p:sp>
      <p:sp>
        <p:nvSpPr>
          <p:cNvPr id="391"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2"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C7BEA-0391-42E9-9C1C-00FEC89B7A9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3" name="Picture 5" descr=""/>
          <p:cNvPicPr/>
          <p:nvPr/>
        </p:nvPicPr>
        <p:blipFill>
          <a:blip r:embed="rId1"/>
          <a:stretch/>
        </p:blipFill>
        <p:spPr>
          <a:xfrm>
            <a:off x="2271600" y="536400"/>
            <a:ext cx="1175040" cy="747720"/>
          </a:xfrm>
          <a:prstGeom prst="rect">
            <a:avLst/>
          </a:prstGeom>
          <a:ln w="0">
            <a:noFill/>
          </a:ln>
        </p:spPr>
      </p:pic>
      <p:sp>
        <p:nvSpPr>
          <p:cNvPr id="394" name="Rectangle 6"/>
          <p:cNvSpPr/>
          <p:nvPr/>
        </p:nvSpPr>
        <p:spPr>
          <a:xfrm>
            <a:off x="1273320" y="1758960"/>
            <a:ext cx="987876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Importación de carne vacuna fresca (enfriada o congelada) de regiones específica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 carne consiste solo en partes bovinas que, según la práctica habitual, forman parte de la carcasa del animal que se coloca en la cámara frigorífica para su maduración después de la faena y antes de extraer cualquier hueso, coágulos de sangre o tejido linfoide.</a:t>
            </a:r>
            <a:r>
              <a:rPr b="1" lang="en-US" sz="2600" spc="-1" strike="noStrike">
                <a:solidFill>
                  <a:srgbClr val="000000"/>
                </a:solidFill>
                <a:latin typeface="Calibri"/>
              </a:rPr>
              <a:t>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s partes bovinas que no se importan incluyen todas las partes de la cabeza, patas, giba, pezuñas y órganos internos.</a:t>
            </a:r>
            <a:endParaRPr b="0" lang="en-US" sz="2600" spc="-1" strike="noStrike">
              <a:solidFill>
                <a:srgbClr val="000000"/>
              </a:solidFill>
              <a:latin typeface="Calibri"/>
            </a:endParaRPr>
          </a:p>
        </p:txBody>
      </p:sp>
    </p:spTree>
  </p:cSld>
  <p:transition spd="slow">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br>
              <a:rPr sz="2400"/>
            </a:br>
            <a:endParaRPr b="0" lang="en-US" sz="2800" spc="-1" strike="noStrike">
              <a:solidFill>
                <a:srgbClr val="404040"/>
              </a:solidFill>
              <a:latin typeface="Calibri Light"/>
            </a:endParaRPr>
          </a:p>
        </p:txBody>
      </p:sp>
      <p:sp>
        <p:nvSpPr>
          <p:cNvPr id="396"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7F58-4822-48AE-BC97-220BCC03B78A}"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98" name="Picture 5" descr=""/>
          <p:cNvPicPr/>
          <p:nvPr/>
        </p:nvPicPr>
        <p:blipFill>
          <a:blip r:embed="rId1"/>
          <a:stretch/>
        </p:blipFill>
        <p:spPr>
          <a:xfrm>
            <a:off x="2271600" y="536400"/>
            <a:ext cx="1175040" cy="747720"/>
          </a:xfrm>
          <a:prstGeom prst="rect">
            <a:avLst/>
          </a:prstGeom>
          <a:ln w="0">
            <a:noFill/>
          </a:ln>
        </p:spPr>
      </p:pic>
      <p:sp>
        <p:nvSpPr>
          <p:cNvPr id="399" name="Rectangle 6"/>
          <p:cNvSpPr/>
          <p:nvPr/>
        </p:nvSpPr>
        <p:spPr>
          <a:xfrm>
            <a:off x="1273320" y="1758960"/>
            <a:ext cx="9878760" cy="405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Importación de carne vacuna fresca (enfriada o congelada) de regiones específica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Se han eliminado de la carne todos los huesos y coágulos de sangre visualmente identificables y el tejido linfoide.</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La carne proviene de carcasas que se dejaron madurar a una temperatura de 40 a 50 ° F (4 a 10 ° C) durante un mínimo de 24 horas después de la faena y alcanzó un pH inferior a 6,0 en el músculo del lomo al final del período de maduración.</a:t>
            </a:r>
            <a:endParaRPr b="0" lang="en-US" sz="2600" spc="-1" strike="noStrike">
              <a:solidFill>
                <a:srgbClr val="000000"/>
              </a:solidFill>
              <a:latin typeface="Calibri"/>
            </a:endParaRPr>
          </a:p>
        </p:txBody>
      </p:sp>
    </p:spTree>
  </p:cSld>
  <p:transition spd="slow">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endParaRPr b="0" lang="en-US" sz="2800" spc="-1" strike="noStrike">
              <a:solidFill>
                <a:srgbClr val="404040"/>
              </a:solidFill>
              <a:latin typeface="Calibri Light"/>
            </a:endParaRPr>
          </a:p>
        </p:txBody>
      </p:sp>
      <p:sp>
        <p:nvSpPr>
          <p:cNvPr id="334" name=""/>
          <p:cNvSpPr txBox="1"/>
          <p:nvPr/>
        </p:nvSpPr>
        <p:spPr>
          <a:xfrm>
            <a:off x="1226880" y="1870200"/>
            <a:ext cx="9924840" cy="4449600"/>
          </a:xfrm>
          <a:prstGeom prst="rect">
            <a:avLst/>
          </a:prstGeom>
          <a:noFill/>
          <a:ln w="0">
            <a:noFill/>
          </a:ln>
        </p:spPr>
        <p:txBody>
          <a:bodyPr lIns="0" rIns="0" anchor="t">
            <a:normAutofit/>
          </a:bodyPr>
          <a:p>
            <a:pPr marL="1364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Preocupaciones del Servicio de Inspección de Sanidad Animal y Vegetal</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El virus de la fiebre aftosa sobrevive en material contaminado y en el medio ambiente durante varios meses en condiciones adecuadas.</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Hay 7 tipos conocidos y más de 60 subtipos del virus de la fiebre aftosa.</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a inmunidad a un tipo no protege a un animal contra otros tipos o subtipos.</a:t>
            </a:r>
            <a:endParaRPr b="0" lang="en-US" sz="2600" spc="-1" strike="noStrike">
              <a:solidFill>
                <a:srgbClr val="404040"/>
              </a:solidFill>
              <a:latin typeface="Calibri"/>
            </a:endParaRPr>
          </a:p>
          <a:p>
            <a:pPr marL="13644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335"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D23A-9838-451C-8017-D9D06333B041}"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36"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38" name=""/>
          <p:cNvSpPr txBox="1"/>
          <p:nvPr/>
        </p:nvSpPr>
        <p:spPr>
          <a:xfrm>
            <a:off x="1287360" y="1763640"/>
            <a:ext cx="9925200" cy="5060880"/>
          </a:xfrm>
          <a:prstGeom prst="rect">
            <a:avLst/>
          </a:prstGeom>
          <a:noFill/>
          <a:ln w="0">
            <a:noFill/>
          </a:ln>
        </p:spPr>
        <p:txBody>
          <a:bodyPr lIns="0" rIns="0" anchor="t">
            <a:normAutofit/>
          </a:bodyPr>
          <a:p>
            <a:pPr marL="1364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Preocupaciones del Servicio de Inspección de Sanidad Animal y Vegetal</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La fiebre aftosa no es una amenaza para la seguridad alimentaria, pero causa pérdidas en la producción y dificultades para los productores.</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También tiene un serio impacto en el comercio ganadero - una sola detección de fiebre aftosa probablemente detendrá el comercio internacional por un período de tiempo.</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Dado que la enfermedad puede propagarse de manera amplia y rápida y tiene graves consecuencias económicas, la fiebre aftosa es una de las enfermedades animales más temidas.</a:t>
            </a:r>
            <a:endParaRPr b="0" lang="en-US" sz="2600" spc="-1" strike="noStrike">
              <a:solidFill>
                <a:srgbClr val="404040"/>
              </a:solidFill>
              <a:latin typeface="Calibri"/>
            </a:endParaRPr>
          </a:p>
        </p:txBody>
      </p:sp>
      <p:sp>
        <p:nvSpPr>
          <p:cNvPr id="339"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2E83-797F-4C55-A0F0-E7C5ACFA8D4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0"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42" name=""/>
          <p:cNvSpPr txBox="1"/>
          <p:nvPr/>
        </p:nvSpPr>
        <p:spPr>
          <a:xfrm>
            <a:off x="1226880" y="1870200"/>
            <a:ext cx="9924840" cy="4449600"/>
          </a:xfrm>
          <a:prstGeom prst="rect">
            <a:avLst/>
          </a:prstGeom>
          <a:noFill/>
          <a:ln w="0">
            <a:noFill/>
          </a:ln>
        </p:spPr>
        <p:txBody>
          <a:bodyPr lIns="0" rIns="0" anchor="t">
            <a:normAutofit/>
          </a:bodyPr>
          <a:p>
            <a:pPr marL="136440"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Arial"/>
                <a:ea typeface="Arial"/>
              </a:rPr>
              <a:t>Preocupaciones del Servicio de Inspección de Sanidad Animal y Vegetal</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Si bien muchos países en todo el mundo están lidiando con la FA en sus poblaciones ganaderas, Estados Unidos erradicó la enfermedad en 1929.</a:t>
            </a:r>
            <a:r>
              <a:rPr b="1" lang="en-US" sz="2600" spc="-1" strike="noStrike">
                <a:solidFill>
                  <a:srgbClr val="000000"/>
                </a:solidFill>
                <a:latin typeface="Arial"/>
                <a:ea typeface="Arial"/>
              </a:rPr>
              <a:t> </a:t>
            </a:r>
            <a:endParaRPr b="0" lang="en-US" sz="2600" spc="-1" strike="noStrike">
              <a:solidFill>
                <a:srgbClr val="404040"/>
              </a:solidFill>
              <a:latin typeface="Calibri"/>
            </a:endParaRPr>
          </a:p>
          <a:p>
            <a:pPr marL="1364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Arial"/>
              </a:rPr>
              <a:t>APHIS trabaja arduamente para evitar que la FA vuelva a ingresar al país.</a:t>
            </a:r>
            <a:endParaRPr b="0" lang="en-US" sz="2600" spc="-1" strike="noStrike">
              <a:solidFill>
                <a:srgbClr val="404040"/>
              </a:solidFill>
              <a:latin typeface="Calibri"/>
            </a:endParaRPr>
          </a:p>
        </p:txBody>
      </p:sp>
      <p:sp>
        <p:nvSpPr>
          <p:cNvPr id="343"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C49EA-C4DB-48B8-B636-58DD8771B46D}"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4" name="Picture 5" descr=""/>
          <p:cNvPicPr/>
          <p:nvPr/>
        </p:nvPicPr>
        <p:blipFill>
          <a:blip r:embed="rId1"/>
          <a:stretch/>
        </p:blipFill>
        <p:spPr>
          <a:xfrm>
            <a:off x="2271600" y="536400"/>
            <a:ext cx="1175040" cy="747720"/>
          </a:xfrm>
          <a:prstGeom prst="rect">
            <a:avLst/>
          </a:prstGeom>
          <a:ln w="0">
            <a:noFill/>
          </a:ln>
        </p:spPr>
      </p:pic>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46"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2983-5177-4DEA-8754-038BA996CBB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48" name="Picture 5" descr=""/>
          <p:cNvPicPr/>
          <p:nvPr/>
        </p:nvPicPr>
        <p:blipFill>
          <a:blip r:embed="rId1"/>
          <a:stretch/>
        </p:blipFill>
        <p:spPr>
          <a:xfrm>
            <a:off x="2271600" y="536400"/>
            <a:ext cx="1175040" cy="747720"/>
          </a:xfrm>
          <a:prstGeom prst="rect">
            <a:avLst/>
          </a:prstGeom>
          <a:ln w="0">
            <a:noFill/>
          </a:ln>
        </p:spPr>
      </p:pic>
      <p:pic>
        <p:nvPicPr>
          <p:cNvPr id="349" name="Rectangle 6" descr=""/>
          <p:cNvPicPr/>
          <p:nvPr/>
        </p:nvPicPr>
        <p:blipFill>
          <a:blip r:embed="rId2"/>
          <a:stretch/>
        </p:blipFill>
        <p:spPr>
          <a:xfrm>
            <a:off x="1146240" y="1695600"/>
            <a:ext cx="9991800" cy="4321080"/>
          </a:xfrm>
          <a:prstGeom prst="rect">
            <a:avLst/>
          </a:prstGeom>
          <a:ln w="0">
            <a:noFill/>
          </a:ln>
        </p:spPr>
      </p:pic>
    </p:spTree>
  </p:cSld>
  <p:transition spd="slow">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51"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2"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196F-7014-42FB-8FEF-873BE5A4B7A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3" name="Picture 5" descr=""/>
          <p:cNvPicPr/>
          <p:nvPr/>
        </p:nvPicPr>
        <p:blipFill>
          <a:blip r:embed="rId1"/>
          <a:stretch/>
        </p:blipFill>
        <p:spPr>
          <a:xfrm>
            <a:off x="2271600" y="536400"/>
            <a:ext cx="1175040" cy="747720"/>
          </a:xfrm>
          <a:prstGeom prst="rect">
            <a:avLst/>
          </a:prstGeom>
          <a:ln w="0">
            <a:noFill/>
          </a:ln>
        </p:spPr>
      </p:pic>
      <p:sp>
        <p:nvSpPr>
          <p:cNvPr id="354" name="Rectangle 6"/>
          <p:cNvSpPr/>
          <p:nvPr/>
        </p:nvSpPr>
        <p:spPr>
          <a:xfrm>
            <a:off x="1255680" y="1747800"/>
            <a:ext cx="9879120" cy="411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Regiones declaradas libres de Fiebre Aftosa por el APHIS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Islandia, *Irlanda, *Ital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Jamaica, *Japó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etonia, *Liechtenstein, *Lituania, *Luxemburg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Malta, Islas Marshall, México, Micronesi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Namibia (excluyendo la región al norte del Cordón Veterinario), *Países Bajos,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	</a:t>
            </a:r>
            <a:r>
              <a:rPr b="1" lang="es-ES" sz="2000" spc="-1" strike="noStrike">
                <a:solidFill>
                  <a:srgbClr val="000000"/>
                </a:solidFill>
                <a:latin typeface="Calibri"/>
              </a:rPr>
              <a:t>Nueva Caledonia, Nueva Zelanda, Nicaragua, *Norueg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Palau, Panamá, *Papua Nueva Guinea, *Polonia, *Portuga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San Pedro y Miquelón, *Eslovaquia, *Eslovenia, *España, *Suecia, *Suiz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Trinidad y Tobag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Reino Unido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transition spd="slow">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endParaRPr b="0" lang="en-US" sz="2800" spc="-1" strike="noStrike">
              <a:solidFill>
                <a:srgbClr val="404040"/>
              </a:solidFill>
              <a:latin typeface="Calibri Light"/>
            </a:endParaRPr>
          </a:p>
        </p:txBody>
      </p:sp>
      <p:sp>
        <p:nvSpPr>
          <p:cNvPr id="356"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3CE0-07D3-4C20-888A-0D6E2998EF5D}"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58" name="Picture 5" descr=""/>
          <p:cNvPicPr/>
          <p:nvPr/>
        </p:nvPicPr>
        <p:blipFill>
          <a:blip r:embed="rId1"/>
          <a:stretch/>
        </p:blipFill>
        <p:spPr>
          <a:xfrm>
            <a:off x="2271600" y="536400"/>
            <a:ext cx="1175040" cy="747720"/>
          </a:xfrm>
          <a:prstGeom prst="rect">
            <a:avLst/>
          </a:prstGeom>
          <a:ln w="0">
            <a:noFill/>
          </a:ln>
        </p:spPr>
      </p:pic>
      <p:sp>
        <p:nvSpPr>
          <p:cNvPr id="359" name="Rectangle 6"/>
          <p:cNvSpPr/>
          <p:nvPr/>
        </p:nvSpPr>
        <p:spPr>
          <a:xfrm>
            <a:off x="1273320" y="1758960"/>
            <a:ext cx="9878760" cy="42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Calibri"/>
              </a:rPr>
              <a:t>*</a:t>
            </a:r>
            <a:r>
              <a:rPr b="1" lang="es-ES" sz="2600" spc="-1" strike="noStrike" u="sng">
                <a:solidFill>
                  <a:srgbClr val="000000"/>
                </a:solidFill>
                <a:uFillTx/>
                <a:latin typeface="Calibri"/>
              </a:rPr>
              <a:t>APHIS ha declarado estas regiones libre de fiebre aftosa, sin embargo…</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La importación de carne y otros productos de origen animal de estas regiones a los Estados Unidos está sujeta a restricciones debido a que se aplican una o más de las siguientes condiciones:</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a. La región complementa su suministro nacional de carne mediante la importación de carne fresca de rumiantes o cerdos de regiones que el APHIS considera afectadas por fiebre aftosa;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b. La región tiene una frontera terrestre común con regiones consideradas afectadas por fiebre aftosa;</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Calibri"/>
              </a:rPr>
              <a:t>c. La región importa rumiantes o cerdos de regiones consideradas afectadas por fiebre aftosa en condiciones menos restrictivas de lo que sería aceptable para la importación a los Estados Unidos.</a:t>
            </a:r>
            <a:endParaRPr b="0" lang="en-US" sz="2000" spc="-1" strike="noStrike">
              <a:solidFill>
                <a:srgbClr val="000000"/>
              </a:solidFill>
              <a:latin typeface="Calibri"/>
            </a:endParaRPr>
          </a:p>
        </p:txBody>
      </p:sp>
    </p:spTree>
  </p:cSld>
  <p:transition spd="slow">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LA FIEBRE AFTOSA</a:t>
            </a:r>
            <a:br>
              <a:rPr sz="2400"/>
            </a:br>
            <a:endParaRPr b="0" lang="en-US" sz="2800" spc="-1" strike="noStrike">
              <a:solidFill>
                <a:srgbClr val="404040"/>
              </a:solidFill>
              <a:latin typeface="Calibri Light"/>
            </a:endParaRPr>
          </a:p>
        </p:txBody>
      </p:sp>
      <p:sp>
        <p:nvSpPr>
          <p:cNvPr id="361" name=""/>
          <p:cNvSpPr txBox="1"/>
          <p:nvPr/>
        </p:nvSpPr>
        <p:spPr>
          <a:xfrm>
            <a:off x="-360" y="672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2"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E8FBC-DAD8-4D8B-81C5-67AA2CC1D0F8}"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3" name="Picture 5" descr=""/>
          <p:cNvPicPr/>
          <p:nvPr/>
        </p:nvPicPr>
        <p:blipFill>
          <a:blip r:embed="rId1"/>
          <a:stretch/>
        </p:blipFill>
        <p:spPr>
          <a:xfrm>
            <a:off x="2271600" y="536400"/>
            <a:ext cx="1175040" cy="747720"/>
          </a:xfrm>
          <a:prstGeom prst="rect">
            <a:avLst/>
          </a:prstGeom>
          <a:ln w="0">
            <a:noFill/>
          </a:ln>
        </p:spPr>
      </p:pic>
      <p:sp>
        <p:nvSpPr>
          <p:cNvPr id="364" name="Rectangle 6"/>
          <p:cNvSpPr/>
          <p:nvPr/>
        </p:nvSpPr>
        <p:spPr>
          <a:xfrm>
            <a:off x="1273320" y="1758960"/>
            <a:ext cx="9878760" cy="484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u="sng">
                <a:solidFill>
                  <a:srgbClr val="000000"/>
                </a:solidFill>
                <a:uFillTx/>
                <a:latin typeface="Calibri"/>
              </a:rPr>
              <a:t>Importación de carne fresca (enfriada o congelada) de regiones específica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El </a:t>
            </a:r>
            <a:r>
              <a:rPr b="1" lang="es-ES" sz="2600" spc="-1" strike="noStrike">
                <a:solidFill>
                  <a:srgbClr val="000000"/>
                </a:solidFill>
                <a:latin typeface="Calibri"/>
              </a:rPr>
              <a:t>APHIS no ha declarado las siguientes regiones de Argentina libres de fiebre aftosa. Sin embargo, se permite la importación de carne vacuna de estas regiones a los Estados Unidos si se cumplen ciertos requisitos.</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Carne vacuna fresca (enfriada o congelada) </a:t>
            </a: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Calibri"/>
              </a:rPr>
              <a:t>• </a:t>
            </a:r>
            <a:r>
              <a:rPr b="1" lang="es-ES" sz="2600" spc="-1" strike="noStrike">
                <a:solidFill>
                  <a:srgbClr val="000000"/>
                </a:solidFill>
                <a:latin typeface="Calibri"/>
              </a:rPr>
              <a:t>Argentina Norte (región ubicada al norte de Patagonia Sur y Patagonia Norte B, conocida como Argentina Norte. La región a veces denominada Patagonia Norte A se incluye en la región Argentina Norte).</a:t>
            </a:r>
            <a:endParaRPr b="0" lang="en-US" sz="2600" spc="-1" strike="noStrike">
              <a:solidFill>
                <a:srgbClr val="000000"/>
              </a:solidFill>
              <a:latin typeface="Calibri"/>
            </a:endParaRPr>
          </a:p>
        </p:txBody>
      </p:sp>
    </p:spTree>
  </p:cSld>
  <p:transition spd="slow">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3720600" y="428400"/>
            <a:ext cx="7153560" cy="1228680"/>
          </a:xfrm>
          <a:prstGeom prst="rect">
            <a:avLst/>
          </a:prstGeom>
          <a:noFill/>
          <a:ln w="0">
            <a:noFill/>
          </a:ln>
        </p:spPr>
        <p:txBody>
          <a:bodyPr anchor="b">
            <a:noAutofit/>
          </a:bodyPr>
          <a:p>
            <a:pPr indent="0" algn="ctr">
              <a:lnSpc>
                <a:spcPct val="85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00"/>
                </a:solidFill>
                <a:latin typeface="Arial"/>
                <a:ea typeface="Arial"/>
              </a:rPr>
              <a:t>REQUISITOS PARA FIEBRE AFTOSA</a:t>
            </a:r>
            <a:br>
              <a:rPr sz="2400"/>
            </a:br>
            <a:endParaRPr b="0" lang="en-US" sz="2800" spc="-1" strike="noStrike">
              <a:solidFill>
                <a:srgbClr val="404040"/>
              </a:solidFill>
              <a:latin typeface="Calibri Light"/>
            </a:endParaRPr>
          </a:p>
        </p:txBody>
      </p:sp>
      <p:sp>
        <p:nvSpPr>
          <p:cNvPr id="366" name=""/>
          <p:cNvSpPr txBox="1"/>
          <p:nvPr/>
        </p:nvSpPr>
        <p:spPr>
          <a:xfrm>
            <a:off x="1099800" y="5555880"/>
            <a:ext cx="127080" cy="98280"/>
          </a:xfrm>
          <a:prstGeom prst="rect">
            <a:avLst/>
          </a:prstGeom>
          <a:noFill/>
          <a:ln w="0">
            <a:noFill/>
          </a:ln>
        </p:spPr>
        <p:txBody>
          <a:bodyPr lIns="0" rIns="0" anchor="t">
            <a:normAutofit/>
          </a:bodyPr>
          <a:p>
            <a:pPr marL="13644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7" name="Slide Number Placeholder 1"/>
          <p:cNvSpPr/>
          <p:nvPr/>
        </p:nvSpPr>
        <p:spPr>
          <a:xfrm>
            <a:off x="9901080" y="6459480"/>
            <a:ext cx="1311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4BAA1-9469-4052-9A61-4657DDBD8522}"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pic>
        <p:nvPicPr>
          <p:cNvPr id="368" name="Picture 5" descr=""/>
          <p:cNvPicPr/>
          <p:nvPr/>
        </p:nvPicPr>
        <p:blipFill>
          <a:blip r:embed="rId1"/>
          <a:stretch/>
        </p:blipFill>
        <p:spPr>
          <a:xfrm>
            <a:off x="2271600" y="536400"/>
            <a:ext cx="1175040" cy="747720"/>
          </a:xfrm>
          <a:prstGeom prst="rect">
            <a:avLst/>
          </a:prstGeom>
          <a:ln w="0">
            <a:noFill/>
          </a:ln>
        </p:spPr>
      </p:pic>
      <p:pic>
        <p:nvPicPr>
          <p:cNvPr id="369" name="Picture 2" descr=""/>
          <p:cNvPicPr/>
          <p:nvPr/>
        </p:nvPicPr>
        <p:blipFill>
          <a:blip r:embed="rId2"/>
          <a:stretch/>
        </p:blipFill>
        <p:spPr>
          <a:xfrm>
            <a:off x="5110200" y="1787400"/>
            <a:ext cx="2671560" cy="4451400"/>
          </a:xfrm>
          <a:prstGeom prst="rect">
            <a:avLst/>
          </a:prstGeom>
          <a:ln w="0">
            <a:noFill/>
          </a:ln>
        </p:spPr>
      </p:pic>
    </p:spTree>
  </p:cSld>
  <p:transition spd="slow">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1T18:23:24Z</dcterms:created>
  <dc:creator>William James</dc:creator>
  <dc:description/>
  <dc:language>en-US</dc:language>
  <cp:lastModifiedBy>Monica</cp:lastModifiedBy>
  <dcterms:modified xsi:type="dcterms:W3CDTF">2019-02-02T11:28:45Z</dcterms:modified>
  <cp:revision>70</cp:revision>
  <dc:subject/>
  <dc:title>FOOT AND MOUTH DISEASE  REQUIREMENTS</dc:title>
</cp:coreProperties>
</file>