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B66B5-4290-4D7D-8991-51F920726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1F036-9463-471F-9937-599CEA9A1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642E5-6CD9-44DD-B2EB-1E60EA0EE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D3F03-7B2C-4095-AAA9-C7CB7C310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C8D39F-F4B5-4C12-9682-236FD3125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5D8CE-FC13-4973-8EDC-D7B3F18C7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DBED6-9ACB-4850-86AC-D8EF0CA5D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C134A-6852-4F41-8DF8-36951F522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7E31AF-01B7-4869-BD2D-04564F45E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0AA2C-7C42-4573-AFDC-730407EB3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966585-1C9F-49C3-8FC5-132A96B4D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42471-4C38-40BC-9512-17A197218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192EE-B8AE-441A-B273-4B5DEF950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55332-3141-4586-839B-DA8B907B7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202A87-24FE-46F0-966A-A6FEF51EA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6F065-DA68-4720-B994-F9E040EB9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95C75B-EBCC-4DCB-A2D8-76413177C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628981-17A5-478F-8A98-4AA111F33C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CBAC6-1053-4811-BF92-94E0461CF5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7B9786-8773-43D9-B119-6BDD617A8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D4E82-D567-4CBD-BAF6-518CBD2987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4DE14C-1AD7-4EE5-A551-AB82132B80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F9515-AF75-4AAD-9599-77405E3A6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54ACC-A03C-445D-BE43-95120A4592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622AB-B96F-411B-8501-9B31F8FBDC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2DA11-EEF8-4F82-8A99-ECC0DEFE7E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6794E-E618-49E7-BF54-91030083B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A19BD-3DBB-4E33-9A7C-1C3526E233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D4B7CD-EA5E-4D07-8063-4E9043A771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7653B7-E14B-4EEE-BB38-F343369DF3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5675D5-369D-40F9-96F3-CD64CCC45A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A6BE01-AB91-4F16-825A-F80C8588C5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946F8D-56E6-47C2-936B-F7955F140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43E20-2FAB-43B6-BB82-54696D3262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551857-C1BF-4010-844D-1E5123D323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A22AAE-68B8-40C7-8CBC-4BE159697B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2BD62F-4A33-4C24-B526-0FB5BFF9D3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959A6-B04C-44D4-B6D5-9BDB28679B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B9D759-C9B7-4CEB-8EDE-FB1EE4742C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6F782-ADE0-43B9-A20D-F519A8851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C28DB2-6119-43C6-83EB-03D9A3E989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BAF6AC-F022-4E10-99F2-EDA05F5EC3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FCA8B-7805-425A-BD10-F1DB47021B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68ED2F-9300-492B-96DD-21B412688D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CF03-D21A-4A51-9CFF-45CB390CF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62AA15-E412-4B77-B7B7-A2943DED30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1833B-B053-4022-98FD-8D43699A73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9FC983-FAC7-4146-8B8E-AFAEC8B7F9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54BC4A-5BBD-45F9-9B33-9DB66027FC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1F980-47B3-49D9-8736-977C028620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BB551B-939C-439F-A936-84221B4EEA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0E2F2-57D5-4D41-B506-29BB184E5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1D104-9A74-43FC-8718-ED0A3BBB3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18B531-E215-4E22-B188-D02B0659A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21AC41-5BA0-4523-A0DB-63293C764A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4111F-8157-4C34-A749-9300CD208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E33160-65FB-4223-A597-E8D68DCDDD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4CC90C-04B5-48BA-8F02-1901A568440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A80B44-A69D-496D-9BD7-D53204D85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D5CE334-ACA8-4BC7-B4C0-1857A092EE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03EDCC-CD99-4ADF-AF20-F22BC69E97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297D45-F1EC-4E01-96C6-B804A30C69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5452E8-4AD2-454C-AF16-E891F28246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011239-B3BA-4260-BB7C-7B7A8A2E8C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4FBBF7-70D2-41A0-974B-21D9937A12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A32C75-DE14-4D74-B287-6C743A4D8E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851D7-D995-47C4-AD0A-988C33F8F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AA5540-F4C9-4454-8357-3C38DCB2BE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805156-9239-4C80-A2B3-FA8DE2AD5A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517058-7042-4EBD-8782-75B2FECF79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0D913FF-91A7-4D53-8888-FF0FA8704AD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B2D183-5FD9-4CC5-B993-EE22C09D6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63B6A2-753E-47B7-823B-B3ED761A4F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B33698-C312-4F66-8F35-1616BFD4DD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F7DA58-B684-4639-BCDD-836BF25F59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FA1F1E-81B4-4E08-8BA2-646287520B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193D08-C6CA-4677-8DE7-4B97BD7DCF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6489-87E7-47C2-979A-716230A3C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977BB-88C3-457D-9759-55CBAB3C55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EDC10F-2A50-48B2-A386-54743FCD5C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7ED60D-87C3-4600-9B6E-6BEBF1879D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8341FD-5FDC-42BD-8E05-0338758873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3EE75E-9DB6-4FAF-9BE1-F612A5AE35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C6CAF-0814-4FA5-A909-EE77C93EA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54DE0F-6BF7-4389-A82E-893CAB3356F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38CB6-7230-409B-8D01-42FA8885D27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D9946-1796-4F37-82F8-D646DC86B01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B4F9B-95EA-407C-926C-E77B95F4AAC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63705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DBA03A-419A-4C4E-9312-BE954D3DEDEE}"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43865D-615F-4F3F-AC7E-3ED1A6B9AA6F}"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36383-B6D6-44A1-816B-0BFD747EAB0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www.fsis.usda.gov/wps/wcm/connect/29ed7679-b008-4aac-8943-6e44265cc000/9780.1.pdf?MOD=AJPERES"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s://www.fsis.usda.gov/wps/wcm/connect/ae5e81d0-c636-4de1-93f3-7a30d142ae69/10010.3.pdf?MOD=AJPERES"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6920" y="758880"/>
            <a:ext cx="10058400" cy="3565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alibri Light"/>
              </a:rPr>
              <a:t>INFRACCIONES </a:t>
            </a:r>
            <a:endParaRPr b="0" lang="en-US" sz="8000" spc="-1" strike="noStrike">
              <a:solidFill>
                <a:srgbClr val="404040"/>
              </a:solidFill>
              <a:latin typeface="Calibri Light"/>
            </a:endParaRPr>
          </a:p>
        </p:txBody>
      </p:sp>
      <p:sp>
        <p:nvSpPr>
          <p:cNvPr id="305" name="PlaceHolder 2"/>
          <p:cNvSpPr>
            <a:spLocks noGrp="1"/>
          </p:cNvSpPr>
          <p:nvPr>
            <p:ph type="subTitle"/>
          </p:nvPr>
        </p:nvSpPr>
        <p:spPr>
          <a:xfrm>
            <a:off x="1100160" y="4455720"/>
            <a:ext cx="10058400" cy="1143000"/>
          </a:xfrm>
          <a:prstGeom prst="rect">
            <a:avLst/>
          </a:prstGeom>
          <a:noFill/>
          <a:ln w="0">
            <a:noFill/>
          </a:ln>
        </p:spPr>
        <p:txBody>
          <a:bodyPr anchor="t">
            <a:no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Calibri Light"/>
              </a:rPr>
              <a:t>INSPECCIÓN DE FALLAS IDENTIFICADAS Y RESPUESTAS. </a:t>
            </a: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Medidas tomadas durante las evaluaciones</a:t>
            </a:r>
            <a:endParaRPr b="0" lang="en-US" sz="4800" spc="-1" strike="noStrike">
              <a:solidFill>
                <a:srgbClr val="404040"/>
              </a:solidFill>
              <a:latin typeface="Calibri Light"/>
            </a:endParaRPr>
          </a:p>
        </p:txBody>
      </p:sp>
      <p:sp>
        <p:nvSpPr>
          <p:cNvPr id="331" name=""/>
          <p:cNvSpPr txBox="1"/>
          <p:nvPr/>
        </p:nvSpPr>
        <p:spPr>
          <a:xfrm>
            <a:off x="1096920" y="1846440"/>
            <a:ext cx="10058400" cy="4022640"/>
          </a:xfrm>
          <a:prstGeom prst="rect">
            <a:avLst/>
          </a:prstGeom>
          <a:noFill/>
          <a:ln w="0">
            <a:noFill/>
          </a:ln>
        </p:spPr>
        <p:txBody>
          <a:bodyPr lIns="0" rIns="0" anchor="t">
            <a:normAutofit fontScale="98000"/>
          </a:bodyPr>
          <a:p>
            <a:pPr marL="88200" indent="-88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Priorización: a cada lote de productos de carne vacuna, aves de corral o productos de huevo se les asignarán al menos los tipos de inspección (TOI) de Certificación y Verificación de Etiquetas. Cuando un certificado / solicitud de inspección contiene más de un lote, el IPP debe priorizar los lotes para la reinspección según los TOI asignados. El IPP debe realizar la reinspección de los lotes a los que les fue asignada primero la inspección física (por ejemplo, el examen del producto, la condición de los contenedores) antes de realizar la reinspección en los lotes solo asignados con TOI de Certificación y Verificación de Etiquetas. Si en los lotes asignados con TOI físicas adicionales falla una o más de dichas TOI físicas adicionales por cualquier razón, el IPP debe:</a:t>
            </a:r>
            <a:endParaRPr b="0" lang="en-US" sz="2000" spc="-1" strike="noStrike">
              <a:solidFill>
                <a:srgbClr val="404040"/>
              </a:solidFill>
              <a:latin typeface="Calibri"/>
            </a:endParaRPr>
          </a:p>
          <a:p>
            <a:pPr marL="88200" indent="-88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Agregar TOI no programados en el PHIS </a:t>
            </a:r>
            <a:r>
              <a:rPr b="0" lang="es-ES" sz="2000" spc="-1" strike="noStrike">
                <a:solidFill>
                  <a:srgbClr val="404040"/>
                </a:solidFill>
                <a:latin typeface="Calibri"/>
              </a:rPr>
              <a:t>Cuando un lote no pasa un TOI físico debido a un defecto observado en la inocuidad alimentaria, y hay otros lotes en el certificado de inspección en los cuales los defectos en materia de salud pública identificados también pueden estar presentes, el IPP debe agregar y realizar una TOI no programada en los otros lotes de producto similar del mismo establecimiento de procesamiento.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Medidas correctivas- Respuestas</a:t>
            </a:r>
            <a:endParaRPr b="0" lang="en-US" sz="4800" spc="-1" strike="noStrike">
              <a:solidFill>
                <a:srgbClr val="404040"/>
              </a:solidFill>
              <a:latin typeface="Calibri Light"/>
            </a:endParaRPr>
          </a:p>
        </p:txBody>
      </p:sp>
      <p:sp>
        <p:nvSpPr>
          <p:cNvPr id="333" name=""/>
          <p:cNvSpPr txBox="1"/>
          <p:nvPr/>
        </p:nvSpPr>
        <p:spPr>
          <a:xfrm>
            <a:off x="1096560" y="1846440"/>
            <a:ext cx="4938840" cy="4528800"/>
          </a:xfrm>
          <a:prstGeom prst="rect">
            <a:avLst/>
          </a:prstGeom>
          <a:noFill/>
          <a:ln w="9360">
            <a:solidFill>
              <a:srgbClr val="000000"/>
            </a:solidFill>
            <a:miter/>
          </a:ln>
        </p:spPr>
        <p:txBody>
          <a:bodyPr lIns="0" rIns="0" anchor="t">
            <a:normAutofit fontScale="99000"/>
          </a:bodyPr>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040"/>
                </a:solidFill>
                <a:latin typeface="Calibri"/>
              </a:rPr>
              <a:t>Reevaluación HACCP </a:t>
            </a:r>
            <a:r>
              <a:rPr b="0" lang="es-ES" sz="2000" spc="-1" strike="noStrike">
                <a:solidFill>
                  <a:srgbClr val="404040"/>
                </a:solidFill>
                <a:latin typeface="Calibri"/>
              </a:rPr>
              <a:t>- </a:t>
            </a:r>
            <a:r>
              <a:rPr b="0" lang="es-ES" sz="1400" spc="-1" strike="noStrike">
                <a:solidFill>
                  <a:srgbClr val="404040"/>
                </a:solidFill>
                <a:latin typeface="Calibri"/>
              </a:rPr>
              <a:t>Cuando surge una desviación que no está cubierta por acciones correctivas específicas o surge un peligro imprevisto, como un STEC no-O157 positivo, </a:t>
            </a:r>
            <a:r>
              <a:rPr b="0" lang="es-ES" sz="1400" spc="-1" strike="noStrike" u="sng">
                <a:solidFill>
                  <a:srgbClr val="00b0f0"/>
                </a:solidFill>
                <a:uFillTx/>
                <a:latin typeface="Calibri"/>
              </a:rPr>
              <a:t>9 CFR 417.3 (b) (4) </a:t>
            </a:r>
            <a:r>
              <a:rPr b="0" lang="es-ES" sz="1400" spc="-1" strike="noStrike">
                <a:solidFill>
                  <a:srgbClr val="404040"/>
                </a:solidFill>
                <a:latin typeface="Calibri"/>
              </a:rPr>
              <a:t>requiere que cada establecimiento lleve a cabo una reevaluación para determinar si la nueva desviación identificada u otro peligro imprevisto debe incorporarse en el plan HACCP y </a:t>
            </a:r>
            <a:r>
              <a:rPr b="0" lang="es-ES" sz="1400" spc="-1" strike="noStrike" u="sng">
                <a:solidFill>
                  <a:srgbClr val="00b0f0"/>
                </a:solidFill>
                <a:uFillTx/>
                <a:latin typeface="Calibri"/>
              </a:rPr>
              <a:t>9 CFR 417.4 (a) (3) (i</a:t>
            </a:r>
            <a:r>
              <a:rPr b="0" lang="es-ES" sz="1400" spc="-1" strike="noStrike">
                <a:solidFill>
                  <a:srgbClr val="404040"/>
                </a:solidFill>
                <a:latin typeface="Calibri"/>
              </a:rPr>
              <a:t>) requiere que cada establecimiento reevalúe la eficacia del plan HACCP al menos una vez al año y siempre que ocurra algún cambio que pueda afectar el análisis de peligros o alterar el plan HACCP.</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Además, el </a:t>
            </a:r>
            <a:r>
              <a:rPr b="0" lang="es-ES" sz="1400" spc="-1" strike="noStrike" u="sng">
                <a:solidFill>
                  <a:srgbClr val="00b0f0"/>
                </a:solidFill>
                <a:uFillTx/>
                <a:latin typeface="Calibri"/>
              </a:rPr>
              <a:t>9 CFR417.4 (a) (3) (ii) </a:t>
            </a:r>
            <a:r>
              <a:rPr b="0" lang="es-ES" sz="1400" spc="-1" strike="noStrike">
                <a:solidFill>
                  <a:srgbClr val="404040"/>
                </a:solidFill>
                <a:latin typeface="Calibri"/>
              </a:rPr>
              <a:t>requiere que el establecimiento documente las razones de cualquier cambio en el plan HACCP basado en la reevaluación, o las razones para no cambiar el plan HACCP según la reevaluación y el </a:t>
            </a:r>
            <a:r>
              <a:rPr b="0" lang="es-ES" sz="1400" spc="-1" strike="noStrike" u="sng">
                <a:solidFill>
                  <a:srgbClr val="00b0f0"/>
                </a:solidFill>
                <a:uFillTx/>
                <a:latin typeface="Calibri"/>
              </a:rPr>
              <a:t>9 CFR 417.5 (a) (1)</a:t>
            </a:r>
            <a:r>
              <a:rPr b="0" lang="es-ES" sz="1400" spc="-1" strike="noStrike">
                <a:solidFill>
                  <a:srgbClr val="404040"/>
                </a:solidFill>
                <a:latin typeface="Calibri"/>
              </a:rPr>
              <a:t> requiere que el establecimiento proporcione toda la documentación de respaldo, incluido el fundamento de las decisiones tomadas durante la reevaluación. Ese marco regulatorio proporciona el camino habitual para que los establecimientos aborden el resultado positivo para STEC No-O157.</a:t>
            </a:r>
            <a:endParaRPr b="0" lang="en-US" sz="1400" spc="-1" strike="noStrike">
              <a:solidFill>
                <a:srgbClr val="404040"/>
              </a:solidFill>
              <a:latin typeface="Calibri"/>
            </a:endParaRPr>
          </a:p>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040"/>
                </a:solidFill>
                <a:latin typeface="Calibri"/>
              </a:rPr>
              <a:t>Capacitación</a:t>
            </a:r>
            <a:r>
              <a:rPr b="0" lang="es-ES" sz="1400" spc="-1" strike="noStrike">
                <a:solidFill>
                  <a:srgbClr val="404040"/>
                </a:solidFill>
                <a:latin typeface="Calibri"/>
              </a:rPr>
              <a:t>– Debe llevarse a cabo como respuesta a una infracción</a:t>
            </a:r>
            <a:r>
              <a:rPr b="0" lang="es-ES" sz="1200" spc="-1" strike="noStrike">
                <a:solidFill>
                  <a:srgbClr val="404040"/>
                </a:solidFill>
                <a:latin typeface="Calibri"/>
              </a:rPr>
              <a:t>. </a:t>
            </a:r>
            <a:endParaRPr b="0" lang="en-US" sz="1200" spc="-1" strike="noStrike">
              <a:solidFill>
                <a:srgbClr val="404040"/>
              </a:solidFill>
              <a:latin typeface="Calibri"/>
            </a:endParaRPr>
          </a:p>
        </p:txBody>
      </p:sp>
      <p:sp>
        <p:nvSpPr>
          <p:cNvPr id="334" name=""/>
          <p:cNvSpPr txBox="1"/>
          <p:nvPr/>
        </p:nvSpPr>
        <p:spPr>
          <a:xfrm>
            <a:off x="6218280" y="1846440"/>
            <a:ext cx="4937040" cy="432720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404040"/>
                </a:solidFill>
                <a:latin typeface="Calibri"/>
              </a:rPr>
              <a:t>Separación de Lotes de Producción (Víctor se explayará sobre el tema) </a:t>
            </a:r>
            <a:r>
              <a:rPr b="0" lang="es-ES" sz="1400" spc="-1" strike="noStrike">
                <a:solidFill>
                  <a:srgbClr val="404040"/>
                </a:solidFill>
                <a:latin typeface="Calibri"/>
              </a:rPr>
              <a:t>– El Establecimiento debe fundamentar las bases que utiliza para distinguir una porción de producción de otra, y el concepto “de limpieza a limpieza” no es una base adecuada para distinguir una porción de producción de otra.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Los establecimientos pueden realizar lotes o sub lotes de productos de carne vacuna cruda picada basados en las pruebas del establecimiento. Para justificar una definición de lote o sub-lote basada en pruebas, el establecimiento debe tener confianza estadística para detectar eventos de contaminación.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La transferencia de materias primas entre lotes no debe ocurrir.</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6920" y="446040"/>
            <a:ext cx="10288800" cy="1254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Light"/>
              </a:rPr>
              <a:t>EQUIVALENCIA PERMANENTE DE LOS SISTEMAS DE INSPECCIÓN DE INOCUIDAD ALIMENTARIA – infracciones en puerto de entrada (POE)</a:t>
            </a:r>
            <a:r>
              <a:rPr b="0" lang="en-US" sz="1400" spc="-1" strike="noStrike" u="sng">
                <a:solidFill>
                  <a:srgbClr val="2998e3"/>
                </a:solidFill>
                <a:uFillTx/>
                <a:latin typeface="Calibri Light"/>
                <a:hlinkClick r:id="rId1"/>
              </a:rPr>
              <a:t>https://www.fsis.usda.gov/wps/wcm/connect/29ed7679-b008-4aac-8943-6e44265cc000/9780.1.pdf?MOD=AJPERES</a:t>
            </a:r>
            <a:r>
              <a:rPr b="1" lang="en-US" sz="1400" spc="-1" strike="noStrike">
                <a:solidFill>
                  <a:srgbClr val="000000"/>
                </a:solidFill>
                <a:latin typeface="Calibri Light"/>
              </a:rPr>
              <a:t> </a:t>
            </a:r>
            <a:endParaRPr b="0" lang="en-US" sz="1400" spc="-1" strike="noStrike">
              <a:solidFill>
                <a:srgbClr val="404040"/>
              </a:solidFill>
              <a:latin typeface="Calibri Light"/>
            </a:endParaRPr>
          </a:p>
        </p:txBody>
      </p:sp>
      <p:sp>
        <p:nvSpPr>
          <p:cNvPr id="307" name=""/>
          <p:cNvSpPr txBox="1"/>
          <p:nvPr/>
        </p:nvSpPr>
        <p:spPr>
          <a:xfrm>
            <a:off x="1211400" y="2189160"/>
            <a:ext cx="10058400" cy="3486240"/>
          </a:xfrm>
          <a:prstGeom prst="rect">
            <a:avLst/>
          </a:prstGeom>
          <a:noFill/>
          <a:ln w="0">
            <a:noFill/>
          </a:ln>
        </p:spPr>
        <p:txBody>
          <a:bodyPr lIns="0" rIns="0" anchor="t">
            <a:normAutofit/>
          </a:bodyPr>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Las funciones y responsabilidades del FSIS relacionadas con la verificación de la equivalencia continua de los sistemas de inspección de inocuidad alimentaria en el extranjero se realizan a través de revisiones de documentos, auditorías de verificación in situ y análisis y respuesta a infracciones en puertos de entrada (POE) de reinspección.</a:t>
            </a:r>
            <a:endParaRPr b="0" lang="en-US" sz="1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Calibri"/>
              </a:rPr>
              <a:t>El personal de FSIS tiene un proceso detallado para evaluar y responder a las infracciones y solicitudes individuales de equivalencia de medidas sanitarias de gobiernos extranjeros. El proceso que se lleva a cabo cuando se debe reexaminar un sistema de inspección de inocuidad alimentaria extranjero equivalente porque parece que ya no alcanza un nivel de protección de salud pública como el logrado a nivel nacional en los Estados Unidos (EE. UU.), o cuando el FSIS no puede hacer una determinación de equivalencia debido a la falta de información de la Autoridad Competente Central (CCA) extranjera</a:t>
            </a:r>
            <a:endParaRPr b="0" lang="en-US" sz="1800" spc="-1" strike="noStrike">
              <a:solidFill>
                <a:srgbClr val="404040"/>
              </a:solidFill>
              <a:latin typeface="Calibri"/>
            </a:endParaRPr>
          </a:p>
          <a:p>
            <a:pP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31360" y="2842920"/>
            <a:ext cx="5846760" cy="1506600"/>
          </a:xfrm>
          <a:prstGeom prst="rect">
            <a:avLst/>
          </a:prstGeom>
          <a:gradFill rotWithShape="0">
            <a:gsLst>
              <a:gs pos="0">
                <a:srgbClr val="fef9f3"/>
              </a:gs>
              <a:gs pos="100000">
                <a:srgbClr val="f9dab6"/>
              </a:gs>
            </a:gsLst>
            <a:lin ang="5400000"/>
          </a:grad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Respuesta del FSIS a las infracciones</a:t>
            </a:r>
            <a:endParaRPr b="0" lang="en-US" sz="3200" spc="-1" strike="noStrike">
              <a:solidFill>
                <a:srgbClr val="404040"/>
              </a:solidFill>
              <a:latin typeface="Calibri Light"/>
            </a:endParaRPr>
          </a:p>
        </p:txBody>
      </p:sp>
      <p:sp>
        <p:nvSpPr>
          <p:cNvPr id="309" name=""/>
          <p:cNvSpPr txBox="1"/>
          <p:nvPr/>
        </p:nvSpPr>
        <p:spPr>
          <a:xfrm>
            <a:off x="684360" y="393840"/>
            <a:ext cx="10548720" cy="1342800"/>
          </a:xfrm>
          <a:prstGeom prst="rect">
            <a:avLst/>
          </a:prstGeom>
          <a:gradFill rotWithShape="0">
            <a:gsLst>
              <a:gs pos="0">
                <a:srgbClr val="fef9f3"/>
              </a:gs>
              <a:gs pos="100000">
                <a:srgbClr val="f9dab6"/>
              </a:gs>
            </a:gsLst>
            <a:lin ang="5400000"/>
          </a:gradFill>
          <a:ln w="0">
            <a:noFill/>
          </a:ln>
        </p:spPr>
        <p:txBody>
          <a:bodyPr lIns="0" rIns="0" anchor="t">
            <a:norm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04040"/>
                </a:solidFill>
                <a:latin typeface="Calibri"/>
              </a:rPr>
              <a:t>El FSIS redacta una notificación a la Autoridad Central Competente (CCA) del gobierno extranjero por cada infracción de POE (POEV) y solicita a un equipo de revisión técnica del FSIS que revise y comente el borrador de notificación.</a:t>
            </a:r>
            <a:endParaRPr b="0" lang="en-US" sz="1900" spc="-1" strike="noStrike">
              <a:solidFill>
                <a:srgbClr val="404040"/>
              </a:solidFill>
              <a:latin typeface="Calibri"/>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04040"/>
                </a:solidFill>
                <a:latin typeface="Calibri"/>
              </a:rPr>
              <a:t>La notificación debe incluir una solicitud para que se lleve a cabo la investigación de la infracción y se expliquen / definan las acciones correctivas.</a:t>
            </a:r>
            <a:endParaRPr b="0" lang="en-US" sz="1900" spc="-1" strike="noStrike">
              <a:solidFill>
                <a:srgbClr val="404040"/>
              </a:solidFill>
              <a:latin typeface="Calibri"/>
            </a:endParaRPr>
          </a:p>
        </p:txBody>
      </p:sp>
      <p:pic>
        <p:nvPicPr>
          <p:cNvPr id="310" name="Content Placeholder 4" descr=""/>
          <p:cNvPicPr/>
          <p:nvPr/>
        </p:nvPicPr>
        <p:blipFill>
          <a:blip r:embed="rId1"/>
          <a:stretch/>
        </p:blipFill>
        <p:spPr>
          <a:xfrm>
            <a:off x="6175440" y="1736640"/>
            <a:ext cx="5181480" cy="460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96920" y="286920"/>
            <a:ext cx="10058400" cy="8794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Light"/>
              </a:rPr>
              <a:t>Infracciones en Puerto de Entrada(POEV)</a:t>
            </a:r>
            <a:endParaRPr b="0" lang="en-US" sz="4800" spc="-1" strike="noStrike">
              <a:solidFill>
                <a:srgbClr val="404040"/>
              </a:solidFill>
              <a:latin typeface="Calibri Light"/>
            </a:endParaRPr>
          </a:p>
        </p:txBody>
      </p:sp>
      <p:sp>
        <p:nvSpPr>
          <p:cNvPr id="312" name=""/>
          <p:cNvSpPr txBox="1"/>
          <p:nvPr/>
        </p:nvSpPr>
        <p:spPr>
          <a:xfrm>
            <a:off x="1141200" y="1725480"/>
            <a:ext cx="4878360" cy="4407120"/>
          </a:xfrm>
          <a:prstGeom prst="rect">
            <a:avLst/>
          </a:prstGeom>
          <a:noFill/>
          <a:ln w="9360">
            <a:solidFill>
              <a:srgbClr val="000000"/>
            </a:solidFill>
            <a:miter/>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Verificar que haya ocurrido una infracción en materia de salud pública;</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a:lnSpc>
                <a:spcPct val="8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s-ES" sz="1600" spc="-1" strike="noStrike">
                <a:solidFill>
                  <a:srgbClr val="000000"/>
                </a:solidFill>
                <a:latin typeface="Calibri"/>
              </a:rPr>
              <a:t>Revisar el historial de POEV anteriores y el historial del establecimiento asociado del país</a:t>
            </a:r>
            <a:r>
              <a:rPr b="0" lang="en-US" sz="1200" spc="-1" strike="noStrike">
                <a:solidFill>
                  <a:srgbClr val="000000"/>
                </a:solidFill>
                <a:latin typeface="Calibri"/>
              </a:rPr>
              <a:t>; </a:t>
            </a:r>
            <a:endParaRPr b="0" lang="en-US" sz="1200" spc="-1" strike="noStrike">
              <a:solidFill>
                <a:srgbClr val="404040"/>
              </a:solidFill>
              <a:latin typeface="Calibri"/>
            </a:endParaRPr>
          </a:p>
          <a:p>
            <a:pPr>
              <a:lnSpc>
                <a:spcPct val="8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a:t>
            </a:r>
            <a:r>
              <a:rPr b="0" lang="es-ES" sz="1600" spc="-1" strike="noStrike">
                <a:solidFill>
                  <a:srgbClr val="000000"/>
                </a:solidFill>
                <a:latin typeface="Calibri"/>
              </a:rPr>
              <a:t>Hacer un seguimiento con el Supervisor de primera línea designado, si es necesario, para solicitar cualquier documentación adicional que respalde el archivo del caso; y</a:t>
            </a:r>
            <a:endParaRPr b="0" lang="en-US" sz="1600" spc="-1" strike="noStrike">
              <a:solidFill>
                <a:srgbClr val="404040"/>
              </a:solidFill>
              <a:latin typeface="Calibri"/>
            </a:endParaRPr>
          </a:p>
          <a:p>
            <a:pPr>
              <a:lnSpc>
                <a:spcPct val="8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t>
            </a:r>
            <a:r>
              <a:rPr b="0" lang="es-ES" sz="1600" spc="-1" strike="noStrike">
                <a:solidFill>
                  <a:srgbClr val="000000"/>
                </a:solidFill>
                <a:latin typeface="Calibri"/>
              </a:rPr>
              <a:t>Iniciar un archivo de evaluación de infracciones de POE generado por una falla en la Salud Pública en el PHIS al determinar que se ha producido un POEV, y cargue toda la documentación de respaldo en el archivo del caso en el PHIS. La documentación de respaldo de la infracción debe incluirse en el archivo del caso.</a:t>
            </a:r>
            <a:endParaRPr b="0" lang="en-US" sz="1600" spc="-1" strike="noStrike">
              <a:solidFill>
                <a:srgbClr val="404040"/>
              </a:solidFill>
              <a:latin typeface="Calibri"/>
            </a:endParaRPr>
          </a:p>
          <a:p>
            <a:pPr>
              <a:lnSpc>
                <a:spcPct val="8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040"/>
              </a:solidFill>
              <a:latin typeface="Calibri"/>
            </a:endParaRPr>
          </a:p>
          <a:p>
            <a:pPr>
              <a:lnSpc>
                <a:spcPct val="8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NOTA: </a:t>
            </a:r>
            <a:r>
              <a:rPr b="0" lang="es-ES" sz="1600" spc="-1" strike="noStrike">
                <a:solidFill>
                  <a:srgbClr val="ff0000"/>
                </a:solidFill>
                <a:latin typeface="Calibri"/>
              </a:rPr>
              <a:t>Se puede enviar una notificación previa de la infracción al gobierno extranjero solicitando información sobre otros lotes de producción relacionados con la infracción que puede estar en el comercio o que se haya importado a los Estados Unidos.</a:t>
            </a:r>
            <a:endParaRPr b="0" lang="en-US" sz="1600" spc="-1" strike="noStrike">
              <a:solidFill>
                <a:srgbClr val="404040"/>
              </a:solidFill>
              <a:latin typeface="Calibri"/>
            </a:endParaRPr>
          </a:p>
        </p:txBody>
      </p:sp>
      <p:sp>
        <p:nvSpPr>
          <p:cNvPr id="313" name=""/>
          <p:cNvSpPr txBox="1"/>
          <p:nvPr/>
        </p:nvSpPr>
        <p:spPr>
          <a:xfrm>
            <a:off x="6172200" y="1725480"/>
            <a:ext cx="4875120" cy="4407120"/>
          </a:xfrm>
          <a:prstGeom prst="rect">
            <a:avLst/>
          </a:prstGeom>
          <a:noFill/>
          <a:ln w="9360">
            <a:solidFill>
              <a:srgbClr val="000000"/>
            </a:solidFill>
            <a:miter/>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 notificación se envía al Gobierno extranjero (CCA) y debe incluir;</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una solicitud para que la CCA proporcione un informe de la investigación de la infracción,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un análisis realizado por los expertos en la materia de la CCA, y</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 una descripción de las </a:t>
            </a:r>
            <a:r>
              <a:rPr b="0" lang="es-ES" sz="1600" spc="-1" strike="noStrike" u="sng">
                <a:solidFill>
                  <a:srgbClr val="000000"/>
                </a:solidFill>
                <a:uFillTx/>
                <a:latin typeface="Calibri"/>
              </a:rPr>
              <a:t>acciones correctivas</a:t>
            </a:r>
            <a:r>
              <a:rPr b="0" lang="es-ES" sz="1600" spc="-1" strike="noStrike">
                <a:solidFill>
                  <a:srgbClr val="000000"/>
                </a:solidFill>
                <a:latin typeface="Calibri"/>
              </a:rPr>
              <a:t>, medidas preventivas y actividades de verificación asociadas que implementará la CCA. </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uando corresponda, la notificación debe incluir una solicitud de información de la CCA sobre si los envíos adicionales exportados a los Estados Unidos están asociados con la falla en materia de salud pública</a:t>
            </a:r>
            <a:r>
              <a:rPr b="0" lang="es-ES" sz="1600" spc="-1" strike="noStrike">
                <a:solidFill>
                  <a:srgbClr val="404040"/>
                </a:solidFill>
                <a:latin typeface="Calibri"/>
              </a:rPr>
              <a:t>.</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040"/>
                </a:solidFill>
                <a:latin typeface="Calibri Light"/>
              </a:rPr>
              <a:t>El equipo de revisión técnica del FSIS revisará y comentará el borrador de notificación</a:t>
            </a:r>
            <a:endParaRPr b="0" lang="en-US" sz="3200" spc="-1" strike="noStrike">
              <a:solidFill>
                <a:srgbClr val="404040"/>
              </a:solidFill>
              <a:latin typeface="Calibri Light"/>
            </a:endParaRPr>
          </a:p>
        </p:txBody>
      </p:sp>
      <p:sp>
        <p:nvSpPr>
          <p:cNvPr id="315" name=""/>
          <p:cNvSpPr txBox="1"/>
          <p:nvPr/>
        </p:nvSpPr>
        <p:spPr>
          <a:xfrm>
            <a:off x="1141200" y="1736280"/>
            <a:ext cx="4878360" cy="4683240"/>
          </a:xfrm>
          <a:prstGeom prst="rect">
            <a:avLst/>
          </a:prstGeom>
          <a:noFill/>
          <a:ln w="9360">
            <a:solidFill>
              <a:srgbClr val="000000"/>
            </a:solidFill>
            <a:miter/>
          </a:ln>
        </p:spPr>
        <p:txBody>
          <a:bodyPr lIns="0" rIns="0" anchor="t">
            <a:normAutofit/>
          </a:bodyPr>
          <a:p>
            <a:pPr marL="90360" indent="-90360">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90360" indent="-90360">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Analizará la respuesta e identificará las discrepancias y la información faltante, e incluirá en el análisis la necesidad de información o aclaraciones propuestas;</a:t>
            </a:r>
            <a:endParaRPr b="0" lang="en-US" sz="1400" spc="-1" strike="noStrike">
              <a:solidFill>
                <a:srgbClr val="404040"/>
              </a:solidFill>
              <a:latin typeface="Calibri"/>
            </a:endParaRPr>
          </a:p>
          <a:p>
            <a:pPr marL="90360" indent="-90360">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Compartirá el análisis y la respuesta de la CCA con el equipo de revisión técnica del FSIS para su revisión y comentarios; y lo añadirá al archivo de caso.</a:t>
            </a:r>
            <a:endParaRPr b="0" lang="en-US" sz="1400" spc="-1" strike="noStrike">
              <a:solidFill>
                <a:srgbClr val="404040"/>
              </a:solidFill>
              <a:latin typeface="Calibri"/>
            </a:endParaRPr>
          </a:p>
        </p:txBody>
      </p:sp>
      <p:sp>
        <p:nvSpPr>
          <p:cNvPr id="316" name=""/>
          <p:cNvSpPr txBox="1"/>
          <p:nvPr/>
        </p:nvSpPr>
        <p:spPr>
          <a:xfrm>
            <a:off x="6172200" y="1803240"/>
            <a:ext cx="4875120" cy="4616640"/>
          </a:xfrm>
          <a:prstGeom prst="rect">
            <a:avLst/>
          </a:prstGeom>
          <a:noFill/>
          <a:ln w="9360">
            <a:solidFill>
              <a:srgbClr val="000000"/>
            </a:solidFill>
            <a:miter/>
          </a:ln>
        </p:spPr>
        <p:txBody>
          <a:bodyPr lIns="0" rIns="0" anchor="t">
            <a:normAutofit/>
          </a:bodyPr>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Múltiples infracciones de un solo establecimiento productor;</a:t>
            </a:r>
            <a:endParaRPr b="0" lang="en-US" sz="1400" spc="-1" strike="noStrike">
              <a:solidFill>
                <a:srgbClr val="404040"/>
              </a:solidFill>
              <a:latin typeface="Calibri"/>
            </a:endParaRPr>
          </a:p>
          <a:p>
            <a:pPr>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Múltiples infracciones de múltiples establecimientos productores; y</a:t>
            </a:r>
            <a:endParaRPr b="0" lang="en-US" sz="1400" spc="-1" strike="noStrike">
              <a:solidFill>
                <a:srgbClr val="404040"/>
              </a:solidFill>
              <a:latin typeface="Calibri"/>
            </a:endParaRPr>
          </a:p>
          <a:p>
            <a:pPr>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Relación con los POEV anteriores o los hallazgos de la auditoría de verificación in situ.</a:t>
            </a:r>
            <a:endParaRPr b="0" lang="en-US" sz="1400" spc="-1" strike="noStrike">
              <a:solidFill>
                <a:srgbClr val="404040"/>
              </a:solidFill>
              <a:latin typeface="Calibri"/>
            </a:endParaRPr>
          </a:p>
          <a:p>
            <a:pPr>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Si el equipo de revisión técnica del FSIS identifica la necesidad de información adicional o una aclaración de las medidas correctivas y las medidas de verificación propuestas por la CCA en respuesta a un POEV notificado, el FSIS notificará a la CCA mediante cartas adicionales que soliciten más información.</a:t>
            </a:r>
            <a:endParaRPr b="0" lang="en-US" sz="1400" spc="-1" strike="noStrike">
              <a:solidFill>
                <a:srgbClr val="404040"/>
              </a:solidFill>
              <a:latin typeface="Calibri"/>
            </a:endParaRPr>
          </a:p>
          <a:p>
            <a:pPr>
              <a:lnSpc>
                <a:spcPct val="100000"/>
              </a:lnSpc>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Calibri"/>
              </a:rPr>
              <a:t>El FSIS enviará la correspondencia oficial a la CCA al recibir el acuerdo del equipo de revisión técnica del FSIS de que la CCA ha abordado adecuadamente el POEV.</a:t>
            </a:r>
            <a:endParaRPr b="0" lang="en-US" sz="1800" spc="-1" strike="noStrike">
              <a:solidFill>
                <a:srgbClr val="404040"/>
              </a:solidFill>
              <a:latin typeface="Calibri"/>
            </a:endParaRPr>
          </a:p>
          <a:p>
            <a:pPr>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17" name="Picture 5" descr=""/>
          <p:cNvPicPr/>
          <p:nvPr/>
        </p:nvPicPr>
        <p:blipFill>
          <a:blip r:embed="rId1"/>
          <a:stretch/>
        </p:blipFill>
        <p:spPr>
          <a:xfrm>
            <a:off x="10036080" y="5438880"/>
            <a:ext cx="609840" cy="609480"/>
          </a:xfrm>
          <a:prstGeom prst="rect">
            <a:avLst/>
          </a:prstGeom>
          <a:ln w="0">
            <a:noFill/>
          </a:ln>
        </p:spPr>
      </p:pic>
      <p:pic>
        <p:nvPicPr>
          <p:cNvPr id="318" name="Picture 10" descr=""/>
          <p:cNvPicPr/>
          <p:nvPr/>
        </p:nvPicPr>
        <p:blipFill>
          <a:blip r:embed="rId2"/>
          <a:stretch/>
        </p:blipFill>
        <p:spPr>
          <a:xfrm>
            <a:off x="1343160" y="3429000"/>
            <a:ext cx="4473360" cy="1805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Infracciones y auditorías de salud pública</a:t>
            </a:r>
            <a:br>
              <a:rPr sz="4800"/>
            </a:br>
            <a:r>
              <a:rPr b="0" lang="en-US" sz="2200" spc="-1" strike="noStrike">
                <a:solidFill>
                  <a:srgbClr val="404040"/>
                </a:solidFill>
                <a:latin typeface="Calibri Light"/>
              </a:rPr>
              <a:t>file:///C:/Users/IEAlf/OneDrive/Documents/POEV.pdf</a:t>
            </a:r>
            <a:endParaRPr b="0" lang="en-US" sz="2200" spc="-1" strike="noStrike">
              <a:solidFill>
                <a:srgbClr val="404040"/>
              </a:solidFill>
              <a:latin typeface="Calibri Light"/>
            </a:endParaRPr>
          </a:p>
        </p:txBody>
      </p:sp>
      <p:pic>
        <p:nvPicPr>
          <p:cNvPr id="320" name="Content Placeholder 4" descr=""/>
          <p:cNvPicPr/>
          <p:nvPr/>
        </p:nvPicPr>
        <p:blipFill>
          <a:blip r:embed="rId1"/>
          <a:stretch/>
        </p:blipFill>
        <p:spPr>
          <a:xfrm>
            <a:off x="1096920" y="1846440"/>
            <a:ext cx="4938840" cy="4022640"/>
          </a:xfrm>
          <a:prstGeom prst="rect">
            <a:avLst/>
          </a:prstGeom>
          <a:ln w="9360">
            <a:solidFill>
              <a:srgbClr val="000000"/>
            </a:solidFill>
            <a:miter/>
          </a:ln>
        </p:spPr>
      </p:pic>
      <p:sp>
        <p:nvSpPr>
          <p:cNvPr id="321" name=""/>
          <p:cNvSpPr txBox="1"/>
          <p:nvPr/>
        </p:nvSpPr>
        <p:spPr>
          <a:xfrm>
            <a:off x="6369120" y="1846440"/>
            <a:ext cx="493704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nfoque basado en el desempeño para auditorías de verificación de equivalencia del país extranjero y reinspección en el puerto de entrada (POE).</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La tabla proporciona determinantes de riesgo relativos a la salud pública para dar prioridad a los países exportadores en las próximas auditoría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Apéndice B: El FSIS aplica un coeficiente de peligro de 10 para las categorías de procesos, categorías de productos, grupos de productos o especies</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0000"/>
                </a:solidFill>
                <a:latin typeface="Calibri Light"/>
              </a:rPr>
              <a:t>Fallas que pueden requerir acciones por parte del FSIS</a:t>
            </a:r>
            <a:endParaRPr b="0" lang="en-US" sz="4800" spc="-1" strike="noStrike">
              <a:solidFill>
                <a:srgbClr val="404040"/>
              </a:solidFill>
              <a:latin typeface="Calibri Light"/>
            </a:endParaRPr>
          </a:p>
        </p:txBody>
      </p:sp>
      <p:sp>
        <p:nvSpPr>
          <p:cNvPr id="323" name=""/>
          <p:cNvSpPr txBox="1"/>
          <p:nvPr/>
        </p:nvSpPr>
        <p:spPr>
          <a:xfrm>
            <a:off x="1096920" y="1846440"/>
            <a:ext cx="10058400" cy="4022640"/>
          </a:xfrm>
          <a:prstGeom prst="rect">
            <a:avLst/>
          </a:prstGeom>
          <a:noFill/>
          <a:ln w="0">
            <a:noFill/>
          </a:ln>
        </p:spPr>
        <p:txBody>
          <a:bodyPr lIns="0" rIns="0" anchor="t">
            <a:normAutofit/>
          </a:bodyPr>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Puerto de entrada y nacional</a:t>
            </a:r>
            <a:endParaRPr b="0" lang="en-US" sz="19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04040"/>
                </a:solidFill>
                <a:latin typeface="Calibri"/>
              </a:rPr>
              <a:t>- </a:t>
            </a:r>
            <a:r>
              <a:rPr b="0" lang="es-ES" sz="1600" spc="-1" strike="noStrike">
                <a:solidFill>
                  <a:srgbClr val="404040"/>
                </a:solidFill>
                <a:latin typeface="Calibri"/>
              </a:rPr>
              <a:t>Falla microbiológica (no Salmonella)</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Patología</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Ciertas condiciones de infracciones de contenedores</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Defectos tales como contaminación fecal o defectos APHIS</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Calibri"/>
              </a:rPr>
              <a:t>Las infracciones pueden causar</a:t>
            </a:r>
            <a:r>
              <a:rPr b="1" lang="es-ES" sz="1900" spc="-1" strike="noStrike">
                <a:solidFill>
                  <a:srgbClr val="404040"/>
                </a:solidFill>
                <a:latin typeface="Calibri"/>
              </a:rPr>
              <a:t>:</a:t>
            </a:r>
            <a:endParaRPr b="0" lang="en-US" sz="19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Nivel intensificado de inspección para el establecimiento.</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Nivel aumentado de inspección para el establecimiento o país.</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uditorías dirigidas.</a:t>
            </a:r>
            <a:endParaRPr b="0" lang="en-US" sz="1600" spc="-1" strike="noStrike">
              <a:solidFill>
                <a:srgbClr val="404040"/>
              </a:solidFill>
              <a:latin typeface="Calibri"/>
            </a:endParaRPr>
          </a:p>
          <a:p>
            <a:pPr>
              <a:lnSpc>
                <a:spcPct val="7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Deslistado.</a:t>
            </a:r>
            <a:endParaRPr b="0" lang="en-US" sz="16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a:lnSpc>
                <a:spcPct val="7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p:txBody>
      </p:sp>
      <p:pic>
        <p:nvPicPr>
          <p:cNvPr id="324" name="Picture 2" descr=""/>
          <p:cNvPicPr/>
          <p:nvPr/>
        </p:nvPicPr>
        <p:blipFill>
          <a:blip r:embed="rId1"/>
          <a:stretch/>
        </p:blipFill>
        <p:spPr>
          <a:xfrm>
            <a:off x="6516720" y="1930320"/>
            <a:ext cx="4794120" cy="3245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979200" y="4377960"/>
            <a:ext cx="5551560" cy="1616040"/>
          </a:xfrm>
          <a:prstGeom prst="rect">
            <a:avLst/>
          </a:prstGeom>
          <a:gradFill rotWithShape="0">
            <a:gsLst>
              <a:gs pos="0">
                <a:srgbClr val="e48312"/>
              </a:gs>
              <a:gs pos="100000">
                <a:srgbClr val="f9dab6"/>
              </a:gs>
            </a:gsLst>
            <a:lin ang="5400000"/>
          </a:grad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Resultados PH Micro – </a:t>
            </a:r>
            <a:br>
              <a:rPr sz="4800"/>
            </a:br>
            <a:r>
              <a:rPr b="0" lang="es-ES" sz="2400" spc="-1" strike="noStrike">
                <a:solidFill>
                  <a:srgbClr val="404040"/>
                </a:solidFill>
                <a:latin typeface="Calibri Light"/>
              </a:rPr>
              <a:t>e coli/STEC</a:t>
            </a:r>
            <a:endParaRPr b="0" lang="en-US" sz="2400" spc="-1" strike="noStrike">
              <a:solidFill>
                <a:srgbClr val="404040"/>
              </a:solidFill>
              <a:latin typeface="Calibri Light"/>
            </a:endParaRPr>
          </a:p>
        </p:txBody>
      </p:sp>
      <p:pic>
        <p:nvPicPr>
          <p:cNvPr id="326" name="Content Placeholder 5" descr=""/>
          <p:cNvPicPr/>
          <p:nvPr/>
        </p:nvPicPr>
        <p:blipFill>
          <a:blip r:embed="rId1"/>
          <a:stretch/>
        </p:blipFill>
        <p:spPr>
          <a:xfrm>
            <a:off x="811080" y="298440"/>
            <a:ext cx="5248440" cy="3645000"/>
          </a:xfrm>
          <a:prstGeom prst="rect">
            <a:avLst/>
          </a:prstGeom>
          <a:ln w="0">
            <a:noFill/>
          </a:ln>
        </p:spPr>
      </p:pic>
      <p:pic>
        <p:nvPicPr>
          <p:cNvPr id="327" name="Content Placeholder 7" descr=""/>
          <p:cNvPicPr/>
          <p:nvPr/>
        </p:nvPicPr>
        <p:blipFill>
          <a:blip r:embed="rId2"/>
          <a:stretch/>
        </p:blipFill>
        <p:spPr>
          <a:xfrm>
            <a:off x="6175440" y="1736640"/>
            <a:ext cx="5181480" cy="4267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41560" y="293760"/>
            <a:ext cx="9905760" cy="14097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Light"/>
              </a:rPr>
              <a:t>Fallas del Proveedor </a:t>
            </a:r>
            <a:r>
              <a:rPr b="0" lang="es-ES" sz="2700" spc="-1" strike="noStrike">
                <a:solidFill>
                  <a:srgbClr val="000000"/>
                </a:solidFill>
                <a:latin typeface="Calibri Light"/>
              </a:rPr>
              <a:t>– </a:t>
            </a:r>
            <a:r>
              <a:rPr b="0" lang="es-ES" sz="1800" spc="-1" strike="noStrike">
                <a:solidFill>
                  <a:srgbClr val="000000"/>
                </a:solidFill>
                <a:latin typeface="Calibri Light"/>
              </a:rPr>
              <a:t>Cuando un establecimiento extranjero provee materia prima a un establecimiento de producción que se encuentra en infracción nacional </a:t>
            </a:r>
            <a:r>
              <a:rPr b="0" lang="en-US" sz="1600" spc="-1" strike="noStrike">
                <a:solidFill>
                  <a:srgbClr val="ffffff"/>
                </a:solidFill>
                <a:latin typeface="Calibri Light"/>
              </a:rPr>
              <a:t>foreign government. </a:t>
            </a:r>
            <a:r>
              <a:rPr b="0" lang="en-US" sz="1600" spc="-1" strike="noStrike" u="sng">
                <a:solidFill>
                  <a:srgbClr val="2998e3"/>
                </a:solidFill>
                <a:uFillTx/>
                <a:latin typeface="Calibri Light"/>
                <a:hlinkClick r:id="rId1"/>
              </a:rPr>
              <a:t>https://www.fsis.usda.gov/wps/wcm/connect/ae5e81d0-c636-4de1-93f3-7a30d142ae69/10010.3.pdf?MOD=AJPERES</a:t>
            </a:r>
            <a:r>
              <a:rPr b="0" lang="en-US" sz="1600" spc="-1" strike="noStrike">
                <a:solidFill>
                  <a:srgbClr val="ffffff"/>
                </a:solidFill>
                <a:latin typeface="Calibri Light"/>
              </a:rPr>
              <a:t> </a:t>
            </a:r>
            <a:endParaRPr b="0" lang="en-US" sz="1600" spc="-1" strike="noStrike">
              <a:solidFill>
                <a:srgbClr val="404040"/>
              </a:solidFill>
              <a:latin typeface="Calibri Light"/>
            </a:endParaRPr>
          </a:p>
        </p:txBody>
      </p:sp>
      <p:pic>
        <p:nvPicPr>
          <p:cNvPr id="329" name="Content Placeholder 3" descr=""/>
          <p:cNvPicPr/>
          <p:nvPr/>
        </p:nvPicPr>
        <p:blipFill>
          <a:blip r:embed="rId2"/>
          <a:stretch/>
        </p:blipFill>
        <p:spPr>
          <a:xfrm>
            <a:off x="1139760" y="1700280"/>
            <a:ext cx="9657000" cy="453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0T18:50:29Z</dcterms:created>
  <dc:creator>Len Lang</dc:creator>
  <dc:description/>
  <dc:language>en-US</dc:language>
  <cp:lastModifiedBy>Monica</cp:lastModifiedBy>
  <dcterms:modified xsi:type="dcterms:W3CDTF">2019-02-03T14:40:15Z</dcterms:modified>
  <cp:revision>73</cp:revision>
  <dc:subject/>
  <dc:title>VIOLATIONS</dc:title>
</cp:coreProperties>
</file>