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4724-C86B-48F7-84A0-15C0A656FA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4378-96BD-4D0B-B9E0-2C230E4F9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72E7-4151-477F-8152-451F91D49C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CC00-8A39-4966-8951-404F16B07A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6CB64-810A-4034-9DEC-7252911BA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5CFE-755F-4925-A825-62D70BCAC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8582-7F65-4C8E-94CC-9CF364AB8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371600" y="754200"/>
            <a:ext cx="5029200" cy="37717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1B7D-45B5-4A08-BD0D-ADCD5C2EF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A6C-E21D-4526-AFF5-743A07F84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1B6D-C5E6-4FDE-B9B8-6E06F273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954B-52B4-4FC5-AF2E-81C77729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46E-537F-495D-B60F-68594B3A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43F9-4714-43F0-B579-D2951468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0813-2767-455E-A7DB-62D7E914A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B403-6D5A-4DB2-BC2C-A979B8F0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CB23-379D-4A4E-B7C8-930F3FB6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64AE-86EB-4074-B486-093F69A9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AF23-94AA-4305-8D04-3D4CC534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04E8-60C9-413B-8D2B-5F361032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4CD1-26D8-4A4A-89FD-D64CBED6F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FAF76-8EDF-497F-9B40-D1EF16B2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1C53-4F98-42B7-A930-BE910EB1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67EB3-371A-47BF-AA8F-073E4994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B9D3-3973-45AC-90DA-2D4C4412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549A-56B1-4278-8CC1-65D6ACF3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1BDD3-20C0-4F4B-83CA-440165E4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0A2E-BCEC-4CCE-B218-43B498E5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3C31F-3765-456A-9A15-511B8806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08D0C-0D33-467C-B608-A780DBB0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257AA-1A86-43B0-979D-C68ABA72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7A5D-3690-4679-A239-47542BFB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CF10A-38A6-4017-8C7B-7081D910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B0E42-BCF8-46E1-A253-0E6F27E3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62FE0-4692-4A8F-81B6-C8E55642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05E1-18A9-4BE4-AA68-63200A9F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63B3D-C8C3-4838-944D-0CFBBF7C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42352-09BB-42AC-95C1-EE08225E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ED9E0-1756-41D2-A77E-3BE526EE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ED0B2-2329-4219-B4E3-82BAF613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7497D-A328-4944-88D8-A29C60E5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9C356-DB84-459D-A7B9-905ADB0C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BC4-0CD0-47AD-9034-75B4C6D7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C2AA9-5B95-4650-B80F-1AD5404A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97576-04F5-45E9-B162-E029A045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1523F-C56B-4980-BFBC-5150EA9F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07D49-C02C-456B-B585-7C84881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35D1-A14B-43B5-9B40-43014BAC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36791-B246-474C-8C6B-DFAF0CFF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A32AE-1091-4320-8321-C11B5C21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EE9AA-741F-46FD-9B38-20B8B75D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6D28C-B4A1-4112-8FFA-86BA1031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058C0-DBFC-4E9E-8066-ACE54BFF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1E2-2A24-4D4E-87C0-029DE219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35F02-F3C2-4C1F-B8B9-E11F517A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A55D2-0808-4E3B-9D75-1BA51D28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6C03A-4906-4E31-9405-FCFDD204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0CF74-A2AA-4C0F-AE5E-A5865CBF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3B447-0009-4929-8CE3-C31BC677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5C130-007B-4E3E-8823-97284269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05EDB-BC94-4F29-BFC6-FFE5D700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45E8-29BE-47D7-A496-CD45368C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55D8F-67B5-4991-91AD-A42AE2EA1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DDF7C-C478-49CE-B502-20E5B16D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4E7-B1E8-4CF5-BF45-570B631C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0085C-59C2-4939-9450-E2E3FFC9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A16A4-38FC-4484-999F-A69F563C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48962-046C-4B4E-A6B0-70A3A12E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6DD78-7C50-428D-8BEF-B8423560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CB0C3-2DBF-47A8-A95A-C093CCCB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CB7FF-2142-456F-BBBA-0B42CA66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94317-52A5-42E0-B7A8-35AB118D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E539B-A136-4316-887E-CF7C60F8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609F1-EC85-4AE2-8EFC-A786E13B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2A869-EE9E-4270-A37A-5C5CDA8D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E9F-94E6-4C91-AA4E-825633E1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E23B5-3B2E-46F8-98BB-F45AD73E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01F32-3D36-4752-B9AA-C49E602F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76318-524C-4E0C-A2A5-E63AEE6E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4BD45-B735-4287-9E48-482A5676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B550E-215A-4E99-8EB2-60C30DC0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3E977-98C5-4138-91BE-57407AB5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5D5E8-CAF1-422E-BDE4-26AAF99E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A1939-9617-4139-9AF2-B6A620A7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073FF-DACF-4134-A5AF-46B5BA6A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7601E-D43D-4A75-8D0A-9B0CF4A3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89A6-7218-4482-8A16-D696F037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B229-E086-4037-82E6-30DDD63A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4FBA7-7989-4BA4-9567-FE6181E7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B16E-C051-449F-8191-EC16E4A5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B560D-8D2A-424C-BD92-9E8D9FE3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7EA24-B33E-434E-AC21-120A9313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8C7-609E-420D-BDE7-D6EE6D64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5639-997B-42C6-9F40-8BF959AF2E2E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D4C6-6945-4F9D-8AE4-59B661153BB6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CDA7-DA30-4E12-B84A-0F2683F2D80D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84BE-E94F-4C50-B4C6-5458BAE01F1B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5691-AE0B-4604-9DA5-95E4A1A6B6DE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2ADF-B973-43D4-8558-9C1EF80AC66C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3077-29D2-4B52-B11D-CE8C24CA190A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95A1-94C0-42B9-BFF8-0D75FE636B10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014E-8B06-42D4-BEEC-D6430D35DF4A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5F8E-488F-4D46-AB77-70FA5C290B4D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9905-661D-4AB2-8D13-ACBFEA40C241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0C47-FDE2-4CA2-8FC3-B12F8A4804EA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C12A-2EC4-4E8B-9DED-75073576315F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60A4-074C-4694-9DC9-C83182A74FAD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22040" y="304920"/>
            <a:ext cx="6002280" cy="97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rma de seguridad alimentaria en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faena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882720" y="1870200"/>
            <a:ext cx="75261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tivo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-Enumerar los tres contaminantes cubiertos por la norma de seguridad alimentaria en la faena de ganado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-Identificar las partes de la carcasa que deben estar libres de los tres contaminantes cubiertos por la norma de seguridad alimentaria en ganado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-Identificar la ubicación donde el  FSIS verifica la norma de seguridad alimentaria para carcasas de ganado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-Describir como realizar la tarea de verificación para tolerancia cero en ganado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  <a:ea typeface="Arial"/>
              </a:rPr>
              <a:t>-Describir las acciones de aplicación para el no cumplimiento de tolerancia cero.</a:t>
            </a:r>
            <a:endParaRPr b="0" lang="en-US" sz="17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45E1-0649-4FAB-B25F-8C33575DD09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747720" y="536400"/>
            <a:ext cx="117468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22400" y="304920"/>
            <a:ext cx="6307200" cy="97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rma de seguridad alimentaria en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faena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882720" y="1870200"/>
            <a:ext cx="75261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pección de ganado On-Line 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Inspección de carcasas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Inspección de cabeza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-Inspección de la carne del esófago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B2FD8-DE2D-4BD1-B2F0-475FB2AE9B0B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747720" y="536400"/>
            <a:ext cx="117468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14600" y="304920"/>
            <a:ext cx="5486400" cy="97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rma de seguridad alimentaria en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faena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882720" y="1870200"/>
            <a:ext cx="75261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lerancia cero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inspectores verifican la norma de seguridad alimentaria al observar marcas fecales visibles y contaminación por ingesta y leche en las carcasas en o después del riel postmortem de la estación de inspección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inspectores verifican que los corazones, rabos, cabezas para comercializar, estómago, intestinos, hígado, y otros subproductos cárnicos no adheridos a la carcasa estén limpios y hayan sido recolectados de manera higiénica. Pero estos órganos no están sujetos a la verificación de tolerancia cero a menos que estén adheridos a la carcasa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00DF-A478-4BE0-ACE8-E918F13E12C7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747720" y="536400"/>
            <a:ext cx="117468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922400" y="228240"/>
            <a:ext cx="648648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Norma de seguridad alimentaria en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faena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882720" y="1870200"/>
            <a:ext cx="75261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350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lerancia cero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ontrol mínimo de una vez por turno de faena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ol./faena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# carcasas 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# mitade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   4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101-250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   8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251-500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  14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&gt;500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  22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EADD-DBB5-48A4-B2A0-BF0B7DFA2362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747720" y="536400"/>
            <a:ext cx="117468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922400" y="468360"/>
            <a:ext cx="6486480" cy="81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Norma de seguridad alimentaria en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faena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882720" y="1870200"/>
            <a:ext cx="75261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olerancia cero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300" spc="-1" strike="noStrike">
                <a:solidFill>
                  <a:srgbClr val="000000"/>
                </a:solidFill>
                <a:latin typeface="Arial"/>
                <a:ea typeface="Arial"/>
              </a:rPr>
              <a:t>Carne de cabeza, carne de carrillo, carne de esófago </a:t>
            </a:r>
            <a:endParaRPr b="0" lang="en-US" sz="23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inspectores verifican que la carne de cabeza, carrillo y esófago no este contaminada con material fecal visible, ingesta o leche cuando el producto esta listo para su empaque final o para ser almacenado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valuar la misma cantidad de producto que el establecimiento ha registrado en el plan HACCP para su procedimiento de monitoreo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9F3B-0EFC-45C7-A5D5-2023475B91A3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747720" y="536400"/>
            <a:ext cx="117468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22400" y="152280"/>
            <a:ext cx="668808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Norma de seguridad alimentaria en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   faena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882720" y="1870200"/>
            <a:ext cx="75261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licación de Tolerancia Cero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  <a:ea typeface="Arial"/>
              </a:rPr>
              <a:t>Factor en las tendencias de incumplimiento de tolerancia cero que resultan del HACCP, los SOP de saneamiento, acondicionamiento sanitario (dressing), y la verificación SPS. 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  <a:ea typeface="Arial"/>
              </a:rPr>
              <a:t>Comparar las tendencias de incumplimiento que se relacionen con el FSIS y los análisis del establecimiento. 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763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1" lang="es-ES" sz="2100" spc="-1" strike="noStrike">
                <a:solidFill>
                  <a:srgbClr val="000000"/>
                </a:solidFill>
                <a:latin typeface="Arial"/>
                <a:ea typeface="Arial"/>
              </a:rPr>
              <a:t>Determinar si los hallazgos son incidentes aislados de incumplimiento de tolerancia cero o si son la prueba de un problema sistemático en el sistema de seguridad alimentaria.</a:t>
            </a: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F234-7346-4BB9-9F3D-35285A1FAB6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747720" y="536400"/>
            <a:ext cx="117468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922400" y="468000"/>
            <a:ext cx="6688080" cy="97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Norma de seguridad alimentaria en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faena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134720" y="6269040"/>
            <a:ext cx="125280" cy="147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21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EAEA-7DA3-413E-AE19-812C14BA23B7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747720" y="536400"/>
            <a:ext cx="1174680" cy="7477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"/>
          <p:cNvPicPr/>
          <p:nvPr/>
        </p:nvPicPr>
        <p:blipFill>
          <a:blip r:embed="rId2"/>
          <a:stretch/>
        </p:blipFill>
        <p:spPr>
          <a:xfrm>
            <a:off x="433440" y="1808280"/>
            <a:ext cx="8177040" cy="4460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0T15:59:28Z</dcterms:created>
  <dc:creator>WJA</dc:creator>
  <dc:description/>
  <dc:language>en-US</dc:language>
  <cp:lastModifiedBy>Monica</cp:lastModifiedBy>
  <cp:lastPrinted>2014-01-20T19:18:20Z</cp:lastPrinted>
  <dcterms:modified xsi:type="dcterms:W3CDTF">2019-02-02T11:38:52Z</dcterms:modified>
  <cp:revision>50</cp:revision>
  <dc:subject/>
  <dc:title>Slaughter Food Safety Standard</dc:title>
</cp:coreProperties>
</file>