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2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2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2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D136-D60F-4FB9-826B-440B645889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533520" y="754200"/>
            <a:ext cx="6705360" cy="3771720"/>
          </a:xfrm>
          <a:prstGeom prst="rect">
            <a:avLst/>
          </a:prstGeom>
          <a:ln w="0">
            <a:noFill/>
          </a:ln>
        </p:spPr>
      </p:sp>
      <p:sp>
        <p:nvSpPr>
          <p:cNvPr id="40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D8A66-FF6D-4BA9-97E9-8CD805752E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33520" y="754200"/>
            <a:ext cx="6705360" cy="3771720"/>
          </a:xfrm>
          <a:prstGeom prst="rect">
            <a:avLst/>
          </a:prstGeom>
          <a:ln w="0">
            <a:noFill/>
          </a:ln>
        </p:spPr>
      </p:sp>
      <p:sp>
        <p:nvSpPr>
          <p:cNvPr id="43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B87B9-E8F0-4861-B811-8019D70CBB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0"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33520" y="754200"/>
            <a:ext cx="6705360" cy="3771720"/>
          </a:xfrm>
          <a:prstGeom prst="rect">
            <a:avLst/>
          </a:prstGeom>
          <a:ln w="0">
            <a:noFill/>
          </a:ln>
        </p:spPr>
      </p:sp>
      <p:sp>
        <p:nvSpPr>
          <p:cNvPr id="4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12CBB-72AF-4895-BF57-AD894C0DBE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533520" y="754200"/>
            <a:ext cx="6705360" cy="3771720"/>
          </a:xfrm>
          <a:prstGeom prst="rect">
            <a:avLst/>
          </a:prstGeom>
          <a:ln w="0">
            <a:noFill/>
          </a:ln>
        </p:spPr>
      </p:sp>
      <p:sp>
        <p:nvSpPr>
          <p:cNvPr id="44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0846-F538-474D-A646-05094679E9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533520" y="754200"/>
            <a:ext cx="6705360" cy="3771720"/>
          </a:xfrm>
          <a:prstGeom prst="rect">
            <a:avLst/>
          </a:prstGeom>
          <a:ln w="0">
            <a:noFill/>
          </a:ln>
        </p:spPr>
      </p:sp>
      <p:sp>
        <p:nvSpPr>
          <p:cNvPr id="4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63EB-8FB3-4D93-A6C6-094DB331EE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533520" y="754200"/>
            <a:ext cx="6705360" cy="3771720"/>
          </a:xfrm>
          <a:prstGeom prst="rect">
            <a:avLst/>
          </a:prstGeom>
          <a:ln w="0">
            <a:noFill/>
          </a:ln>
        </p:spPr>
      </p:sp>
      <p:sp>
        <p:nvSpPr>
          <p:cNvPr id="4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F0A59-44FC-474C-883C-D3E90BC11F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533520" y="754200"/>
            <a:ext cx="6705360" cy="3771720"/>
          </a:xfrm>
          <a:prstGeom prst="rect">
            <a:avLst/>
          </a:prstGeom>
          <a:ln w="0">
            <a:noFill/>
          </a:ln>
        </p:spPr>
      </p:sp>
      <p:sp>
        <p:nvSpPr>
          <p:cNvPr id="45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AE865-DCEB-4702-B19F-70A87CEAC1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60"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33520" y="754200"/>
            <a:ext cx="6705360" cy="3771720"/>
          </a:xfrm>
          <a:prstGeom prst="rect">
            <a:avLst/>
          </a:prstGeom>
          <a:ln w="0">
            <a:noFill/>
          </a:ln>
        </p:spPr>
      </p:sp>
      <p:sp>
        <p:nvSpPr>
          <p:cNvPr id="46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B4B81-9715-45C0-880B-A1A9A348BB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6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533520" y="754200"/>
            <a:ext cx="6705360" cy="3771720"/>
          </a:xfrm>
          <a:prstGeom prst="rect">
            <a:avLst/>
          </a:prstGeom>
          <a:ln w="0">
            <a:noFill/>
          </a:ln>
        </p:spPr>
      </p:sp>
      <p:sp>
        <p:nvSpPr>
          <p:cNvPr id="4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3240-C257-4C85-996C-7E891F3B53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6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533520" y="754200"/>
            <a:ext cx="6705360" cy="3771720"/>
          </a:xfrm>
          <a:prstGeom prst="rect">
            <a:avLst/>
          </a:prstGeom>
          <a:ln w="0">
            <a:noFill/>
          </a:ln>
        </p:spPr>
      </p:sp>
      <p:sp>
        <p:nvSpPr>
          <p:cNvPr id="47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08E7-7E21-460E-BF2A-F7E711E31B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7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533520" y="754200"/>
            <a:ext cx="6705360" cy="3771720"/>
          </a:xfrm>
          <a:prstGeom prst="rect">
            <a:avLst/>
          </a:prstGeom>
          <a:ln w="0">
            <a:noFill/>
          </a:ln>
        </p:spPr>
      </p:sp>
      <p:sp>
        <p:nvSpPr>
          <p:cNvPr id="4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753F6-6E48-4464-9428-6FA4E91574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533520" y="754200"/>
            <a:ext cx="6705360" cy="3771720"/>
          </a:xfrm>
          <a:prstGeom prst="rect">
            <a:avLst/>
          </a:prstGeom>
          <a:ln w="0">
            <a:noFill/>
          </a:ln>
        </p:spPr>
      </p:sp>
      <p:sp>
        <p:nvSpPr>
          <p:cNvPr id="41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BF03-ED3A-4DDA-98A3-921CBC1AC4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33520" y="754200"/>
            <a:ext cx="6705360" cy="3771720"/>
          </a:xfrm>
          <a:prstGeom prst="rect">
            <a:avLst/>
          </a:prstGeom>
          <a:ln w="0">
            <a:noFill/>
          </a:ln>
        </p:spPr>
      </p:sp>
      <p:sp>
        <p:nvSpPr>
          <p:cNvPr id="4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1599-AD4B-446A-A7D4-9AF8414FFD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33520" y="754200"/>
            <a:ext cx="6705360" cy="3771720"/>
          </a:xfrm>
          <a:prstGeom prst="rect">
            <a:avLst/>
          </a:prstGeom>
          <a:ln w="0">
            <a:noFill/>
          </a:ln>
        </p:spPr>
      </p:sp>
      <p:sp>
        <p:nvSpPr>
          <p:cNvPr id="41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F6D45-B3A7-4353-8058-8E294D77E9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0"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533520" y="754200"/>
            <a:ext cx="6705360" cy="3771720"/>
          </a:xfrm>
          <a:prstGeom prst="rect">
            <a:avLst/>
          </a:prstGeom>
          <a:ln w="0">
            <a:noFill/>
          </a:ln>
        </p:spPr>
      </p:sp>
      <p:sp>
        <p:nvSpPr>
          <p:cNvPr id="42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E9E3-FA0B-4939-8076-6A8618934D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4"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33520" y="754200"/>
            <a:ext cx="6705360" cy="3771720"/>
          </a:xfrm>
          <a:prstGeom prst="rect">
            <a:avLst/>
          </a:prstGeom>
          <a:ln w="0">
            <a:noFill/>
          </a:ln>
        </p:spPr>
      </p:sp>
      <p:sp>
        <p:nvSpPr>
          <p:cNvPr id="42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7259E-B480-4EC2-BA57-DB6F1FE249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8"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33520" y="754200"/>
            <a:ext cx="6705360" cy="3771720"/>
          </a:xfrm>
          <a:prstGeom prst="rect">
            <a:avLst/>
          </a:prstGeom>
          <a:ln w="0">
            <a:noFill/>
          </a:ln>
        </p:spPr>
      </p:sp>
      <p:sp>
        <p:nvSpPr>
          <p:cNvPr id="43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AFDA1-B72A-4E84-A457-AD3B4EF3E99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2"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533520" y="754200"/>
            <a:ext cx="6705360" cy="3771720"/>
          </a:xfrm>
          <a:prstGeom prst="rect">
            <a:avLst/>
          </a:prstGeom>
          <a:ln w="0">
            <a:noFill/>
          </a:ln>
        </p:spPr>
      </p:sp>
      <p:sp>
        <p:nvSpPr>
          <p:cNvPr id="43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4CA0-DC5B-4A1D-A98D-813A0238EE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6"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D0F71-762E-42B2-9952-41FEAE3207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A9BB6-2654-45A1-A89F-3AA0FE52F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7ECD6-B2E1-4409-81C5-0E19D3561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E9477-C812-429C-A6C8-274CD7C80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272C9-DA72-4920-A301-6561EBFB60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9EE41-F15B-4A52-A0E2-A1A1349F6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C4331-C018-4A1C-B270-439A6BC60F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46915-9AEB-480F-ADB8-234C4A7AD5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3612F-2DD2-47A5-94DF-0C78421E4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B17453-B23B-46BC-AF60-B7CF3FF8E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89A9BD-EEEC-4B7B-BAD2-3F3A0A599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D2EF1-E06A-4789-AED6-9DBB3AEAC3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96235-0E5A-4B34-8AEC-F16CBE3AA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85918-4658-43E0-92A6-29A016A9D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846282-0463-49A6-B543-00A067187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C52AF-DCEF-4B1B-8D02-1F0E1F72C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28F58-6398-4707-B002-16786ACDF6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EF32CB-AD3E-455A-9C0C-F5F8812057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8B44A-636D-43C3-9075-6DBF14C34B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465CD9-28F2-42B7-9FF5-DF79AE930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0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C609C-2A2D-4608-8DDF-90E532F74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12E3F2-49A7-4295-83B6-B039215A3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C348D-C2A1-4C19-B4C3-60FEB24EB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B47E8F-ABA5-4D61-A790-C5D0233163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B88170-262C-4530-92C8-4E6A580B8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F74DB-4F6C-431A-B626-BC449A539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4BE613-1218-44D9-8856-D64D02BB2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AFD9E-635F-4C56-9AC4-9E2AE4F425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99A05F-4A77-4355-ACA9-2E8FE1801D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C64131-B6FA-41D3-81E4-0297EEE0F6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A4AD1E5-5808-4050-AB78-CABB15A612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4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B75D79-C574-45FB-8E30-DF2DF7864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E5117B-E201-4C13-846B-03DF0BD2E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F39314-0D16-434D-9CF7-852317CDD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F56647-DC1E-4ECC-BB31-389AD2B55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12DD40-F9F4-4CAB-B961-EEFC7A560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F6E9E2-17E4-475E-A7D6-70AB2E40A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C8FD4-FF5C-4FD9-B80E-26AF612F5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5F0FAD-EFAA-41D6-B171-6089407E0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79DB92-8F84-4311-976E-EDD36CCB9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461D3-BC54-4368-B9D9-EB3D5D6C0A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B34095-1DF4-4C09-8FA6-25E5F00321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495B6-AA83-4A81-BF81-94FB318869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061BDA-0260-4B05-B98C-8BAC81ECB3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5CB6F-AEF3-4984-ABD8-0E22BA232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3B6185-4512-4668-85A1-9D76AD6982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62E1F-59ED-4066-8633-DA9A42142F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C8FAE-EA09-4F9B-B82C-687CCC2BBC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54CBD-AE4B-42C9-A1B3-663DA76C5B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0EEADF-01F7-4768-8589-B52519421C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D7E9E0-5F28-49FB-9933-952B1C6A71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0C4AD0-BE12-4518-8567-45906640A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687F54-3C06-4F35-87D6-1CE96E57D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292993-E779-4A97-8F7A-24E82DBA1B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29B599-CCA5-475C-B5E3-72DA6C9F65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4DAA7-A49C-4BFE-8ED0-008415CA4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D678C4-0D77-4762-9F79-1FB4804E95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DA4596-469B-45A7-85BB-A7A1660A8D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1"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5B85C2-EF0B-479E-B72D-4CD1B95DB6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25DE24-F182-4BD3-8967-30042FDB39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19B10-B24F-4375-B1CF-5043FC4804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11BD26-4F14-40CE-8F99-E5E0647F21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B19778-6CDF-46F2-B8B3-FCE42510D9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C7EA72-F094-418D-BF78-83743C6272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6"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5706A7-AB18-4849-A188-7392259AF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0"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D92D9F-AA4D-4E06-A116-BC6281BCFC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01A3D-E557-4345-B612-A14E547C4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2"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3"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302BF6-431C-4612-8E75-E6DC3D1BCF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8"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AB9C4AF-FB93-4B85-8ADE-7E96B16800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70"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1"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2"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3"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4"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5"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50EACF-05A1-4210-A5BC-9E034FD6E7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27A7D-2136-483B-9775-C229A24724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08387-686E-4CDF-A312-159E334008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BDC70F-01CD-4FCF-BFB6-2FFDEFEA28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AA8AE9-2B5A-4B16-A699-70D5153DED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CE639-DA71-47C1-AA25-314135664B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FE569A-586A-46B2-9003-BB95452BB5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0D3279-1A4C-482F-B95B-5635A39BDB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F586E-7306-426F-B022-714B7B3F4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2E7620-22D0-487C-B710-BA20873B4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738C7A-86D0-4D5E-B6DB-4D6B1A7B1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B2A252-17B8-45D6-8312-54E43CC18A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288887-EA1D-4A38-B222-0AC03D43658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8C2962B-3EA5-4391-9F6A-5B392750BC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AF0D0-EF18-471A-BF5D-14E9EE0C50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3EED2-B5F4-4014-8290-EEE36AFE7807}"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E26F-8543-42E8-B136-5A1E4E4EDA43}"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9"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5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2"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F0E6-082E-417F-8D86-507C8D8ABA3A}"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3"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C782-9BF2-4309-A68F-50F554EDFB87}"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93"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9"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EA87E-7FD9-45F4-9CC2-56F096E38008}"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00"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AB73-174D-4E1A-9B33-32A4CB872993}"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0"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4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45"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637DA-3122-4722-B4E2-3A7AF7EE9EB6}"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46"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069B-D399-4F3F-9523-372DDA238ED3}"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8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9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91"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E74B8-2CF3-4AF2-8D09-82670EF75A4C}"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92"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6362-2033-4E28-BE15-10084B53E810}"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36"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37"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5A1D-643E-4AB7-9F05-6BD69CA166A3}"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38"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D5AA3-8E6F-40DD-98DA-310FBE824B41}"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78"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8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83"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1A56E-D91C-48B8-90AC-4C1108F42CA3}"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84"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ED29-3552-4529-BD21-9DD38CDD6028}"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30"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Propósit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FSIS realiza determinaciones iniciales de equivalencia, reincorporaciones de equivalencia y realiza auditorías continuas de los sistemas de inspección de inocuidad de alimentos en el extranjero.</a:t>
            </a:r>
            <a:endParaRPr b="0" lang="en-US" sz="2600" spc="-1" strike="noStrike">
              <a:solidFill>
                <a:srgbClr val="404040"/>
              </a:solidFill>
              <a:latin typeface="Calibri"/>
            </a:endParaRPr>
          </a:p>
        </p:txBody>
      </p:sp>
      <p:sp>
        <p:nvSpPr>
          <p:cNvPr id="33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A01E-8BEB-4EE3-ACB7-7823989AA0B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66" name=""/>
          <p:cNvSpPr txBox="1"/>
          <p:nvPr/>
        </p:nvSpPr>
        <p:spPr>
          <a:xfrm>
            <a:off x="1220400" y="1870200"/>
            <a:ext cx="9907560" cy="4449600"/>
          </a:xfrm>
          <a:prstGeom prst="rect">
            <a:avLst/>
          </a:prstGeom>
          <a:noFill/>
          <a:ln w="0">
            <a:noFill/>
          </a:ln>
        </p:spPr>
        <p:txBody>
          <a:bodyPr lIns="0" rIns="0" anchor="t">
            <a:normAutofit/>
          </a:bodyPr>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ea typeface="Arial"/>
              </a:rPr>
              <a:t>Auditoría de verificación in situ</a:t>
            </a:r>
            <a:endParaRPr b="0" lang="en-US" sz="2400" spc="-1" strike="noStrike">
              <a:solidFill>
                <a:srgbClr val="404040"/>
              </a:solidFill>
              <a:latin typeface="Calibri"/>
            </a:endParaRPr>
          </a:p>
          <a:p>
            <a:pPr marL="13644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n algunos países, el número de establecimientos exportadores a los EE. UU., el número de oficinas de la ACC y el número de laboratorios es lo suficientemente pequeño como para que el IA pueda elegir auditar la mayoría o todos los sitios pertinentes.</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n países con un gran número de sitios dentro del alcance de la auditoria, no es ni eficiente ni necesario realizar una auditoría de verificación in situ en todos ellos o incluso en la mayoría de los sitios.</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En tales países, el IA también debe considerar la logística mientras planifica las auditorías de verificación in situ.</a:t>
            </a:r>
            <a:endParaRPr b="0" lang="en-US" sz="2400" spc="-1" strike="noStrike">
              <a:solidFill>
                <a:srgbClr val="404040"/>
              </a:solidFill>
              <a:latin typeface="Calibri"/>
            </a:endParaRPr>
          </a:p>
        </p:txBody>
      </p:sp>
      <p:sp>
        <p:nvSpPr>
          <p:cNvPr id="36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23400-94D2-4466-9B23-4B87EE2BE7A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70"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Conducción de la Auditoría de verificación in situ</a:t>
            </a:r>
            <a:endParaRPr b="0" lang="en-US" sz="2600" spc="-1" strike="noStrike">
              <a:solidFill>
                <a:srgbClr val="404040"/>
              </a:solidFill>
              <a:latin typeface="Calibri"/>
            </a:endParaRPr>
          </a:p>
          <a:p>
            <a:pPr marL="136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IA debe llevar a cabo la reunión inicial de la auditoría de verificación in situ con la ACC.</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e acuerdo con el Plan de verificación de auditoría, el IA debe examinar una muestra representativa e informativa de los procedimientos, documentos y registros que evidencian las actividades regulatorias del país importador. Debe también acompañar a los funcionarios de la ACC, en una muestra representativa de los lugares identificados en el plan de auditoría, en las visitas a campo.</a:t>
            </a:r>
            <a:endParaRPr b="0" lang="en-US" sz="2600" spc="-1" strike="noStrike">
              <a:solidFill>
                <a:srgbClr val="404040"/>
              </a:solidFill>
              <a:latin typeface="Calibri"/>
            </a:endParaRPr>
          </a:p>
        </p:txBody>
      </p:sp>
      <p:sp>
        <p:nvSpPr>
          <p:cNvPr id="37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70A75-DF19-45B1-9CC1-AD51299FE8BD}"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74" name=""/>
          <p:cNvSpPr txBox="1"/>
          <p:nvPr/>
        </p:nvSpPr>
        <p:spPr>
          <a:xfrm>
            <a:off x="1220400" y="1870200"/>
            <a:ext cx="9907560" cy="4449600"/>
          </a:xfrm>
          <a:prstGeom prst="rect">
            <a:avLst/>
          </a:prstGeom>
          <a:noFill/>
          <a:ln w="0">
            <a:noFill/>
          </a:ln>
        </p:spPr>
        <p:txBody>
          <a:bodyPr lIns="0" rIns="0" anchor="t">
            <a:normAutofit/>
          </a:bodyPr>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ea typeface="Arial"/>
              </a:rPr>
              <a:t>Conducción de la Auditoría de verificación in situ</a:t>
            </a:r>
            <a:endParaRPr b="0" lang="en-US" sz="2400" spc="-1" strike="noStrike">
              <a:solidFill>
                <a:srgbClr val="404040"/>
              </a:solidFill>
              <a:latin typeface="Calibri"/>
            </a:endParaRPr>
          </a:p>
          <a:p>
            <a:pPr marL="13644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s-ES" sz="2400" spc="-1" strike="noStrike">
                <a:solidFill>
                  <a:srgbClr val="000000"/>
                </a:solidFill>
                <a:latin typeface="Arial"/>
                <a:ea typeface="Arial"/>
              </a:rPr>
              <a:t>Al final de cada día de auditoría, el IA se reunirá con la ACC para comparar sus observaciones con las realizadas por la ACC con respecto a:</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1. La verificación del inspector de planta de que el establecimiento o instalación cumple con los requisitos aplicables; y</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2. La capacidad del sistema de inspección de inocuidad de los alimentos para identificar y resolver los incumplimientos.</a:t>
            </a:r>
            <a:endParaRPr b="0" lang="en-US" sz="2400" spc="-1" strike="noStrike">
              <a:solidFill>
                <a:srgbClr val="404040"/>
              </a:solidFill>
              <a:latin typeface="Calibri"/>
            </a:endParaRPr>
          </a:p>
        </p:txBody>
      </p:sp>
      <p:sp>
        <p:nvSpPr>
          <p:cNvPr id="37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4463-B28B-4F16-820E-CAF837E2FF4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78"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Conducción de la Auditoría de verificación in situ</a:t>
            </a:r>
            <a:endParaRPr b="0" lang="en-US" sz="2600" spc="-1" strike="noStrike">
              <a:solidFill>
                <a:srgbClr val="404040"/>
              </a:solidFill>
              <a:latin typeface="Calibri"/>
            </a:endParaRPr>
          </a:p>
          <a:p>
            <a:pPr marL="136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n la reunión final de auditoria el IA debe presentar un informe preliminar de auditoria con los hallazgos a la ACC.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n esta instancia no se hará una determinación final de la situación.</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7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48E1C-D0A4-4A41-A769-5C27080680BC}"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82" name=""/>
          <p:cNvSpPr txBox="1"/>
          <p:nvPr/>
        </p:nvSpPr>
        <p:spPr>
          <a:xfrm>
            <a:off x="1220400" y="1870200"/>
            <a:ext cx="9907560" cy="4449600"/>
          </a:xfrm>
          <a:prstGeom prst="rect">
            <a:avLst/>
          </a:prstGeom>
          <a:noFill/>
          <a:ln w="0">
            <a:noFill/>
          </a:ln>
        </p:spPr>
        <p:txBody>
          <a:bodyPr lIns="0" rIns="0" anchor="t">
            <a:normAutofit/>
          </a:bodyPr>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ea typeface="Arial"/>
              </a:rPr>
              <a:t>Informe de auditoria</a:t>
            </a:r>
            <a:endParaRPr b="0" lang="en-US" sz="2200" spc="-1" strike="noStrike">
              <a:solidFill>
                <a:srgbClr val="404040"/>
              </a:solidFill>
              <a:latin typeface="Calibri"/>
            </a:endParaRPr>
          </a:p>
          <a:p>
            <a:pPr marL="1364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Después de finalizar una auditoría de verificación in situ, el IA redacta un informe de auditoría.</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El IA documenta sus observaciones de auditoría que describen si la ACC ha implementado su sistema de inspección de inocuidad de los alimentos para los siguientes seis componentes de equivalencia:</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1) Supervisión del gobierno </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2) Autoridad gubernamental </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3) Saneamiento del gobierno </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4) Sistema de análisis de peligros y puntos críticos de control (HACCP) del gobierno </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5) Programas de análisis de residuos químicos del gobierno, y </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6) Programas de pruebas microbiológicas del gobierno.</a:t>
            </a:r>
            <a:endParaRPr b="0" lang="en-US" sz="2200" spc="-1" strike="noStrike">
              <a:solidFill>
                <a:srgbClr val="404040"/>
              </a:solidFill>
              <a:latin typeface="Calibri"/>
            </a:endParaRPr>
          </a:p>
          <a:p>
            <a:pPr marL="136440">
              <a:lnSpc>
                <a:spcPct val="80000"/>
              </a:lnSpc>
              <a:spcBef>
                <a:spcPts val="550"/>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
        <p:nvSpPr>
          <p:cNvPr id="38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576C-FDDF-45A0-8F54-40569AE058A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86" name=""/>
          <p:cNvSpPr txBox="1"/>
          <p:nvPr/>
        </p:nvSpPr>
        <p:spPr>
          <a:xfrm>
            <a:off x="1220400" y="1870200"/>
            <a:ext cx="9907560" cy="4449600"/>
          </a:xfrm>
          <a:prstGeom prst="rect">
            <a:avLst/>
          </a:prstGeom>
          <a:noFill/>
          <a:ln w="0">
            <a:noFill/>
          </a:ln>
        </p:spPr>
        <p:txBody>
          <a:bodyPr lIns="0" rIns="0" anchor="t">
            <a:normAutofit/>
          </a:bodyPr>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Informe de auditoria</a:t>
            </a:r>
            <a:endParaRPr b="0" lang="en-US" sz="1800" spc="-1" strike="noStrike">
              <a:solidFill>
                <a:srgbClr val="404040"/>
              </a:solidFill>
              <a:latin typeface="Calibri"/>
            </a:endParaRPr>
          </a:p>
          <a:p>
            <a:pPr marL="1364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Hallazgo: una práctica o condición no conforme relacionada con la supervisión regulatoria identificada durante la auditoría de verificación in situ.</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islado: una práctica o condición de no cumplimiento, normalmente identificada en establecimientos extranjeros en particular, que no necesariamente indica una implementación ineficaz del sistema de inocuidad alimentaria por parte del gobierno.</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Sistémico: una práctica o condición no conforme asociada con la deficiencia del sistema de inocuidad alimentaria en el diseño, la implementación o la supervisión gubernamental.</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3. </a:t>
            </a:r>
            <a:r>
              <a:rPr b="1" lang="es-ES" sz="1800" spc="-1" strike="noStrike">
                <a:solidFill>
                  <a:srgbClr val="000000"/>
                </a:solidFill>
                <a:latin typeface="Arial"/>
                <a:ea typeface="Arial"/>
              </a:rPr>
              <a:t>Significativo: una práctica o condición no conforme que refleja una deficiencia tan sustancial en el sistema de inspección que presenta una amenaza potencial para la salud pública y requiere una respuesta regulatoria inmediata por parte de la ACC.</a:t>
            </a:r>
            <a:endParaRPr b="0" lang="en-US" sz="1800" spc="-1" strike="noStrike">
              <a:solidFill>
                <a:srgbClr val="404040"/>
              </a:solidFill>
              <a:latin typeface="Calibri"/>
            </a:endParaRPr>
          </a:p>
        </p:txBody>
      </p:sp>
      <p:sp>
        <p:nvSpPr>
          <p:cNvPr id="38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DF1AA-275F-4FA2-9926-B9C7553D54F3}"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90" name=""/>
          <p:cNvSpPr txBox="1"/>
          <p:nvPr/>
        </p:nvSpPr>
        <p:spPr>
          <a:xfrm>
            <a:off x="1220400" y="1870200"/>
            <a:ext cx="9907560" cy="4449600"/>
          </a:xfrm>
          <a:prstGeom prst="rect">
            <a:avLst/>
          </a:prstGeom>
          <a:noFill/>
          <a:ln w="0">
            <a:noFill/>
          </a:ln>
        </p:spPr>
        <p:txBody>
          <a:bodyPr lIns="0" rIns="0" anchor="t">
            <a:normAutofit/>
          </a:bodyPr>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000000"/>
                </a:solidFill>
                <a:uFillTx/>
                <a:latin typeface="Arial"/>
                <a:ea typeface="Arial"/>
              </a:rPr>
              <a:t>Informe de auditoria</a:t>
            </a:r>
            <a:endParaRPr b="0" lang="en-US" sz="2200" spc="-1" strike="noStrike">
              <a:solidFill>
                <a:srgbClr val="404040"/>
              </a:solidFill>
              <a:latin typeface="Calibri"/>
            </a:endParaRPr>
          </a:p>
          <a:p>
            <a:pPr marL="13644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El informe de auditoria debe: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1. Especificar si la ACC está implementando su sistema de inspección de inocuidad de los alimentos tal como esta documentado;</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2. Caracterizar las prácticas o condiciones de no cumplimiento;</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3. Describir las acciones correctivas inmediatas y planificadas; y</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4. Describir las actividades de verificación del FSIS inmediatas y planificadas. </a:t>
            </a:r>
            <a:endParaRPr b="0" lang="en-US" sz="2200" spc="-1" strike="noStrike">
              <a:solidFill>
                <a:srgbClr val="404040"/>
              </a:solidFill>
              <a:latin typeface="Calibri"/>
            </a:endParaRPr>
          </a:p>
        </p:txBody>
      </p:sp>
      <p:sp>
        <p:nvSpPr>
          <p:cNvPr id="39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5931-0E9A-49B6-8537-9564129D98A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94"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Informe de auditoria</a:t>
            </a:r>
            <a:endParaRPr b="0" lang="en-US" sz="2600" spc="-1" strike="noStrike">
              <a:solidFill>
                <a:srgbClr val="404040"/>
              </a:solidFill>
              <a:latin typeface="Calibri"/>
            </a:endParaRPr>
          </a:p>
          <a:p>
            <a:pPr marL="136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IA debe presentar las conclusiones de la auditoria de manera consistente.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n la sección "Resumen ejecutivo", el IA debe incluir un resumen de los hallazgos evaluados componente por componente (no en una lista de hallazgo por hallazgo), y debe resaltar cualquier hallazgo significativ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Las preguntas de la SRT son los criterios de equivalencia que utiliza el FSIS para determinar la equivalencia. </a:t>
            </a:r>
            <a:endParaRPr b="0" lang="en-US" sz="2600" spc="-1" strike="noStrike">
              <a:solidFill>
                <a:srgbClr val="404040"/>
              </a:solidFill>
              <a:latin typeface="Calibri"/>
            </a:endParaRPr>
          </a:p>
        </p:txBody>
      </p:sp>
      <p:sp>
        <p:nvSpPr>
          <p:cNvPr id="39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560EC-FE21-4CD4-B337-A24CD35D75F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98"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Informe de auditoria</a:t>
            </a:r>
            <a:endParaRPr b="0" lang="en-US" sz="2600" spc="-1" strike="noStrike">
              <a:solidFill>
                <a:srgbClr val="404040"/>
              </a:solidFill>
              <a:latin typeface="Calibri"/>
            </a:endParaRPr>
          </a:p>
          <a:p>
            <a:pPr marL="136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IA enviará una carta indicando si el país continúa manteniendo o no la equivalencia con los requisitos de los EE. UU., junto con los hallazgos finales para comentarios.</a:t>
            </a:r>
            <a:endParaRPr b="0" lang="en-US" sz="2600" spc="-1" strike="noStrike">
              <a:solidFill>
                <a:srgbClr val="404040"/>
              </a:solidFill>
              <a:latin typeface="Calibri"/>
            </a:endParaRPr>
          </a:p>
        </p:txBody>
      </p:sp>
      <p:sp>
        <p:nvSpPr>
          <p:cNvPr id="39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47862-C95F-45BF-89B8-0C63F162BB8B}"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0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34"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Antecedentes</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La determinación de equivalencia del FSIS es el proceso de decidir si un sistema de inspección de inocuidad de los alimentos extranjero es equivalente al sistema de inspección del FSIS.</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principio de equivalencia se basa en el Acuerdo de la Organización Mundial del Comercio sobre la Aplicación de Medidas Sanitarias y Fitosanitarias.</a:t>
            </a:r>
            <a:endParaRPr b="0" lang="en-US" sz="2600" spc="-1" strike="noStrike">
              <a:solidFill>
                <a:srgbClr val="404040"/>
              </a:solidFill>
              <a:latin typeface="Calibri"/>
            </a:endParaRPr>
          </a:p>
        </p:txBody>
      </p:sp>
      <p:sp>
        <p:nvSpPr>
          <p:cNvPr id="33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BE5BF-AE52-46AF-8D94-45E40A6FC3A4}"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38"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Antecedentes</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Los sistemas de inspección de inocuidad alimentaria extranjeros no están obligados a desarrollar e implementar los mismos procedimientos que los EE. UU.</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Pero el gobierno extranjero debe demostrar cómo sus procedimientos logran un nivel equivalente de protección de la salud pública al del sistema de inspección de los EE. UU. bajo el FSIS.</a:t>
            </a:r>
            <a:endParaRPr b="0" lang="en-US" sz="2600" spc="-1" strike="noStrike">
              <a:solidFill>
                <a:srgbClr val="404040"/>
              </a:solidFill>
              <a:latin typeface="Calibri"/>
            </a:endParaRPr>
          </a:p>
        </p:txBody>
      </p:sp>
      <p:sp>
        <p:nvSpPr>
          <p:cNvPr id="33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E2BB-D63C-4794-8106-5E0F73DD26C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42" name=""/>
          <p:cNvSpPr txBox="1"/>
          <p:nvPr/>
        </p:nvSpPr>
        <p:spPr>
          <a:xfrm>
            <a:off x="1220400" y="1870200"/>
            <a:ext cx="9907560" cy="4449600"/>
          </a:xfrm>
          <a:prstGeom prst="rect">
            <a:avLst/>
          </a:prstGeom>
          <a:noFill/>
          <a:ln w="0">
            <a:noFill/>
          </a:ln>
        </p:spPr>
        <p:txBody>
          <a:bodyPr lIns="0" rIns="0" anchor="t">
            <a:normAutofit/>
          </a:bodyPr>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Antecedentes</a:t>
            </a:r>
            <a:endParaRPr b="0" lang="en-US" sz="1800" spc="-1" strike="noStrike">
              <a:solidFill>
                <a:srgbClr val="404040"/>
              </a:solidFill>
              <a:latin typeface="Calibri"/>
            </a:endParaRPr>
          </a:p>
          <a:p>
            <a:pPr marL="1364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FSIS evalúa a la Autoridad Central Competente (CCA), la autoridad gubernamental del país que es responsable de garantizar la inocuidad y el etiquetado preciso en el suministro de alimentos, para verificar si mantiene requisitos equivalentes con respecto a:</a:t>
            </a:r>
            <a:r>
              <a:rPr b="1" lang="en-US"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1) supervisión gubernamental (por ejemplo, Organización y Administración), </a:t>
            </a: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2) la autoridad gubernamental y las reglamentaciones de inocuidad alimentaria y otras normas de protección al consumidor (por ejemplo, operación del sistema de inspección, normas y etiquetado de productos, y manejo humanitario), </a:t>
            </a: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3) saneamiento del gobierno, </a:t>
            </a: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4) sistema de análisis de peligros y puntos críticos de control (HACCP) del gobierno </a:t>
            </a: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5) programas de análisis de residuos químicos del gobierno, y </a:t>
            </a:r>
            <a:endParaRPr b="0" lang="en-US" sz="1800" spc="-1" strike="noStrike">
              <a:solidFill>
                <a:srgbClr val="404040"/>
              </a:solidFill>
              <a:latin typeface="Calibri"/>
            </a:endParaRPr>
          </a:p>
          <a:p>
            <a:pPr marL="136440">
              <a:lnSpc>
                <a:spcPct val="80000"/>
              </a:lnSpc>
              <a:spcBef>
                <a:spcPts val="451"/>
              </a:spcBef>
              <a:buClr>
                <a:srgbClr val="f9f9f9"/>
              </a:buClr>
              <a:buSzPct val="6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6) programas de pruebas microbiológicas del gobierno.</a:t>
            </a:r>
            <a:endParaRPr b="0" lang="en-US" sz="1800" spc="-1" strike="noStrike">
              <a:solidFill>
                <a:srgbClr val="404040"/>
              </a:solidFill>
              <a:latin typeface="Calibri"/>
            </a:endParaRPr>
          </a:p>
        </p:txBody>
      </p:sp>
      <p:sp>
        <p:nvSpPr>
          <p:cNvPr id="34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051B9-7568-4F40-9468-7EF1690C58FC}"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46" name=""/>
          <p:cNvSpPr txBox="1"/>
          <p:nvPr/>
        </p:nvSpPr>
        <p:spPr>
          <a:xfrm>
            <a:off x="1220400" y="1870200"/>
            <a:ext cx="9907560" cy="4449600"/>
          </a:xfrm>
          <a:prstGeom prst="rect">
            <a:avLst/>
          </a:prstGeom>
          <a:noFill/>
          <a:ln w="0">
            <a:noFill/>
          </a:ln>
        </p:spPr>
        <p:txBody>
          <a:bodyPr lIns="0" rIns="0" anchor="t">
            <a:normAutofit fontScale="99000"/>
          </a:bodyPr>
          <a:p>
            <a:pPr marL="135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Antecedentes</a:t>
            </a:r>
            <a:endParaRPr b="0" lang="en-US" sz="2600" spc="-1" strike="noStrike">
              <a:solidFill>
                <a:srgbClr val="404040"/>
              </a:solidFill>
              <a:latin typeface="Calibri"/>
            </a:endParaRPr>
          </a:p>
          <a:p>
            <a:pPr marL="13500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135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FSIS recibe información de gobiernos extranjeros sobre cómo su sistema de inspección de inocuidad de los alimentos es equivalente al de los EE. UU. en la SRT (ver la Herramienta de autoinforme).</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50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La</a:t>
            </a:r>
            <a:r>
              <a:rPr b="0" lang="es-ES" sz="2800" spc="-1" strike="noStrike">
                <a:solidFill>
                  <a:srgbClr val="404040"/>
                </a:solidFill>
                <a:latin typeface="Calibri"/>
              </a:rPr>
              <a:t> </a:t>
            </a:r>
            <a:r>
              <a:rPr b="1" lang="es-ES" sz="2600" spc="-1" strike="noStrike">
                <a:solidFill>
                  <a:srgbClr val="000000"/>
                </a:solidFill>
                <a:latin typeface="Arial"/>
                <a:ea typeface="Arial"/>
              </a:rPr>
              <a:t>SRT es un cuestionario que proporciona un medio organizado para que la ACC de un país demuestre que su sistema de inspección de inocuidad de los alimentos alcanza un nivel de protección equivalente al proporcionado por el FSIS en los EE. UU.</a:t>
            </a:r>
            <a:endParaRPr b="0" lang="en-US" sz="2600" spc="-1" strike="noStrike">
              <a:solidFill>
                <a:srgbClr val="404040"/>
              </a:solidFill>
              <a:latin typeface="Calibri"/>
            </a:endParaRPr>
          </a:p>
        </p:txBody>
      </p:sp>
      <p:sp>
        <p:nvSpPr>
          <p:cNvPr id="34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66825-607E-4128-A3A2-46D85D74347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br>
              <a:rPr sz="2400"/>
            </a:br>
            <a:endParaRPr b="0" lang="en-US" sz="2800" spc="-1" strike="noStrike">
              <a:solidFill>
                <a:srgbClr val="404040"/>
              </a:solidFill>
              <a:latin typeface="Calibri Light"/>
            </a:endParaRPr>
          </a:p>
        </p:txBody>
      </p:sp>
      <p:sp>
        <p:nvSpPr>
          <p:cNvPr id="350" name=""/>
          <p:cNvSpPr txBox="1"/>
          <p:nvPr/>
        </p:nvSpPr>
        <p:spPr>
          <a:xfrm>
            <a:off x="1220400" y="1870200"/>
            <a:ext cx="9907560" cy="4449600"/>
          </a:xfrm>
          <a:prstGeom prst="rect">
            <a:avLst/>
          </a:prstGeom>
          <a:noFill/>
          <a:ln w="0">
            <a:noFill/>
          </a:ln>
        </p:spPr>
        <p:txBody>
          <a:bodyPr lIns="0" rIns="0" anchor="t">
            <a:normAutofit/>
          </a:bodyPr>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ea typeface="Arial"/>
              </a:rPr>
              <a:t>Antecedentes</a:t>
            </a:r>
            <a:endParaRPr b="0" lang="en-US" sz="2200" spc="-1" strike="noStrike">
              <a:solidFill>
                <a:srgbClr val="404040"/>
              </a:solidFill>
              <a:latin typeface="Calibri"/>
            </a:endParaRPr>
          </a:p>
          <a:p>
            <a:pPr marL="13644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Para hacer una determinación de equivalencia inicial, el FSIS primero revisa las respuestas de la SRT de un país extranjero y la documentación de respaldo correspondiente.</a:t>
            </a:r>
            <a:r>
              <a:rPr b="1" lang="en-U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Si el FSIS concluye que la SRT y la documentación de respaldo indican que el país mantiene un sistema de inspección de inocuidad alimentaria que brinda un nivel de protección equivalente, entonces el FSIS realiza una auditoría de verificación del sistema de inspección del país in situ.</a:t>
            </a:r>
            <a:r>
              <a:rPr b="1" lang="en-U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ea typeface="Arial"/>
              </a:rPr>
              <a:t>Si la auditoría indica que el país mantiene un sistema de inspección de inocuidad alimentaria que proporciona un nivel de protección equivalente, el FSIS notificará al público su intención de enmendar sus reglamentaciones agregando el país a la lista de países elegibles.</a:t>
            </a:r>
            <a:endParaRPr b="0" lang="en-US" sz="2200" spc="-1" strike="noStrike">
              <a:solidFill>
                <a:srgbClr val="404040"/>
              </a:solidFill>
              <a:latin typeface="Calibri"/>
            </a:endParaRPr>
          </a:p>
        </p:txBody>
      </p:sp>
      <p:sp>
        <p:nvSpPr>
          <p:cNvPr id="35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1ECB-0B5F-4925-BBD0-F3A560E99095}"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54"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Auditoría de verificación in situ</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propósito de la auditoría de verificación in situ de las oficinas de la ACC, laboratorios y establecimientos exportadores es verificar que la implementación de los componentes de equivalencia del sistema de inspección de la inocuidad alimentaria del país solicitante sea coherente con su diseño según lo documenta la ACC en la SRT.</a:t>
            </a:r>
            <a:endParaRPr b="0" lang="en-US" sz="2600" spc="-1" strike="noStrike">
              <a:solidFill>
                <a:srgbClr val="404040"/>
              </a:solidFill>
              <a:latin typeface="Calibri"/>
            </a:endParaRPr>
          </a:p>
        </p:txBody>
      </p:sp>
      <p:sp>
        <p:nvSpPr>
          <p:cNvPr id="35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4FCAA-1770-4345-B2CC-353EDB988B5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58" name=""/>
          <p:cNvSpPr txBox="1"/>
          <p:nvPr/>
        </p:nvSpPr>
        <p:spPr>
          <a:xfrm>
            <a:off x="1220400" y="1870200"/>
            <a:ext cx="9907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Auditoría de verificación in situ</a:t>
            </a:r>
            <a:endParaRPr b="0" lang="en-US" sz="2600" spc="-1" strike="noStrike">
              <a:solidFill>
                <a:srgbClr val="404040"/>
              </a:solidFill>
              <a:latin typeface="Calibri"/>
            </a:endParaRPr>
          </a:p>
          <a:p>
            <a:pPr marL="136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Una vez que la Agencia ha decidido realizar una auditoría de verificación in situ, se envía una carta para notificar la decisión de auditar a la ACC del país, para sugerir una fecha de inicio de la auditoría e informar a la ACC sobre los objetivos y el alcance de la auditoría de verificación in situ.</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Plan de verificación de auditoría se incluirá como un anexo a esa carta.</a:t>
            </a:r>
            <a:endParaRPr b="0" lang="en-US" sz="2600" spc="-1" strike="noStrike">
              <a:solidFill>
                <a:srgbClr val="404040"/>
              </a:solidFill>
              <a:latin typeface="Calibri"/>
            </a:endParaRPr>
          </a:p>
        </p:txBody>
      </p:sp>
      <p:sp>
        <p:nvSpPr>
          <p:cNvPr id="35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5C48-4DBC-4178-88DA-B08000AF2C2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176640" y="-360"/>
            <a:ext cx="7765920" cy="149220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AUDITORIAS DE EQUIVALENCIA</a:t>
            </a:r>
            <a:endParaRPr b="0" lang="en-US" sz="2800" spc="-1" strike="noStrike">
              <a:solidFill>
                <a:srgbClr val="404040"/>
              </a:solidFill>
              <a:latin typeface="Calibri Light"/>
            </a:endParaRPr>
          </a:p>
        </p:txBody>
      </p:sp>
      <p:sp>
        <p:nvSpPr>
          <p:cNvPr id="362" name=""/>
          <p:cNvSpPr txBox="1"/>
          <p:nvPr/>
        </p:nvSpPr>
        <p:spPr>
          <a:xfrm>
            <a:off x="1220400" y="1870200"/>
            <a:ext cx="9907560" cy="4449600"/>
          </a:xfrm>
          <a:prstGeom prst="rect">
            <a:avLst/>
          </a:prstGeom>
          <a:noFill/>
          <a:ln w="0">
            <a:noFill/>
          </a:ln>
        </p:spPr>
        <p:txBody>
          <a:bodyPr lIns="0" rIns="0" anchor="t">
            <a:normAutofit/>
          </a:bodyPr>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Arial"/>
                <a:ea typeface="Arial"/>
              </a:rPr>
              <a:t>Auditoría de verificación in situ</a:t>
            </a:r>
            <a:endParaRPr b="0" lang="en-US" sz="2000" spc="-1" strike="noStrike">
              <a:solidFill>
                <a:srgbClr val="404040"/>
              </a:solidFill>
              <a:latin typeface="Calibri"/>
            </a:endParaRPr>
          </a:p>
          <a:p>
            <a:pPr marL="13644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l Auditor Internacional (</a:t>
            </a:r>
            <a:r>
              <a:rPr b="1" lang="es-ES" sz="2000" spc="-1" strike="noStrike">
                <a:solidFill>
                  <a:srgbClr val="000000"/>
                </a:solidFill>
                <a:latin typeface="Arial"/>
                <a:ea typeface="Arial"/>
              </a:rPr>
              <a:t>IA por sus siglas en inglés) selecciona los lugares para la auditoría según el volumen de producción y el riesgo relativo asociado con los productos que la ACC está buscando exportar a los EE. UU.</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 </a:t>
            </a:r>
            <a:r>
              <a:rPr b="1" lang="es-ES" sz="2000" spc="-1" strike="noStrike">
                <a:solidFill>
                  <a:srgbClr val="000000"/>
                </a:solidFill>
                <a:latin typeface="Arial"/>
                <a:ea typeface="Arial"/>
              </a:rPr>
              <a:t>Oficinas gubernamentales que supervisan al personal de inspección en establecimientos que producen volúmenes elevados de productos de alto riesgo;</a:t>
            </a:r>
            <a:r>
              <a:rPr b="1" lang="en-US" sz="2000" spc="-1" strike="noStrike">
                <a:solidFill>
                  <a:srgbClr val="000000"/>
                </a:solidFill>
                <a:latin typeface="Arial"/>
                <a:ea typeface="Arial"/>
              </a:rPr>
              <a:t>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 </a:t>
            </a:r>
            <a:r>
              <a:rPr b="1" lang="es-ES" sz="2000" spc="-1" strike="noStrike">
                <a:solidFill>
                  <a:srgbClr val="000000"/>
                </a:solidFill>
                <a:latin typeface="Arial"/>
                <a:ea typeface="Arial"/>
              </a:rPr>
              <a:t>Laboratorios, incluidos laboratorios privados, que realizan pruebas de patógenos o pruebas químicas de productos de establecimientos que producen volúmenes elevados de productos de alto; y</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 </a:t>
            </a:r>
            <a:r>
              <a:rPr b="1" lang="es-ES" sz="2000" spc="-1" strike="noStrike">
                <a:solidFill>
                  <a:srgbClr val="000000"/>
                </a:solidFill>
                <a:latin typeface="Arial"/>
                <a:ea typeface="Arial"/>
              </a:rPr>
              <a:t>Establecimientos que producen volúmenes elevados de productos de alto riesgo.</a:t>
            </a:r>
            <a:r>
              <a:rPr b="1" lang="en-US" sz="2000" spc="-1" strike="noStrike">
                <a:solidFill>
                  <a:srgbClr val="000000"/>
                </a:solidFill>
                <a:latin typeface="Arial"/>
                <a:ea typeface="Arial"/>
              </a:rPr>
              <a:t> </a:t>
            </a:r>
            <a:endParaRPr b="0" lang="en-US" sz="2000" spc="-1" strike="noStrike">
              <a:solidFill>
                <a:srgbClr val="404040"/>
              </a:solidFill>
              <a:latin typeface="Calibri"/>
            </a:endParaRPr>
          </a:p>
        </p:txBody>
      </p:sp>
      <p:sp>
        <p:nvSpPr>
          <p:cNvPr id="36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06CFB-FF18-4B30-8B98-3B232688307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3T20:24:39Z</dcterms:created>
  <dc:creator>William James</dc:creator>
  <dc:description/>
  <dc:language>en-US</dc:language>
  <cp:lastModifiedBy>Monica</cp:lastModifiedBy>
  <dcterms:modified xsi:type="dcterms:W3CDTF">2019-02-02T11:54:22Z</dcterms:modified>
  <cp:revision>67</cp:revision>
  <dc:subject/>
  <dc:title>EQUIVALENCE AUDITS</dc:title>
</cp:coreProperties>
</file>