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A91D-2F2F-488E-B617-EEBD482CE06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AA8A-CBB0-49B9-B54F-DD859B2C8B1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8B-070A-4495-825A-0C713371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AF2-56D2-4852-85D8-4F73D2C8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C09-DD54-4AC5-A675-244FA11C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A27-4A54-407E-B78B-0FE2584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8E7-13A6-4964-AE8A-3FA1246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F99-8D1A-4367-A9A5-D52F24A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289-81E5-4174-B026-DF4F805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138-911A-4AD7-A473-DC07BCDE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144-BF53-42EF-BFDA-95A09CE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CF3-7619-4499-93BB-FBCD2B8A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EA8-C95F-420B-A067-EB5C081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237-D7BD-4C41-A855-702C8C9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.V. Msc. Natalia Agui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B67D-8DD2-48BA-83F6-C9DF4E432A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nta.gob.ar/documentos/documento-base-del-programa-nacional-carnes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1" descr="http://www.ipcva.com.ar/images/inta.jpg"/>
          <p:cNvPicPr/>
          <p:nvPr/>
        </p:nvPicPr>
        <p:blipFill>
          <a:blip r:embed="rId1"/>
          <a:stretch/>
        </p:blipFill>
        <p:spPr>
          <a:xfrm>
            <a:off x="1835280" y="4221000"/>
            <a:ext cx="129672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Imagen 2" descr="http://www.ipcva.com.ar/images/ipcva2012.jpg"/>
          <p:cNvPicPr/>
          <p:nvPr/>
        </p:nvPicPr>
        <p:blipFill>
          <a:blip r:embed="rId2"/>
          <a:stretch/>
        </p:blipFill>
        <p:spPr>
          <a:xfrm>
            <a:off x="4140360" y="4437000"/>
            <a:ext cx="3809880" cy="723960"/>
          </a:xfrm>
          <a:prstGeom prst="rect">
            <a:avLst/>
          </a:prstGeom>
          <a:ln w="0">
            <a:noFill/>
          </a:ln>
        </p:spPr>
      </p:pic>
      <p:sp>
        <p:nvSpPr>
          <p:cNvPr id="50" name="7 Rectángulo"/>
          <p:cNvSpPr/>
          <p:nvPr/>
        </p:nvSpPr>
        <p:spPr>
          <a:xfrm>
            <a:off x="953280" y="3286080"/>
            <a:ext cx="7331400" cy="64260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000"/>
                </a:solidFill>
                <a:latin typeface="Arial"/>
              </a:rPr>
              <a:t>Jornada de Capacitación en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ienestar Animal y Calidad de Ca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000"/>
                </a:solidFill>
                <a:latin typeface="Arial"/>
              </a:rPr>
              <a:t>15 de agosto de 2012, Auditorio del IPCVA, 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Rectángulo"/>
          <p:cNvSpPr/>
          <p:nvPr/>
        </p:nvSpPr>
        <p:spPr>
          <a:xfrm>
            <a:off x="34920" y="692280"/>
            <a:ext cx="8964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9900"/>
                </a:solidFill>
                <a:latin typeface="Calibri"/>
                <a:ea typeface="Calibri"/>
              </a:rPr>
              <a:t>El Bienestar Animal en las cadenas productivas pecuarias: Investigación y extensión en el I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c000"/>
                </a:solidFill>
                <a:latin typeface="Arial"/>
              </a:rPr>
              <a:t>Proyecto Específico INTA  PNCAR 012262 ‘El Bienestar Animal en las Cadenas Productivas Pecuarias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000"/>
                </a:solidFill>
                <a:latin typeface="Arial"/>
              </a:rPr>
              <a:t>M.Sc. (M. V.) Patricio Davies (EEA INTA Gral. Villegas, Bs.A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62120" y="20520"/>
            <a:ext cx="3935520" cy="5734080"/>
          </a:xfrm>
          <a:prstGeom prst="rect">
            <a:avLst/>
          </a:prstGeom>
          <a:ln w="0">
            <a:noFill/>
          </a:ln>
        </p:spPr>
      </p:pic>
      <p:sp>
        <p:nvSpPr>
          <p:cNvPr id="76" name="3 Rectángulo"/>
          <p:cNvSpPr/>
          <p:nvPr/>
        </p:nvSpPr>
        <p:spPr>
          <a:xfrm>
            <a:off x="2710800" y="2708280"/>
            <a:ext cx="3125160" cy="368280"/>
          </a:xfrm>
          <a:prstGeom prst="rect">
            <a:avLst/>
          </a:prstGeom>
          <a:solidFill>
            <a:srgbClr val="ff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Principales líne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411280" y="27000"/>
            <a:ext cx="3795840" cy="5721480"/>
          </a:xfrm>
          <a:prstGeom prst="rect">
            <a:avLst/>
          </a:prstGeom>
          <a:ln w="0">
            <a:noFill/>
          </a:ln>
        </p:spPr>
      </p:pic>
      <p:sp>
        <p:nvSpPr>
          <p:cNvPr id="79" name="8 Rectángulo"/>
          <p:cNvSpPr/>
          <p:nvPr/>
        </p:nvSpPr>
        <p:spPr>
          <a:xfrm>
            <a:off x="352800" y="3645000"/>
            <a:ext cx="8506440" cy="1739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enestar animal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l impacto productivo y en la calidad del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distintas prácticas de manejo tanto dentro como fuera del establecimiento (relev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ento de pérdidas en frigorífico por mal trato, transporte, tiempos de encierre,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le, etc.). Elaboración de protocolos de buenas prácticas productivas, de transpor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rcialización y faena que se ajusten a los protocolos internacionales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CuadroTexto"/>
          <p:cNvSpPr/>
          <p:nvPr/>
        </p:nvSpPr>
        <p:spPr>
          <a:xfrm>
            <a:off x="619560" y="2565360"/>
            <a:ext cx="176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ín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320920" y="44280"/>
            <a:ext cx="3822840" cy="5688360"/>
          </a:xfrm>
          <a:prstGeom prst="rect">
            <a:avLst/>
          </a:prstGeom>
          <a:ln w="0">
            <a:noFill/>
          </a:ln>
        </p:spPr>
      </p:pic>
      <p:sp>
        <p:nvSpPr>
          <p:cNvPr id="83" name="3 CuadroTexto"/>
          <p:cNvSpPr/>
          <p:nvPr/>
        </p:nvSpPr>
        <p:spPr>
          <a:xfrm>
            <a:off x="619560" y="256536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r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314440" y="61920"/>
            <a:ext cx="3816360" cy="5670720"/>
          </a:xfrm>
          <a:prstGeom prst="rect">
            <a:avLst/>
          </a:prstGeom>
          <a:ln w="0">
            <a:noFill/>
          </a:ln>
        </p:spPr>
      </p:pic>
      <p:sp>
        <p:nvSpPr>
          <p:cNvPr id="85" name="5 Rectángulo"/>
          <p:cNvSpPr/>
          <p:nvPr/>
        </p:nvSpPr>
        <p:spPr>
          <a:xfrm>
            <a:off x="212760" y="765000"/>
            <a:ext cx="8908560" cy="1465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Proyecto Integrado de Calidad de e Inocuidad de Carnes PNCAR-012001, la 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vina tendrá dos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yectos Específ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l PE PNCAR-012211, “Calidad de carne bovin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El PE PNCAR-012262, “El bienestar animal en las cadenas productivas pecuari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 Rectángulo"/>
          <p:cNvSpPr/>
          <p:nvPr/>
        </p:nvSpPr>
        <p:spPr>
          <a:xfrm>
            <a:off x="282240" y="3573360"/>
            <a:ext cx="8815680" cy="2014200"/>
          </a:xfrm>
          <a:prstGeom prst="rect">
            <a:avLst/>
          </a:prstGeom>
          <a:solidFill>
            <a:srgbClr val="ff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yectos Inte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temas priorizados serán abordados a través de seis PE que para la actividad b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n los cuatro PI del Programa Carnes (Productividad, Calidad de Carnes, Mejora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ético, Nutrición) que tienden a resolver los temas estratégicos identificados c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antes en la cadena de valor de la carne vacuna y sobre los que el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 tendrá espe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449640" y="1590840"/>
            <a:ext cx="7860240" cy="368280"/>
          </a:xfrm>
          <a:prstGeom prst="rect">
            <a:avLst/>
          </a:prstGeom>
          <a:solidFill>
            <a:srgbClr val="ffc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E PNCAR-012262, “El bienestar animal en las cadenas productivas pecuaria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2 CuadroTexto"/>
          <p:cNvSpPr/>
          <p:nvPr/>
        </p:nvSpPr>
        <p:spPr>
          <a:xfrm>
            <a:off x="2195640" y="26028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Nacional de Carnes del I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Cartera de Proyectos 2009-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 CuadroTexto"/>
          <p:cNvSpPr/>
          <p:nvPr/>
        </p:nvSpPr>
        <p:spPr>
          <a:xfrm>
            <a:off x="395280" y="114012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Proyectos Integrad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4 CuadroTexto"/>
          <p:cNvSpPr/>
          <p:nvPr/>
        </p:nvSpPr>
        <p:spPr>
          <a:xfrm>
            <a:off x="971640" y="371628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NCAR-012001 Calidad e Inocuidad de Car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539640" y="227664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NCAR-013001 Mejo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enético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CuadroTexto"/>
          <p:cNvSpPr/>
          <p:nvPr/>
        </p:nvSpPr>
        <p:spPr>
          <a:xfrm>
            <a:off x="395280" y="1557360"/>
            <a:ext cx="33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NCAR-011001 Productividad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anad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755640" y="3068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PNCAR-014001 Nutri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21 Conector recto"/>
          <p:cNvCxnSpPr>
            <a:stCxn id="89" idx="2"/>
            <a:endCxn id="90" idx="0"/>
          </p:cNvCxnSpPr>
          <p:nvPr/>
        </p:nvCxnSpPr>
        <p:spPr>
          <a:xfrm rot="5400000">
            <a:off x="2804400" y="-266760"/>
            <a:ext cx="294480" cy="2520000"/>
          </a:xfrm>
          <a:prstGeom prst="bentConnector3">
            <a:avLst>
              <a:gd name="adj1" fmla="val 49938"/>
            </a:avLst>
          </a:prstGeom>
          <a:ln w="9360">
            <a:solidFill>
              <a:srgbClr val="ffc000"/>
            </a:solidFill>
            <a:round/>
          </a:ln>
        </p:spPr>
      </p:cxnSp>
      <p:sp>
        <p:nvSpPr>
          <p:cNvPr id="96" name="25 CuadroTexto"/>
          <p:cNvSpPr/>
          <p:nvPr/>
        </p:nvSpPr>
        <p:spPr>
          <a:xfrm>
            <a:off x="4284720" y="450864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33"/>
                </a:solidFill>
                <a:latin typeface="Arial"/>
                <a:ea typeface="Times New Roman"/>
              </a:rPr>
              <a:t>PNCAR-012262 de Bienestar Animal en las Cadenas Productivas Pecuari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21 Conector recto"/>
          <p:cNvCxnSpPr>
            <a:stCxn id="90" idx="1"/>
            <a:endCxn id="93" idx="1"/>
          </p:cNvCxnSpPr>
          <p:nvPr/>
        </p:nvCxnSpPr>
        <p:spPr>
          <a:xfrm flipV="1" rot="10800000">
            <a:off x="394560" y="1308600"/>
            <a:ext cx="13320" cy="540360"/>
          </a:xfrm>
          <a:prstGeom prst="bentConnector3">
            <a:avLst>
              <a:gd name="adj1" fmla="val 1800000"/>
            </a:avLst>
          </a:prstGeom>
          <a:ln w="9360">
            <a:solidFill>
              <a:srgbClr val="ffc000"/>
            </a:solidFill>
            <a:round/>
          </a:ln>
        </p:spPr>
      </p:cxnSp>
      <p:cxnSp>
        <p:nvCxnSpPr>
          <p:cNvPr id="98" name="21 Conector recto"/>
          <p:cNvCxnSpPr>
            <a:stCxn id="92" idx="1"/>
            <a:endCxn id="90" idx="1"/>
          </p:cNvCxnSpPr>
          <p:nvPr/>
        </p:nvCxnSpPr>
        <p:spPr>
          <a:xfrm rot="10800000">
            <a:off x="394560" y="1308960"/>
            <a:ext cx="144720" cy="1259640"/>
          </a:xfrm>
          <a:prstGeom prst="bentConnector3">
            <a:avLst>
              <a:gd name="adj1" fmla="val 259351"/>
            </a:avLst>
          </a:prstGeom>
          <a:ln w="9360">
            <a:solidFill>
              <a:srgbClr val="ffc000"/>
            </a:solidFill>
            <a:round/>
          </a:ln>
        </p:spPr>
      </p:cxnSp>
      <p:cxnSp>
        <p:nvCxnSpPr>
          <p:cNvPr id="99" name="21 Conector recto"/>
          <p:cNvCxnSpPr>
            <a:stCxn id="94" idx="1"/>
            <a:endCxn id="90" idx="1"/>
          </p:cNvCxnSpPr>
          <p:nvPr/>
        </p:nvCxnSpPr>
        <p:spPr>
          <a:xfrm rot="10800000">
            <a:off x="394560" y="1308960"/>
            <a:ext cx="361080" cy="1929600"/>
          </a:xfrm>
          <a:prstGeom prst="bentConnector3">
            <a:avLst>
              <a:gd name="adj1" fmla="val 163473"/>
            </a:avLst>
          </a:prstGeom>
          <a:ln w="9360">
            <a:solidFill>
              <a:srgbClr val="ffc000"/>
            </a:solidFill>
            <a:round/>
          </a:ln>
        </p:spPr>
      </p:cxnSp>
      <p:cxnSp>
        <p:nvCxnSpPr>
          <p:cNvPr id="100" name="21 Conector recto"/>
          <p:cNvCxnSpPr>
            <a:stCxn id="91" idx="1"/>
            <a:endCxn id="90" idx="1"/>
          </p:cNvCxnSpPr>
          <p:nvPr/>
        </p:nvCxnSpPr>
        <p:spPr>
          <a:xfrm rot="10800000">
            <a:off x="394560" y="1308960"/>
            <a:ext cx="577080" cy="2701080"/>
          </a:xfrm>
          <a:prstGeom prst="bentConnector3">
            <a:avLst>
              <a:gd name="adj1" fmla="val 139637"/>
            </a:avLst>
          </a:prstGeom>
          <a:ln w="9360">
            <a:solidFill>
              <a:srgbClr val="ffc000"/>
            </a:solidFill>
            <a:round/>
          </a:ln>
        </p:spPr>
      </p:cxnSp>
      <p:cxnSp>
        <p:nvCxnSpPr>
          <p:cNvPr id="101" name="21 Conector recto"/>
          <p:cNvCxnSpPr>
            <a:stCxn id="96" idx="1"/>
            <a:endCxn id="91" idx="3"/>
          </p:cNvCxnSpPr>
          <p:nvPr/>
        </p:nvCxnSpPr>
        <p:spPr>
          <a:xfrm rot="10800000">
            <a:off x="3923640" y="4009320"/>
            <a:ext cx="361080" cy="761040"/>
          </a:xfrm>
          <a:prstGeom prst="bentConnector3">
            <a:avLst>
              <a:gd name="adj1" fmla="val 50000"/>
            </a:avLst>
          </a:prstGeom>
          <a:ln w="9360">
            <a:solidFill>
              <a:srgbClr val="ffff00"/>
            </a:solidFill>
            <a:round/>
          </a:ln>
        </p:spPr>
      </p:cxnSp>
      <p:sp>
        <p:nvSpPr>
          <p:cNvPr id="102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57120" y="-2700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species consider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85840" y="1330200"/>
            <a:ext cx="868680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ovinos para carne y leche, porcinos, ovinos, caprinos y camélidos sudamericanos (Guanacos, Llamas y Vicuña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Rectángulo"/>
          <p:cNvSpPr/>
          <p:nvPr/>
        </p:nvSpPr>
        <p:spPr>
          <a:xfrm>
            <a:off x="3452040" y="333216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Sectores involuc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 CuadroTexto"/>
          <p:cNvSpPr/>
          <p:nvPr/>
        </p:nvSpPr>
        <p:spPr>
          <a:xfrm>
            <a:off x="1749600" y="40053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ducción primaria, comercialización, transporte e industria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-252360" y="0"/>
            <a:ext cx="94946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2360" y="1557360"/>
            <a:ext cx="8567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echa de Inicio de Actividades: Ener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Duración: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Unidades de INTA Participantes: 12 EEA,  2 Institutos (ITA e IP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vestigadores INTA participantes: 11; colaboradores: 2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xtensionistas INTA participantes y col. 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vestigadores externos (Universidades Nacionales y extranjeras) participa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1; col.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xtensionistas externos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Rectángulo"/>
          <p:cNvSpPr/>
          <p:nvPr/>
        </p:nvSpPr>
        <p:spPr>
          <a:xfrm>
            <a:off x="900000" y="620640"/>
            <a:ext cx="6336000" cy="5806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royecto Nacional Específico del I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“</a:t>
            </a: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l bienestar animal en las cadenas productivas pecuaria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 Imagen" descr="mapa INTA.jpg"/>
          <p:cNvPicPr/>
          <p:nvPr/>
        </p:nvPicPr>
        <p:blipFill>
          <a:blip r:embed="rId1"/>
          <a:stretch/>
        </p:blipFill>
        <p:spPr>
          <a:xfrm>
            <a:off x="3143160" y="0"/>
            <a:ext cx="3571920" cy="6826320"/>
          </a:xfrm>
          <a:prstGeom prst="rect">
            <a:avLst/>
          </a:prstGeom>
          <a:ln w="0">
            <a:noFill/>
          </a:ln>
        </p:spPr>
      </p:pic>
      <p:sp>
        <p:nvSpPr>
          <p:cNvPr id="111" name="13 Triángulo isósceles"/>
          <p:cNvSpPr/>
          <p:nvPr/>
        </p:nvSpPr>
        <p:spPr>
          <a:xfrm>
            <a:off x="6072120" y="1287360"/>
            <a:ext cx="142920" cy="14148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Triángulo isósceles"/>
          <p:cNvSpPr/>
          <p:nvPr/>
        </p:nvSpPr>
        <p:spPr>
          <a:xfrm>
            <a:off x="5286240" y="121608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1 Triángulo isósceles"/>
          <p:cNvSpPr/>
          <p:nvPr/>
        </p:nvSpPr>
        <p:spPr>
          <a:xfrm>
            <a:off x="5500800" y="121608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2 Triángulo isósceles"/>
          <p:cNvSpPr/>
          <p:nvPr/>
        </p:nvSpPr>
        <p:spPr>
          <a:xfrm>
            <a:off x="5143680" y="1501920"/>
            <a:ext cx="14256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3 Triángulo isósceles"/>
          <p:cNvSpPr/>
          <p:nvPr/>
        </p:nvSpPr>
        <p:spPr>
          <a:xfrm>
            <a:off x="4643280" y="264492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4 Triángulo isósceles"/>
          <p:cNvSpPr/>
          <p:nvPr/>
        </p:nvSpPr>
        <p:spPr>
          <a:xfrm>
            <a:off x="5357880" y="2716200"/>
            <a:ext cx="142920" cy="14148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5 Triángulo isósceles"/>
          <p:cNvSpPr/>
          <p:nvPr/>
        </p:nvSpPr>
        <p:spPr>
          <a:xfrm>
            <a:off x="3286080" y="3859200"/>
            <a:ext cx="142920" cy="14148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6 Triángulo isósceles"/>
          <p:cNvSpPr/>
          <p:nvPr/>
        </p:nvSpPr>
        <p:spPr>
          <a:xfrm>
            <a:off x="4071960" y="21600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7 Triángulo isósceles"/>
          <p:cNvSpPr/>
          <p:nvPr/>
        </p:nvSpPr>
        <p:spPr>
          <a:xfrm>
            <a:off x="4500720" y="3859200"/>
            <a:ext cx="142560" cy="14148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8 Triángulo isósceles"/>
          <p:cNvSpPr/>
          <p:nvPr/>
        </p:nvSpPr>
        <p:spPr>
          <a:xfrm>
            <a:off x="4929120" y="1930320"/>
            <a:ext cx="142920" cy="14148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9 Triángulo isósceles"/>
          <p:cNvSpPr/>
          <p:nvPr/>
        </p:nvSpPr>
        <p:spPr>
          <a:xfrm>
            <a:off x="4429080" y="300204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0 Triángulo isósceles"/>
          <p:cNvSpPr/>
          <p:nvPr/>
        </p:nvSpPr>
        <p:spPr>
          <a:xfrm>
            <a:off x="5286240" y="335916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31 Triángulo isósceles"/>
          <p:cNvSpPr/>
          <p:nvPr/>
        </p:nvSpPr>
        <p:spPr>
          <a:xfrm>
            <a:off x="5143680" y="1073160"/>
            <a:ext cx="14256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5 Rectángulo"/>
          <p:cNvSpPr/>
          <p:nvPr/>
        </p:nvSpPr>
        <p:spPr>
          <a:xfrm>
            <a:off x="118440" y="44280"/>
            <a:ext cx="1361880" cy="5806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istrib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geográf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4 Triángulo isósceles"/>
          <p:cNvSpPr/>
          <p:nvPr/>
        </p:nvSpPr>
        <p:spPr>
          <a:xfrm>
            <a:off x="5437080" y="2781360"/>
            <a:ext cx="142920" cy="141120"/>
          </a:xfrm>
          <a:prstGeom prst="triangle">
            <a:avLst>
              <a:gd name="adj" fmla="val 50000"/>
            </a:avLst>
          </a:prstGeom>
          <a:solidFill>
            <a:srgbClr val="044c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4920" y="44280"/>
            <a:ext cx="1922400" cy="319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bjetivo gen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79280" y="206064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Generar y transferir tecnología de procesos basados en los principios del Bienestar Animal para contribuir al progreso productivo pecu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4920" y="44280"/>
            <a:ext cx="2497320" cy="2890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bjetivos Específico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74636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Unificar metodologías de evaluación de BA con parámetros comportamentales y fisiológicos en diferentes especies produc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7 CuadroTexto"/>
          <p:cNvSpPr/>
          <p:nvPr/>
        </p:nvSpPr>
        <p:spPr>
          <a:xfrm>
            <a:off x="677880" y="3068640"/>
            <a:ext cx="791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sultado: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tención de metodológicas para la evaluación de indicadores comportamenta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siológicos, bioquímicos y hematológicos relacionados al BA, en diferentes espec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y modelos animales en distintos escenarios produc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2 Rectángulo"/>
          <p:cNvSpPr/>
          <p:nvPr/>
        </p:nvSpPr>
        <p:spPr>
          <a:xfrm>
            <a:off x="250920" y="199404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.     Evaluar las prácticas de manejo rutinario e instalaciones identificando puntos críticos que afectan el bienestar animal de bovinos, ovinos, caprinos y cerdos en produc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 CuadroTexto"/>
          <p:cNvSpPr/>
          <p:nvPr/>
        </p:nvSpPr>
        <p:spPr>
          <a:xfrm>
            <a:off x="719280" y="3357720"/>
            <a:ext cx="75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sultado: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formación pertinente sobre puntos críticos de prácticas de manejo y factores ambientales que afectan el 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4920" y="44280"/>
            <a:ext cx="2497320" cy="2890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bjetivos Específico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4120" y="754200"/>
            <a:ext cx="6672600" cy="490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12000" y="5013360"/>
            <a:ext cx="2547720" cy="593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108000" y="115920"/>
            <a:ext cx="1727280" cy="3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ntecedentes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2 Rectángulo"/>
          <p:cNvSpPr/>
          <p:nvPr/>
        </p:nvSpPr>
        <p:spPr>
          <a:xfrm>
            <a:off x="611280" y="19890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3. Desarrollar protocolos de procedimientos de manejo de anim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emplando el bienestar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 CuadroTexto"/>
          <p:cNvSpPr/>
          <p:nvPr/>
        </p:nvSpPr>
        <p:spPr>
          <a:xfrm>
            <a:off x="574560" y="3429000"/>
            <a:ext cx="7681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esultado: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tocolos de manejo para cada uno de los eslabones de las cadenas productiv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alizadas, basados en el bienestar animal, que incorporen información gener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ocalmente sobre manejo, instalaciones y ambientes adecuados, disponibles co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erramientas  de evaluación y para la aplicación de acciones correc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4920" y="44280"/>
            <a:ext cx="2497320" cy="2890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bjetivos Específico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4920" y="44280"/>
            <a:ext cx="1584360" cy="3049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rticulacione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03640" y="333360"/>
            <a:ext cx="3240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Investigación y Desarro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65520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-PNCAR-012211 - Calidad de carne bovina: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evaluación del efecto del estrés en el transporte y planta de faena sobre la calidad de carne bovina; evaluación del efecto de la dieta de terminación y el estrés en planta de faena sobre la calidad de carne bovina; evaluación del efecto del temperamento y el estrés peri-faena sobre la calidad de carne bov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-PNCAR-012241 - Calidad de carne de rumiantes menores: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Estudios sobre el estrés en ovinos y caprinos durante el transporte y el manejo pre-faena y su efecto sobre calidad de car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AEAI-271172 - Elementos y sistemas para implementar trazabilidad y control de calidad en productos agroindustriales: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pruebas pilotos de la utilización de collares para el monitoreamiento de animales por G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BANOR-710031 - Ciclo completo: una alternativa para planteos ganaderos del N de B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factores de manejo que afectan la productividad en sistemas de invernada en relación con 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bienestar anim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IRTA (España) y AETA 282811-Bases bioquímicas y sensoriales para preservar y mejorar la calidad de los agroali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-INTA-UNL: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proyecto CAI+D “Estrés térmico y su impacto sobre el bienestar animal”, contraparte: FCA-UN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-Universidad Nacional del Nordeste :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Calibri"/>
              </a:rPr>
              <a:t>contraparte: FCV-UN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203640" y="476280"/>
            <a:ext cx="3240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ransferencia y Exten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48960" y="866880"/>
            <a:ext cx="8696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ERIOS-630011 - Intensificación sustentable de los sistemas ganaderos de Entre Rí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difusión de buenas prácticas ganaderas y bienestar ani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SANFE-610051 – Producción sustentable de carne bovina en la provincia de Santa F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capacitación de personal de campo y productores en el manejo de bovinos en condicion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bienestar ani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CHAFOR 410061 - Ganados y Carnes: capacitaciones para productores y personal de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en el manejo general de hacienda del NEA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Calibri"/>
              </a:rPr>
              <a:t>SANFE-610031 –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Proyecto Lechero. Acciones para el desarrollo territorial de la Provinci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Santa F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4920" y="44280"/>
            <a:ext cx="1584360" cy="3049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rticulacione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203640" y="476280"/>
            <a:ext cx="3240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laciones Institucio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4 Rectángulo"/>
          <p:cNvSpPr/>
          <p:nvPr/>
        </p:nvSpPr>
        <p:spPr>
          <a:xfrm>
            <a:off x="250920" y="1484280"/>
            <a:ext cx="871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-Depto de Química Biológica de la Fac de Cs Exactas y Naturales de la UBA (FCEN-UBA);indicadores bioquímicos, protocolos experimen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-UNNE -Articulación con la universidad Nacional del Nordeste carta acuerdo firmada en  2008 y renovada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RTA,  evaluación de bienestar animal en frigorí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-SENASA- Programa Nacional de Bienestar Animal. Manual de Capacitación para Transportistas de Hacienda (en edi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4920" y="44280"/>
            <a:ext cx="1584360" cy="3049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rticulaciones</a:t>
            </a: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Rectángulo"/>
          <p:cNvSpPr/>
          <p:nvPr/>
        </p:nvSpPr>
        <p:spPr>
          <a:xfrm>
            <a:off x="372600" y="66600"/>
            <a:ext cx="244080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portes metod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Rectángulo"/>
          <p:cNvSpPr/>
          <p:nvPr/>
        </p:nvSpPr>
        <p:spPr>
          <a:xfrm>
            <a:off x="324000" y="47628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Obtención de herramientas básicas para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investig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nificó la metodología de observación de comportamiento de algunas especies y categorías y se probaron indicadores fisiológicos, bioquímicos y hematológicos, obteniéndose una serie de herramientas básicas que ya han sido aplicadas para la obtención de información en prácticas de manejo para sistemas de produ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4 Rectángulo"/>
          <p:cNvSpPr/>
          <p:nvPr/>
        </p:nvSpPr>
        <p:spPr>
          <a:xfrm>
            <a:off x="4427640" y="781200"/>
            <a:ext cx="1512720" cy="215640"/>
          </a:xfrm>
          <a:prstGeom prst="rect">
            <a:avLst/>
          </a:prstGeom>
          <a:solidFill>
            <a:srgbClr val="ffff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Rectángulo"/>
          <p:cNvSpPr/>
          <p:nvPr/>
        </p:nvSpPr>
        <p:spPr>
          <a:xfrm>
            <a:off x="2627280" y="1019160"/>
            <a:ext cx="5040360" cy="249120"/>
          </a:xfrm>
          <a:prstGeom prst="rect">
            <a:avLst/>
          </a:prstGeom>
          <a:solidFill>
            <a:srgbClr val="ffff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6 Rectángulo"/>
          <p:cNvSpPr/>
          <p:nvPr/>
        </p:nvSpPr>
        <p:spPr>
          <a:xfrm>
            <a:off x="324000" y="2608200"/>
            <a:ext cx="84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valuación del estrés por distintos estresores, jerarquías sociales y temperamento en algunas situaciones de encierre a corral en bovi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7 Rectángulo"/>
          <p:cNvSpPr/>
          <p:nvPr/>
        </p:nvSpPr>
        <p:spPr>
          <a:xfrm>
            <a:off x="324000" y="1844640"/>
            <a:ext cx="81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valuación de bienestar en bovinos en distintas condiciones ambientales de producción y de manejo (para carne y leche), de transporte y pre-faena, en relación con productividad y calidad del producto (car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8 Rectángulo"/>
          <p:cNvSpPr/>
          <p:nvPr/>
        </p:nvSpPr>
        <p:spPr>
          <a:xfrm>
            <a:off x="324000" y="315756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n ovinos y caprinos durante el transporte y manejo en plantas de faena; en la esquila de ovi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9 Rectángulo"/>
          <p:cNvSpPr/>
          <p:nvPr/>
        </p:nvSpPr>
        <p:spPr>
          <a:xfrm>
            <a:off x="324000" y="349092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Obtención de un plantel de bovinos y uno de camélidos (llamas) para generar una base de datos de referencia para condiciones de ca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0 Rectángulo"/>
          <p:cNvSpPr/>
          <p:nvPr/>
        </p:nvSpPr>
        <p:spPr>
          <a:xfrm>
            <a:off x="324000" y="404028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Ajuste de metodologías para evaluar temperamento en bovin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1 Rectángulo"/>
          <p:cNvSpPr/>
          <p:nvPr/>
        </p:nvSpPr>
        <p:spPr>
          <a:xfrm>
            <a:off x="335520" y="4373640"/>
            <a:ext cx="69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Ajuste de método para medición de cortisol en la materia fecal (método no invasiv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2 Rectángulo"/>
          <p:cNvSpPr/>
          <p:nvPr/>
        </p:nvSpPr>
        <p:spPr>
          <a:xfrm>
            <a:off x="324000" y="470700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Adaptación de metodología para la evaluación del bienestar animal en frigoríficos, por la aplicación de  indicadores comportamentales  y de calidad de manejo, con  identificación de puntos críticos y elaboración de diagnósticos y planes de mejora específ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2 Rectángulo"/>
          <p:cNvSpPr/>
          <p:nvPr/>
        </p:nvSpPr>
        <p:spPr>
          <a:xfrm>
            <a:off x="329400" y="87480"/>
            <a:ext cx="86652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Log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Rectángulo"/>
          <p:cNvSpPr/>
          <p:nvPr/>
        </p:nvSpPr>
        <p:spPr>
          <a:xfrm>
            <a:off x="108000" y="620640"/>
            <a:ext cx="871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1- Consolidación de un grupo de trabajo multidisciplinario en la temática del bienestar animal, con orientación hacia diferentes  especies y sistemas de producción, trabajando en articulación con la estructura programática institucional en temas específicos como, por ejemplo,  la relación del bienestar animal con el  estrés  y la calidad de producto, con la capacidad de llevar a cabo actividades a campo, en instalaciones de plantas de faena  y laboratorios bioquímico, físico-químico y microbiológico e incluyendo investigadores propios y externos y becarios doctor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235800" y="2529000"/>
            <a:ext cx="909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2- Sensibilización aún parcial pero  con posibilidades de expansión en las distintas cadena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producción animal,  de los actores de la producción y de otros sectores, como el 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industria frigorífica, donde se han establecido algunos vínculos efectivos y se han recib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mandas de asesoramiento y capacitación en bienestar animal que posibilitan el relacion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 fine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 Rectángulo"/>
          <p:cNvSpPr/>
          <p:nvPr/>
        </p:nvSpPr>
        <p:spPr>
          <a:xfrm>
            <a:off x="108000" y="3933720"/>
            <a:ext cx="882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3- Elaboración de publicaciones científicas, de aplicación y de difusión (publicaciones en congresos nacionales e internacionales, manual de capacitación para transportistas -en edición-, capítulo de libro) y participación en 35 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ventos de divulgación o jornadas técnicas y de capacitación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2 Rectángulo"/>
          <p:cNvSpPr/>
          <p:nvPr/>
        </p:nvSpPr>
        <p:spPr>
          <a:xfrm>
            <a:off x="119160" y="87480"/>
            <a:ext cx="166500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ontrib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95280" y="790560"/>
            <a:ext cx="82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ha contribuido a la cobertura de vacíos de información por medio de la investigación, aunque no se han podido realizar todos los experimentos necesarios para la obtención de los productos más significa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in embargo, dada la vigencia de las oportunidades que se generan desde las cadenas productivas se espera poder incrementar la capacidad de resolución de problemas en el futuro inmediat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untualmente en algunos casos, como el de  los frigoríficos de bovinos y porcinos que se evaluaron, se efectuaron diagnósticos de situación y se implementaron planes de mejora para la corrección permanente de los problem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180720" y="1593360"/>
            <a:ext cx="781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lende, M. 2010. El bienestar animal en el transporte de bovinos para faena (Rev. Bibliográfic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v. Arg. Prod. Anim. 30:117-12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56600" y="871560"/>
            <a:ext cx="841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lende, M.; Volpi Lagreca, G.; Grigioni, G.; Pordomingo, A.J.; Pighín, D.; Carduza, F.; Babinec, F.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fecto de la utilización de perros durante el arreo y de la maduración sobre parámetros físico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rne bovina. Rev. Arg. Prod. Anim. (en prensa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70360" y="2166120"/>
            <a:ext cx="88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ghin, D. G.; Davies, P.; Pazos, A.A.; Ceconi, I.; Cunzolo, S.A.; Mendez, D.; Buffarini, M.; Grigioni, G. 201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ochemical profile and meat physicochemical characteristics of beef cattle raised under contrasting fee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ems and submitted to different pre-slaughter stress.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(En eval. en Meat Science, dde. Abr. 2012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1720" y="2959200"/>
            <a:ext cx="895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ighin, D.G.; Davies, P.; Grigioni, G.; Pazos, A.A.; Ceconi, I.; Mendez, D.; Buffarini, M.; Sancho, A.; Gonzale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.B. 2011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ffect of handling conditions and animal temperament on biochemical and meat quality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(En evaluación en Archivos de Zootecnia dde. Dic. 20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82520" y="3772800"/>
            <a:ext cx="870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Zimerman, M., G. Grigioni, H. Taddeo, E. Domingo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11. Physiological stress respon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meat quality traits of kids subjected to different pre-slaughter stressors. Small Ruminant Research, 10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7-1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 Rectángulo"/>
          <p:cNvSpPr/>
          <p:nvPr/>
        </p:nvSpPr>
        <p:spPr>
          <a:xfrm>
            <a:off x="307080" y="201600"/>
            <a:ext cx="212688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rtículos compl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9 Rectángulo"/>
          <p:cNvSpPr/>
          <p:nvPr/>
        </p:nvSpPr>
        <p:spPr>
          <a:xfrm>
            <a:off x="179280" y="449100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ossner, María V.; Aguilar, Natalia, M.; Koscinczuk, Patricia; Navamuel, Juan M.; Marini, Pablo R.; Balbuena, O. 2010. Bienestar animal aplicado a la producción bovina . </a:t>
            </a: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Rev. vet. 21: 2, 151–15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-178560" y="1152000"/>
            <a:ext cx="9151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7480" rIns="90000" tIns="38160" bIns="3816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uilar, N. A., Langman, J. E. García Astelarra, I. 2012. Bienestar animal en la Argenti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: La carne bovina argentina. Módulo II: Animal Welfare.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 Cenci Goga, B. y Barbera, S. (Ed) (en redacción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Rectángulo"/>
          <p:cNvSpPr/>
          <p:nvPr/>
        </p:nvSpPr>
        <p:spPr>
          <a:xfrm>
            <a:off x="273960" y="765000"/>
            <a:ext cx="140760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ap. de li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4 Rectángulo"/>
          <p:cNvSpPr/>
          <p:nvPr/>
        </p:nvSpPr>
        <p:spPr>
          <a:xfrm>
            <a:off x="257400" y="2852640"/>
            <a:ext cx="8787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 Rectángulo"/>
          <p:cNvSpPr/>
          <p:nvPr/>
        </p:nvSpPr>
        <p:spPr>
          <a:xfrm>
            <a:off x="179280" y="3409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Bienestar Animal durante el transporte y en áreas conexas. Langman, L.; Alende, M.; Marcoppido, G.; Davies, P. y Aguilar, N. Proyecto Nacional INTA “El Bienestar Animal en las Cadenas Productivas Pecuarias”. Ed INTA (en revisión) 36 p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Rectángulo"/>
          <p:cNvSpPr/>
          <p:nvPr/>
        </p:nvSpPr>
        <p:spPr>
          <a:xfrm>
            <a:off x="269280" y="100080"/>
            <a:ext cx="334440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Ptaciones. en Congresos y J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28 Grupo"/>
          <p:cNvGrpSpPr/>
          <p:nvPr/>
        </p:nvGrpSpPr>
        <p:grpSpPr>
          <a:xfrm>
            <a:off x="-252360" y="3051000"/>
            <a:ext cx="14436720" cy="2470680"/>
            <a:chOff x="-252360" y="3051000"/>
            <a:chExt cx="14436720" cy="2470680"/>
          </a:xfrm>
        </p:grpSpPr>
        <p:sp>
          <p:nvSpPr>
            <p:cNvPr id="176" name="Rectangle 2"/>
            <p:cNvSpPr/>
            <p:nvPr/>
          </p:nvSpPr>
          <p:spPr>
            <a:xfrm>
              <a:off x="-252360" y="3648240"/>
              <a:ext cx="95392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guilar, N. A., Rossner, M. V. 2012. Comportamiento de terneros de destete precoz en distintos sistema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cría. XIII Jornadas de Divulgación Técnico Científicas. Facultad de Ciencias Veterinarias – Universid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Nacional de Rosario. Casilda. (en prensa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-252360" y="4438440"/>
              <a:ext cx="14436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ereira, M. M., Aguilar, N. A., Verdoljak, J. J., y otro. 2012. Variaciones en la ganancia de peso en terner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estetados diferencialmente. 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Rev. Arg. Prod.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nim. 32 (1): (en prensa)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17 Rectángulo"/>
            <p:cNvSpPr/>
            <p:nvPr/>
          </p:nvSpPr>
          <p:spPr>
            <a:xfrm>
              <a:off x="251640" y="5001480"/>
              <a:ext cx="856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Pereira, M. M., Aguilar, N. A.,  Gándara, L., Navamuel, J. M., y otro. 2011. Variaciones del comportamiento en terneros destetados diferencialmente. Rev. Arg. Prod. 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Anim. 31 (1):27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205560" y="3051000"/>
              <a:ext cx="811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Rossner, M. V., Aguilar, N. A., Rossner, M. B., y Koscinczuk, P. 2011. Peso vivo, tamaño corporal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temperamento en terneros en corrales de alimentación 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. Arg. Prod. 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Anim. 31 (1):26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26 Grupo"/>
          <p:cNvGrpSpPr/>
          <p:nvPr/>
        </p:nvGrpSpPr>
        <p:grpSpPr>
          <a:xfrm>
            <a:off x="-252360" y="444960"/>
            <a:ext cx="9145800" cy="1404000"/>
            <a:chOff x="-252360" y="444960"/>
            <a:chExt cx="9145800" cy="1404000"/>
          </a:xfrm>
        </p:grpSpPr>
        <p:sp>
          <p:nvSpPr>
            <p:cNvPr id="181" name="Rectangle 10"/>
            <p:cNvSpPr/>
            <p:nvPr/>
          </p:nvSpPr>
          <p:spPr>
            <a:xfrm>
              <a:off x="-252360" y="1056600"/>
              <a:ext cx="8821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lende, M., Pighin, D., Volpi Lagreca, G., Grigioni, G., Pazos, A., Pordomingo, A.B., Babinec, F., Pordomingo, A.J. (2011)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ffect of journey and lairage time on physiological parameters of beef steer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v. Arg. Prod. Anim, 31 (1):75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-251280" y="444960"/>
              <a:ext cx="9144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Alende, M., Volpi Lagreca, G., Pordomingo, A. J., Pighín, D., Carduza, F. 2010. Efecto del estrés durante e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arreo y de la maduración sobre parámetros físicos de la carne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. Arg. Prod. Anim. 30 (1): 56-57.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27 Grupo"/>
          <p:cNvGrpSpPr/>
          <p:nvPr/>
        </p:nvGrpSpPr>
        <p:grpSpPr>
          <a:xfrm>
            <a:off x="-252360" y="1754280"/>
            <a:ext cx="12065040" cy="1248120"/>
            <a:chOff x="-252360" y="1754280"/>
            <a:chExt cx="12065040" cy="1248120"/>
          </a:xfrm>
        </p:grpSpPr>
        <p:sp>
          <p:nvSpPr>
            <p:cNvPr id="184" name="Rectangle 1"/>
            <p:cNvSpPr/>
            <p:nvPr/>
          </p:nvSpPr>
          <p:spPr>
            <a:xfrm>
              <a:off x="-252360" y="2423160"/>
              <a:ext cx="1206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Davies, P., Méndez, D. G., Pighin, D. G. 2012.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erformance de novillos en engorde a corral con sombra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v. Arg. Prod. Anim. 32 (1) (en prensa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7 Rectángulo"/>
            <p:cNvSpPr/>
            <p:nvPr/>
          </p:nvSpPr>
          <p:spPr>
            <a:xfrm>
              <a:off x="250560" y="1754280"/>
              <a:ext cx="864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Alende, M., y Volpi Lagreca, G. 2010. Evaluación de la distancia de fuga en comedero y su relación con el aumento diario de peso vivo de novillos. Congreso del Bicentenario: Bienestar Animal – Desafío para el próximo lustro. 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FCV UBA. Pg. 35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53360" cy="5151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08000" y="115920"/>
            <a:ext cx="1727280" cy="3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ntecedentes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Rectángulo"/>
          <p:cNvSpPr/>
          <p:nvPr/>
        </p:nvSpPr>
        <p:spPr>
          <a:xfrm>
            <a:off x="1042920" y="2344680"/>
            <a:ext cx="6769080" cy="2040840"/>
          </a:xfrm>
          <a:prstGeom prst="rect">
            <a:avLst/>
          </a:prstGeom>
          <a:solidFill>
            <a:srgbClr val="0070c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El proyecto tenía como objetivo satisfacer la preocupación social y las demandas del mercado, para desarrollar en las granjas sistemas confiables de monitoreo, sistemas de información del producto y estrategias prácticas específicas de cada especie para mejorar el bienestar de los animales. A lo largo de este proyecto integrado los esfuerzos se centraron en tres principales especies y sus productos: ganado vacuno (leche y carne), cerdos y aves de corral (pollos de engorde y gallinas ponedor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1216800" y="1557360"/>
            <a:ext cx="6424560" cy="580680"/>
          </a:xfrm>
          <a:prstGeom prst="rect">
            <a:avLst/>
          </a:prstGeom>
          <a:solidFill>
            <a:srgbClr val="0070c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tegración del bienestar animal en la cadena de calidad alimenta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de la preocupación del público a la mejora del bienestar y la 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11 Grupo"/>
          <p:cNvGrpSpPr/>
          <p:nvPr/>
        </p:nvGrpSpPr>
        <p:grpSpPr>
          <a:xfrm>
            <a:off x="309960" y="1557360"/>
            <a:ext cx="8778240" cy="2872440"/>
            <a:chOff x="309960" y="1557360"/>
            <a:chExt cx="8778240" cy="2872440"/>
          </a:xfrm>
        </p:grpSpPr>
        <p:sp>
          <p:nvSpPr>
            <p:cNvPr id="187" name="6 Rectángulo"/>
            <p:cNvSpPr/>
            <p:nvPr/>
          </p:nvSpPr>
          <p:spPr>
            <a:xfrm>
              <a:off x="318240" y="1557360"/>
              <a:ext cx="876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angman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, L., Carduza, F., Calvari, C. 2010. Bienestar Animal en plantas faenadoras: desde el desembar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hasta el sacrificio. Bienestar Animal – Desafío para el próximo lustro. 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</a:rPr>
                <a:t>FCVeterinarias UBA. Pg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 Rectángulo"/>
            <p:cNvSpPr/>
            <p:nvPr/>
          </p:nvSpPr>
          <p:spPr>
            <a:xfrm>
              <a:off x="350640" y="2061000"/>
              <a:ext cx="838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angman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, L., Carduza, F., Calvari, C. 2011.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Bienestar animal en frigoríficos bovinos: evaluación y plan de mejora.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v. Arg. Prod. Anim, 31 (1):10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11 Rectángulo"/>
            <p:cNvSpPr/>
            <p:nvPr/>
          </p:nvSpPr>
          <p:spPr>
            <a:xfrm>
              <a:off x="309960" y="3483360"/>
              <a:ext cx="8230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Langman, L. 2012. Bienestar Animal en plantas faenadoras porcinas: diagnóstico y plan de mejora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Congreso Internacional sobre Bienestar Animal: Avances y Estrategias para el futuro de las espec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productivas. 2º Encuentro Regional de Investigadores en Bienestar Animal. 10 y 11 de julio de 2012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Montevideo, Uruguay. (CD-R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309960" y="2532960"/>
              <a:ext cx="8305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Langman, L. 2012. Puntos críticos asociados al Bienestar Animal en plantas faenadoras bovin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de la Argentina. Congreso Internacional sobre Bienestar Animal: Avances y Estrategias para el futur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de las especies productivas. 2º Encuentro Regional de Investigadores en Bienestar Animal. 10 y 11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julio de 2012, Montevideo, Uruguay. (CD-R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"/>
          <p:cNvSpPr/>
          <p:nvPr/>
        </p:nvSpPr>
        <p:spPr>
          <a:xfrm>
            <a:off x="-39600" y="261720"/>
            <a:ext cx="9075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7480" rIns="90000" tIns="38160" bIns="3816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ghin D.G., Davies P., Pazos A.A., Ceconi, I., Cunzolo S.A., Mendez D., Buffarini M., Grigioni G. 201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ffect of diet and pre-slaughter stress on beef cattle on biochemical profile and physiochemical paramet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edings of the 57th ICoMST, Genth, Bélgica.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9 Grupo"/>
          <p:cNvGrpSpPr/>
          <p:nvPr/>
        </p:nvGrpSpPr>
        <p:grpSpPr>
          <a:xfrm>
            <a:off x="-266760" y="3432600"/>
            <a:ext cx="9347760" cy="2017800"/>
            <a:chOff x="-266760" y="3432600"/>
            <a:chExt cx="9347760" cy="2017800"/>
          </a:xfrm>
        </p:grpSpPr>
        <p:sp>
          <p:nvSpPr>
            <p:cNvPr id="193" name="Rectangle 1"/>
            <p:cNvSpPr/>
            <p:nvPr/>
          </p:nvSpPr>
          <p:spPr>
            <a:xfrm>
              <a:off x="-231120" y="3432600"/>
              <a:ext cx="91954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ossner, M.V., Aguilar, N. M., Abson, G. S., Arbues, M., Koscinczuk, P. 2012. Interacciones sociale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emperamento en bovinos en confinamiento. XVIII Reunión de Comunicaciones Científicas y Tecnológica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Universidad Nacional del Nordeste. Pg.71. http://www.unne.edu.ar/investigacion/com2012/CV-071.pdf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3 Rectángulo"/>
            <p:cNvSpPr/>
            <p:nvPr/>
          </p:nvSpPr>
          <p:spPr>
            <a:xfrm>
              <a:off x="251640" y="4202280"/>
              <a:ext cx="8353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Rossner, M. V., Aguilar, N. A.,  Koscinczuk, P. y Abson, G. 2011. Relaciones sociales y velocidad de fuga en terneros en confinamiento. XXXII Sesiones de Comunicaciones Científicas. Facultad Ciencias Veterinarias. Universidad Nacional del Nordeste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g 1-3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-266760" y="4871160"/>
              <a:ext cx="9347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guilar, N.M.A., Rossner, M.V., Luciani, C.A., Navamuel, J.M. 2011. Indicadores sanguíneos y temper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bovino en dos ambientes del nordeste Argentino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v. Arg. Prod. Anim. 31 (1):29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10 Grupo"/>
          <p:cNvGrpSpPr/>
          <p:nvPr/>
        </p:nvGrpSpPr>
        <p:grpSpPr>
          <a:xfrm>
            <a:off x="-261720" y="479880"/>
            <a:ext cx="9193680" cy="2807640"/>
            <a:chOff x="-261720" y="479880"/>
            <a:chExt cx="9193680" cy="2807640"/>
          </a:xfrm>
        </p:grpSpPr>
        <p:sp>
          <p:nvSpPr>
            <p:cNvPr id="197" name="Rectangle 2"/>
            <p:cNvSpPr/>
            <p:nvPr/>
          </p:nvSpPr>
          <p:spPr>
            <a:xfrm>
              <a:off x="-261720" y="2282040"/>
              <a:ext cx="919368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ossner, M. V., Aguilar, N. M., Koscinczuk, P., Navamuel, J. M., Marini, P. R., Balbuena, O. 2010. Medi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el temperamento por medio del equipo de flight speed. Reunión de Comunicaciones Científicas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Tecnológicas. Universidad Nacional de Nordeste. UNNE. Corrientes Capital, Argentina. Pg. 48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http://www.unne.edu.ar/investigacion/com2010/CV­Web/wCV­048_049.pd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6 Rectángulo"/>
            <p:cNvSpPr/>
            <p:nvPr/>
          </p:nvSpPr>
          <p:spPr>
            <a:xfrm>
              <a:off x="251280" y="1250640"/>
              <a:ext cx="8569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ossner, M.V., Koscinczuk, P. y Balbuena, O. 2010. Consistencia del test de velocidad de salida en la evaluación de temperamento en bovinos. Revista Argentina de Producción Animal, Vol 30 Supl. 1: 14-15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8 Rectángulo"/>
            <p:cNvSpPr/>
            <p:nvPr/>
          </p:nvSpPr>
          <p:spPr>
            <a:xfrm>
              <a:off x="251640" y="1773000"/>
              <a:ext cx="864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Rossner, M. V., Aguilar, N. A., Koscinczuk, P., Navamuel, J. M. 2010. Comparación de dos metodologías para medir temperamento en bovinos. XI Jornada de Divul. Tec. Científicas UNR, Casilda. Pg. 25-27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-241920" y="479880"/>
              <a:ext cx="91375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Babinec, F., Alende, M. y Volpi Lagreca, G. 2010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sessment of reproducibility of animal behaviou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asures. International Biometric Society Congress. 2010 Dec. 5-10 Federal University of Santa Catarina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lorianópolis, Brazil. www.rbras.org.br/~ibcfloripa2010/Agenda_27_set.pdf .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17 Grupo"/>
          <p:cNvGrpSpPr/>
          <p:nvPr/>
        </p:nvGrpSpPr>
        <p:grpSpPr>
          <a:xfrm>
            <a:off x="-324000" y="2462760"/>
            <a:ext cx="9420480" cy="1590840"/>
            <a:chOff x="-324000" y="2462760"/>
            <a:chExt cx="9420480" cy="1590840"/>
          </a:xfrm>
        </p:grpSpPr>
        <p:sp>
          <p:nvSpPr>
            <p:cNvPr id="202" name="Rectangle 6"/>
            <p:cNvSpPr/>
            <p:nvPr/>
          </p:nvSpPr>
          <p:spPr>
            <a:xfrm>
              <a:off x="-324000" y="2462760"/>
              <a:ext cx="942048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uilar, N. A., Rossner, M. V. y  Rhades, L., 2011.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plementación de buenas prácticas ganaderas para logr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mejor bienestar animal. 2ª Jornadas de Actualización Ganadera para la Pampa Húmeda. DGS-Desarroll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Ganadero Sustentable, Melincue-Santa Fe. Pg. 1-3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"/>
            <p:cNvSpPr/>
            <p:nvPr/>
          </p:nvSpPr>
          <p:spPr>
            <a:xfrm>
              <a:off x="-324000" y="3261240"/>
              <a:ext cx="9144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83920" rIns="90000" tIns="76320" bIns="763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guilar, N. A., Rossner, M. V. y Paranhos da Costa, M. J. 2010. Consideraciones de Bienestar en Anim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de Producción. XVIII Reunión Científica-Técnica de AAVLD. Pg. 27-28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16 Grupo"/>
          <p:cNvGrpSpPr/>
          <p:nvPr/>
        </p:nvGrpSpPr>
        <p:grpSpPr>
          <a:xfrm>
            <a:off x="169920" y="620640"/>
            <a:ext cx="8905680" cy="1599480"/>
            <a:chOff x="169920" y="620640"/>
            <a:chExt cx="8905680" cy="1599480"/>
          </a:xfrm>
        </p:grpSpPr>
        <p:sp>
          <p:nvSpPr>
            <p:cNvPr id="205" name="Rectangle 7"/>
            <p:cNvSpPr/>
            <p:nvPr/>
          </p:nvSpPr>
          <p:spPr>
            <a:xfrm>
              <a:off x="169920" y="1486800"/>
              <a:ext cx="8905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Ghiano, J., Taverna, M., Walter, E., Cuatrin, A., Gastaldi, L., Leva, P., Toneatti, D., Rodriguez, G., Del Bel, L.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Olocco, C., Oliva, M., Fuentes, M., Rodriguez, L., Cocciardi, M., Tomaselli, D. 2012. Alternativas para mejor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el  confort térmico de animales en corrales. Rev. Arg. Prod. Anim. 32 (1) (en prensa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12 Rectángulo"/>
            <p:cNvSpPr/>
            <p:nvPr/>
          </p:nvSpPr>
          <p:spPr>
            <a:xfrm>
              <a:off x="179280" y="620640"/>
              <a:ext cx="849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Ghiano, J., M. Taverna, E. Walter, A. Cuatrin. 2011.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roving animal comfort at a feed line. 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XXII Reunión Latinoamericana de Producción Animal. Montevideo, Uruguay. Octubre de 2011. Listado de resúmenes, sección C – Comportamiento y bienestar animal, página 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5 Rectángulo"/>
          <p:cNvSpPr/>
          <p:nvPr/>
        </p:nvSpPr>
        <p:spPr>
          <a:xfrm>
            <a:off x="250920" y="620640"/>
            <a:ext cx="828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lende, M., Volpi Lagreca, G., Bussetti, M.R., Lernoud, P. , Maizon, D.O. 2010. Uso de sombras en el engorde a corral de corderos: ¿es suficiente para aliviar el estrés térmico estival? 33º Congreso Arg. de Prod. Animal. Rev. Arg. Prod. Anim. 30(1):172-17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7 Grupo"/>
          <p:cNvGrpSpPr/>
          <p:nvPr/>
        </p:nvGrpSpPr>
        <p:grpSpPr>
          <a:xfrm>
            <a:off x="246240" y="1542960"/>
            <a:ext cx="8826480" cy="2962800"/>
            <a:chOff x="246240" y="1542960"/>
            <a:chExt cx="8826480" cy="2962800"/>
          </a:xfrm>
        </p:grpSpPr>
        <p:sp>
          <p:nvSpPr>
            <p:cNvPr id="209" name="Rectangle 1"/>
            <p:cNvSpPr/>
            <p:nvPr/>
          </p:nvSpPr>
          <p:spPr>
            <a:xfrm>
              <a:off x="246240" y="1542960"/>
              <a:ext cx="8641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Zimerman, M. y Cancino, A. K. 2012. Valoración del bienestar animal a través de indicadores fisi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en ovejas Merino sometidas a esquila mecánica. Congreso Internacional sobre Bienestar Animal: avanc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y estrategias para el futuro de las especies productivas y 2º Encuentro Regional de Investigadores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Bienestar Animal. Centro Colaborador de OIE en Bienestar Animal Chile-Uruguay, FV U de la R, Grup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Técnico de Bienestar Animal. Resúmenes [CD-Rom] Pg. 69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"/>
            <p:cNvSpPr/>
            <p:nvPr/>
          </p:nvSpPr>
          <p:spPr>
            <a:xfrm>
              <a:off x="253440" y="2749320"/>
              <a:ext cx="8735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Zimerman, M.; Grigioni, G.; Domingo, E.; Taddeo, H. 2012. Estrés pre-faena en corderos. Resultados de 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ensayo experimental y del relevamiento en plantas industriales de faena. Congreso Internacional sob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Bienestar Animal: avances y estrategias para el futuro de las especies productivas y 2º Encuentro Regio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de Investigadores en Bienestar Animal. Centro Colaborador de OIE en Bienestar Animal Chile-Uruguay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FV U de la R, Grupo Técnico de Bienestar Animal. Resúmenes [CD-Rom] Pg. 68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 Rectángulo"/>
            <p:cNvSpPr/>
            <p:nvPr/>
          </p:nvSpPr>
          <p:spPr>
            <a:xfrm>
              <a:off x="251640" y="3985560"/>
              <a:ext cx="88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Cancino, A.K, Zimerman, M., Domingo, E., Maurino, J. 2012. Caracterización del bienestar animal en la esquila ovina. Comunicación.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v. Arg. Prod. Anim. 32 (1) (en prensa). </a:t>
              </a: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79280" y="115920"/>
            <a:ext cx="1656000" cy="3618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eman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9 Grupo"/>
          <p:cNvGrpSpPr/>
          <p:nvPr/>
        </p:nvGrpSpPr>
        <p:grpSpPr>
          <a:xfrm>
            <a:off x="63360" y="2852640"/>
            <a:ext cx="8829720" cy="1258560"/>
            <a:chOff x="63360" y="2852640"/>
            <a:chExt cx="8829720" cy="1258560"/>
          </a:xfrm>
        </p:grpSpPr>
        <p:pic>
          <p:nvPicPr>
            <p:cNvPr id="214" name="Rectangle 4" descr=""/>
            <p:cNvPicPr/>
            <p:nvPr/>
          </p:nvPicPr>
          <p:blipFill>
            <a:blip r:embed="rId1"/>
            <a:stretch/>
          </p:blipFill>
          <p:spPr>
            <a:xfrm>
              <a:off x="63360" y="2852640"/>
              <a:ext cx="8118360" cy="31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5 Rectángulo"/>
            <p:cNvSpPr/>
            <p:nvPr/>
          </p:nvSpPr>
          <p:spPr>
            <a:xfrm>
              <a:off x="331560" y="3164760"/>
              <a:ext cx="8561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-Protocolos de manejo para cada uno de los eslabones de las cadenas productivas analizadas, basados en el bienestar animal, que incorporen información generada localmente sobre manejo, instalaciones y ambientes adecuados, disponibles como herramientas  de evaluación y para la aplicación de acciones correctiv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7 Grupo"/>
          <p:cNvGrpSpPr/>
          <p:nvPr/>
        </p:nvGrpSpPr>
        <p:grpSpPr>
          <a:xfrm>
            <a:off x="63360" y="907920"/>
            <a:ext cx="8756640" cy="1676520"/>
            <a:chOff x="63360" y="907920"/>
            <a:chExt cx="8756640" cy="1676520"/>
          </a:xfrm>
        </p:grpSpPr>
        <p:pic>
          <p:nvPicPr>
            <p:cNvPr id="217" name="Rectangle 3" descr=""/>
            <p:cNvPicPr/>
            <p:nvPr/>
          </p:nvPicPr>
          <p:blipFill>
            <a:blip r:embed="rId2"/>
            <a:stretch/>
          </p:blipFill>
          <p:spPr>
            <a:xfrm>
              <a:off x="312840" y="1667160"/>
              <a:ext cx="850716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Rectangle 4" descr=""/>
            <p:cNvPicPr/>
            <p:nvPr/>
          </p:nvPicPr>
          <p:blipFill>
            <a:blip r:embed="rId3"/>
            <a:stretch/>
          </p:blipFill>
          <p:spPr>
            <a:xfrm>
              <a:off x="63360" y="2050200"/>
              <a:ext cx="8111880" cy="5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6 Rectángulo"/>
            <p:cNvSpPr/>
            <p:nvPr/>
          </p:nvSpPr>
          <p:spPr>
            <a:xfrm>
              <a:off x="331560" y="907920"/>
              <a:ext cx="8194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ffffff"/>
                  </a:solidFill>
                  <a:latin typeface="Arial"/>
                </a:rPr>
                <a:t>-Diseño de estrategias nutricionales para maximizar el contenido de glucógeno en músculo durante la perifaena y posfaena en bovinos, ovinos, cerdos y aves.  Efectos sobre la dinámica del pH, la terneza y la maduración carn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Rectangle 4" descr=""/>
          <p:cNvPicPr/>
          <p:nvPr/>
        </p:nvPicPr>
        <p:blipFill>
          <a:blip r:embed="rId4"/>
          <a:stretch/>
        </p:blipFill>
        <p:spPr>
          <a:xfrm>
            <a:off x="55440" y="4340160"/>
            <a:ext cx="81248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CuadroTexto"/>
          <p:cNvSpPr/>
          <p:nvPr/>
        </p:nvSpPr>
        <p:spPr>
          <a:xfrm>
            <a:off x="2771640" y="1916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Calibri"/>
                <a:ea typeface="Calibri"/>
              </a:rPr>
              <a:t>Muchas 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Rectángulo"/>
          <p:cNvSpPr/>
          <p:nvPr/>
        </p:nvSpPr>
        <p:spPr>
          <a:xfrm>
            <a:off x="755640" y="3068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000"/>
                </a:solidFill>
                <a:latin typeface="Arial"/>
              </a:rPr>
              <a:t>M.Sc. (M. V.) Patricio Davies (EEA INTA Gral. Villegas, Bs.A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Arial"/>
              </a:rPr>
              <a:t>pdavies@correo.inta.gov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65960" cy="5002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08000" y="115920"/>
            <a:ext cx="1727280" cy="3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ntecedentes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 Rectángulo"/>
          <p:cNvSpPr/>
          <p:nvPr/>
        </p:nvSpPr>
        <p:spPr>
          <a:xfrm>
            <a:off x="1192320" y="5373720"/>
            <a:ext cx="6696000" cy="580680"/>
          </a:xfrm>
          <a:prstGeom prst="rect">
            <a:avLst/>
          </a:prstGeom>
          <a:solidFill>
            <a:srgbClr val="0070c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Specific International Scientific Cooperation Activities (INCO). CORDIS – E.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627280" y="31680"/>
            <a:ext cx="4019760" cy="572292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6732720" y="5106960"/>
            <a:ext cx="241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Rebagliatti y otros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CV - UNIC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56000" y="50760"/>
            <a:ext cx="4020840" cy="5681880"/>
          </a:xfrm>
          <a:prstGeom prst="rect">
            <a:avLst/>
          </a:prstGeom>
          <a:ln w="0">
            <a:noFill/>
          </a:ln>
        </p:spPr>
      </p:pic>
      <p:sp>
        <p:nvSpPr>
          <p:cNvPr id="65" name="3 CuadroTexto"/>
          <p:cNvSpPr/>
          <p:nvPr/>
        </p:nvSpPr>
        <p:spPr>
          <a:xfrm>
            <a:off x="6624720" y="5322960"/>
            <a:ext cx="24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Giménez Zapiol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2965" t="0" r="2965" b="0"/>
          <a:stretch/>
        </p:blipFill>
        <p:spPr>
          <a:xfrm>
            <a:off x="250920" y="1628640"/>
            <a:ext cx="2376360" cy="3407040"/>
          </a:xfrm>
          <a:prstGeom prst="rect">
            <a:avLst/>
          </a:prstGeom>
          <a:ln w="0">
            <a:noFill/>
          </a:ln>
        </p:spPr>
      </p:pic>
      <p:sp>
        <p:nvSpPr>
          <p:cNvPr id="67" name="12 CuadroTexto"/>
          <p:cNvSpPr/>
          <p:nvPr/>
        </p:nvSpPr>
        <p:spPr>
          <a:xfrm>
            <a:off x="2771640" y="1844640"/>
            <a:ext cx="5977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XI. PUNTOS CRITICOS QUE AFECTAN LA COMPETITIVIDAD DE LA CADENA DE LA CARNE BOV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SPECTOS GENERALES DE LA CADE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El mercado mundial de carne es muy dinámico, se presenta con una demanda creciente con nuevas oportunidades para las proteínas rojas en países emergentes y en estos últimos años la reapertura de Rusia como un mercado relev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El acceso a nuevos mercados y la oportunidad que ofrecen en términos de agregar valor requerirá el desarrollo de programas especiales de manejo, sanidad y alimentación que, con protocolos específicos, permitan ofrecer carnes certificadas con atributos diferenciales. Se puede observar la falta de una visión integral sobre temas como bienestar animal y huella de carbono dentro de la cadena, 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glesias, D.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3 Rectángulo"/>
          <p:cNvSpPr/>
          <p:nvPr/>
        </p:nvSpPr>
        <p:spPr>
          <a:xfrm>
            <a:off x="4716360" y="3933720"/>
            <a:ext cx="3743280" cy="142920"/>
          </a:xfrm>
          <a:prstGeom prst="rect">
            <a:avLst/>
          </a:prstGeom>
          <a:solidFill>
            <a:srgbClr val="ffff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4 Rectángulo"/>
          <p:cNvSpPr/>
          <p:nvPr/>
        </p:nvSpPr>
        <p:spPr>
          <a:xfrm>
            <a:off x="2847960" y="4098960"/>
            <a:ext cx="2084400" cy="168120"/>
          </a:xfrm>
          <a:prstGeom prst="rect">
            <a:avLst/>
          </a:prstGeom>
          <a:solidFill>
            <a:srgbClr val="ffff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8000" y="115920"/>
            <a:ext cx="1727280" cy="31896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ntecedentes</a:t>
            </a:r>
            <a:r>
              <a:rPr b="1" lang="es-MX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 CuadroTexto"/>
          <p:cNvSpPr/>
          <p:nvPr/>
        </p:nvSpPr>
        <p:spPr>
          <a:xfrm>
            <a:off x="1763640" y="2997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a.gob.ar/documentos/documento-base-del-programa-nacional-carn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93920" y="12600"/>
            <a:ext cx="4457880" cy="5720040"/>
          </a:xfrm>
          <a:prstGeom prst="rect">
            <a:avLst/>
          </a:prstGeom>
          <a:ln w="0">
            <a:noFill/>
          </a:ln>
        </p:spPr>
      </p:pic>
      <p:sp>
        <p:nvSpPr>
          <p:cNvPr id="74" name="2 Rectángulo"/>
          <p:cNvSpPr/>
          <p:nvPr/>
        </p:nvSpPr>
        <p:spPr>
          <a:xfrm>
            <a:off x="60480" y="108000"/>
            <a:ext cx="2160360" cy="3373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rco progra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13:16Z</dcterms:created>
  <dc:creator>I.N.T.A.</dc:creator>
  <dc:description/>
  <dc:language>en-US</dc:language>
  <cp:lastModifiedBy>Patricio</cp:lastModifiedBy>
  <dcterms:modified xsi:type="dcterms:W3CDTF">2012-08-15T00:45:28Z</dcterms:modified>
  <cp:revision>483</cp:revision>
  <dc:subject/>
  <dc:title>Diapositiva 1</dc:title>
</cp:coreProperties>
</file>